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01280" y="1628280"/>
            <a:ext cx="7829640" cy="43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Stone Sans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Stone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Stone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Stone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Stone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01280" y="233280"/>
            <a:ext cx="782964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图片4" descr=""/>
          <p:cNvPicPr/>
          <p:nvPr/>
        </p:nvPicPr>
        <p:blipFill>
          <a:blip r:embed="rId3"/>
          <a:stretch/>
        </p:blipFill>
        <p:spPr>
          <a:xfrm>
            <a:off x="17640" y="0"/>
            <a:ext cx="9108720" cy="683244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Stone Sans"/>
              <a:buChar char="‐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Stone 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Stone 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Stone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Stone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01280" y="233280"/>
            <a:ext cx="782964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工作计划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01280" y="1628280"/>
            <a:ext cx="7829640" cy="43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6"/>
          <p:cNvSpPr/>
          <p:nvPr/>
        </p:nvSpPr>
        <p:spPr>
          <a:xfrm>
            <a:off x="2050920" y="5113440"/>
            <a:ext cx="4167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黑体"/>
              </a:rPr>
              <a:t>谢　　谢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0T00:34:34Z</dcterms:created>
  <dc:creator/>
  <dc:description/>
  <dc:language>en-US</dc:language>
  <cp:lastModifiedBy>微软用户</cp:lastModifiedBy>
  <dcterms:modified xsi:type="dcterms:W3CDTF">2014-09-20T00:39:14Z</dcterms:modified>
  <cp:revision>3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2</vt:lpwstr>
  </property>
</Properties>
</file>