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9EA-3F6B-4877-8462-7A863BFF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928-5708-448F-BBA6-1642766E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D05-66D6-4D45-9195-23427891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FD0-0459-4EE1-A002-9B88D6FB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D36-3566-4110-973B-C5AEFF2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78E-1B49-4DB8-93C2-C9544B9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BD4-93EF-4D39-9E89-3011413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F87-ABA8-4AB7-B248-EEDFCFEC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9B1-84DF-45B2-A2D5-28B27FB2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8AE-0D82-45D4-92CA-91C8DA3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221-2755-40BA-BAF4-886A212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AFF-B51D-4D95-8124-49CC574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F0F-4A7B-422B-BF6A-B33C8F60D8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250920" y="189000"/>
            <a:ext cx="2170080" cy="73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7064280" y="6175440"/>
            <a:ext cx="1684440" cy="36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7380360" y="6165720"/>
            <a:ext cx="1623960" cy="51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262080" y="6308640"/>
            <a:ext cx="1441440" cy="317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7020000" y="6093000"/>
            <a:ext cx="1852560" cy="585720"/>
          </a:xfrm>
          <a:prstGeom prst="rect">
            <a:avLst/>
          </a:prstGeom>
          <a:ln w="0">
            <a:noFill/>
          </a:ln>
        </p:spPr>
      </p:pic>
      <p:sp>
        <p:nvSpPr>
          <p:cNvPr id="125" name="副标题 2"/>
          <p:cNvSpPr/>
          <p:nvPr/>
        </p:nvSpPr>
        <p:spPr>
          <a:xfrm>
            <a:off x="2747880" y="2924280"/>
            <a:ext cx="36957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谢 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guoliang_liu\桌面\xiao.jpg"/>
          <p:cNvPicPr/>
          <p:nvPr/>
        </p:nvPicPr>
        <p:blipFill>
          <a:blip r:embed="rId4"/>
          <a:stretch/>
        </p:blipFill>
        <p:spPr>
          <a:xfrm>
            <a:off x="334800" y="6165720"/>
            <a:ext cx="1860840" cy="408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20914" t="22402" r="22334" b="18517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250920" y="189000"/>
            <a:ext cx="217008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副标题 2"/>
          <p:cNvSpPr/>
          <p:nvPr/>
        </p:nvSpPr>
        <p:spPr>
          <a:xfrm>
            <a:off x="6443640" y="6165720"/>
            <a:ext cx="2305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改变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1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guoliang_liu\桌面\123.png"/>
          <p:cNvPicPr/>
          <p:nvPr/>
        </p:nvPicPr>
        <p:blipFill>
          <a:blip r:embed="rId3"/>
          <a:stretch/>
        </p:blipFill>
        <p:spPr>
          <a:xfrm>
            <a:off x="169920" y="96840"/>
            <a:ext cx="2170080" cy="739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4"/>
          <a:stretch/>
        </p:blipFill>
        <p:spPr>
          <a:xfrm>
            <a:off x="0" y="6753240"/>
            <a:ext cx="9144000" cy="104760"/>
          </a:xfrm>
          <a:prstGeom prst="rect">
            <a:avLst/>
          </a:prstGeom>
          <a:ln w="0">
            <a:noFill/>
          </a:ln>
        </p:spPr>
      </p:pic>
      <p:sp>
        <p:nvSpPr>
          <p:cNvPr id="209" name="副标题 2"/>
          <p:cNvSpPr/>
          <p:nvPr/>
        </p:nvSpPr>
        <p:spPr>
          <a:xfrm>
            <a:off x="6588000" y="6334200"/>
            <a:ext cx="2305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5eac"/>
                </a:solidFill>
                <a:latin typeface="微软雅黑"/>
                <a:ea typeface="微软雅黑"/>
              </a:rPr>
              <a:t>移动</a:t>
            </a: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改变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0" y="2066760"/>
            <a:ext cx="9144000" cy="2724480"/>
          </a:xfrm>
          <a:prstGeom prst="rect">
            <a:avLst/>
          </a:prstGeom>
          <a:ln w="0">
            <a:noFill/>
          </a:ln>
        </p:spPr>
      </p:pic>
      <p:sp>
        <p:nvSpPr>
          <p:cNvPr id="249" name="副标题 2"/>
          <p:cNvSpPr/>
          <p:nvPr/>
        </p:nvSpPr>
        <p:spPr>
          <a:xfrm>
            <a:off x="6588000" y="6334200"/>
            <a:ext cx="2305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c5eac"/>
                </a:solidFill>
                <a:latin typeface="微软雅黑"/>
                <a:ea typeface="微软雅黑"/>
              </a:rPr>
              <a:t>移动</a:t>
            </a:r>
            <a:r>
              <a:rPr b="1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改变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副标题 2"/>
          <p:cNvSpPr/>
          <p:nvPr/>
        </p:nvSpPr>
        <p:spPr>
          <a:xfrm>
            <a:off x="2747880" y="3033720"/>
            <a:ext cx="36957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Documents and Settings\guoliang_liu\桌面\234.png"/>
          <p:cNvPicPr/>
          <p:nvPr/>
        </p:nvPicPr>
        <p:blipFill>
          <a:blip r:embed="rId3"/>
          <a:stretch/>
        </p:blipFill>
        <p:spPr>
          <a:xfrm>
            <a:off x="187200" y="127080"/>
            <a:ext cx="2152800" cy="67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单击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98360"/>
            <a:ext cx="799308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本页标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0:54Z</dcterms:created>
  <dc:creator>js1211</dc:creator>
  <dc:description/>
  <cp:keywords/>
  <dc:language>en-US</dc:language>
  <cp:lastModifiedBy>Sky123.Org</cp:lastModifiedBy>
  <cp:lastPrinted>1899-12-30T00:00:00Z</cp:lastPrinted>
  <dcterms:modified xsi:type="dcterms:W3CDTF">2015-09-30T01:35:53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