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0BD-1785-45BB-AD57-574F8C93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761-5862-4E38-8A22-B6CE92D1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87B31-3EE1-4480-A4F0-B226AF85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583E3-BC23-4B57-988F-22A24C7F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50DCE-FC31-426A-A2FA-242D795A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1A9BB-DA40-443A-9882-0DCF4E9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AF192-7F21-4933-AB6F-DA565DDC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B698B-93BF-4E65-9817-CA0D8021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8738A-BFA9-44B9-A46D-ADDBDE80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3E7D2-DD60-4584-AC6F-A50FEB72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A3C2C-604A-4C2D-8DF7-B26B75A4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47C90-F704-4E05-97BD-40111948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80D-3537-4E80-B0EB-0D7B24B9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978E3-D813-460A-B46C-7F0C1225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6A23A-2C12-4B81-9703-C3BBC068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2F08C-59FD-4F21-8427-51C67D5A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13548-40F8-40BD-A4E2-7454745A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1D561-2350-417D-82A9-B838E241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E9FFA-8908-426D-AA2A-972784F5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48613-66FE-4F74-B83B-477B21D4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EB7AC-699F-4432-8931-7EC4C4BB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5F063-C9BC-404D-B691-EE18B1D3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A7E02-6993-4F1D-B4A3-E58FD9C8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FFA-901F-49E1-B6E1-9878F0B9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3646C-A811-4AEF-8A04-B64FEB33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57035-E700-4F81-99F3-CE0540D8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1F775-42AE-441E-99E4-A061AC19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CDBAD-2AEB-4699-B40A-DB3AC73F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06173-B741-4DCD-91BB-AA8F389F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63081-09E9-4EB2-94C2-A7228175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092A7-D307-4130-ABCD-362A6BEC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8BAAD-5599-4106-BD5C-B6CF2FDE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BDC98-3086-4231-B639-71F14179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C45F7-DBCC-4A47-8C0A-918A2315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8CED-72EB-41C9-A905-55A270A3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AA908-7283-4E18-BBD7-409254CA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E6C54-B9B5-4B7A-B228-BB626BBE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57D1E-9D35-421C-B41A-62B53F28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E91F3-4698-4A15-821E-41020E49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A0F79-8DFE-4593-B551-DB85B756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F9F74-1064-45E1-83CA-CC2E7A90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7C1D7-2431-4766-A905-36ED5D78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EFEA3-CC63-497E-B645-A085B7B0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B6152-03F4-46AF-9516-FB5E7714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177F7-986A-4D1C-BFD6-39FBFBAE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2F2E-0006-4012-9DA9-0D443B83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C4056-F4CF-4226-826C-9AA46528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821B0-1A1E-45E5-8E39-47A3CC48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3E524-9232-4077-AE78-EB9E0F60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98864-610F-4769-BC98-ED2DDF37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8AA5F-87CA-4107-A9BA-4C4DA79B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1C15-6328-44CC-B006-87737FEB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F5DF-316E-4D2E-9E4F-16E0C656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030C-8C69-4587-BF54-E004C93B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B659-054A-4B15-89B2-E58D41D5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6487-DC66-4C7A-BCCA-B51BC106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AD5-5E53-4D8B-B6D7-E0593980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959D-843B-4BC5-B0EC-61B9F3DE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C588-023A-4CBF-A715-4AD479BD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208F-16C4-48A9-894E-BE07D579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CF53-D1CA-493B-BA0C-4A581A73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5978-7887-49CB-B2A9-03E5DE55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A2A47-76E3-49EF-B46D-C4355F0C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2DA98-1F42-480B-87E8-E93EF19B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DA111-F69C-4AC5-A789-20AC42C6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4615-FB27-4D31-8CDE-D111B3B3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61DC-5CDC-4D2D-9174-8656D710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357-723F-460A-99EB-574DAF94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37BE-7CB8-44DD-AD0E-70BA62C3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6D1BF-001D-4D85-BF8F-AE51BF24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2962A-8D6F-4A28-A161-CCEFA410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DED85-C59C-47D5-BD4B-2B098709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7B71-9663-46FC-9C5E-7ACCD978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3B41-3228-4654-8B11-9C8CC636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B5C60-EA3F-4E5F-922C-B3401A1F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ECA0-A181-4D1A-BEF4-927FF333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DD5BE-23DD-4DD3-A902-53ECFB2B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9A67F-D0ED-4E27-BF1C-F44498A2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69E-15FB-4143-B6D3-AC748C26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6FFA6-729C-4EDB-AC3D-DD1AA9F6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4AA14-8E56-4F41-9EBF-7D4123E9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1F8B5-B86F-457A-AB3F-27109AF9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5422D-8875-40F9-810F-E87D62A5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E132-F9A4-40B8-90C5-77C5352D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D7986-28FB-445B-A864-32DB34D2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6D29B-DB58-439A-8DD0-AE7F3FA1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E77E-CD98-4EC0-A33B-7198AD5E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E2E8C-D705-4FF3-8D54-449B1C72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157CB-1753-488D-92F2-854666C6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2A4-43A1-4E10-920F-20F23CAC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7D391-04D1-4646-BC16-4DFE99C5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B27BD-5698-47D4-B6E2-EB9BB24F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BE9ED-1CD0-4632-8FF5-0680058F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7BF3E-D75E-40E3-9CCE-B395AC1D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AA92E-3904-4375-8C12-1674DEAE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11BED-5BEE-42EB-9CAB-DB5D5942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F1DDA-D573-4306-8992-8CFDAC48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C3777-3ECE-4057-B643-7BD6D3F9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196EC-DA87-43D1-9C25-D2119F07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455AD-FA4C-4C13-BB0C-718E103F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918-C793-413B-88BC-4B8BB7BC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CAC5-0641-4E4C-B726-FC7F3AB6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DBE95-0716-4D40-8D01-C4B36AFA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27746-BAEB-432D-AEB2-E5E80C2E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34515-F29A-421C-9EFF-763997F1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7D2E7-288B-45C1-89E5-D94271F2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31816-AF85-4EB3-9730-6B411CF1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EDAC3-782D-472E-A2AD-5E0F1D47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61B2F-E726-40A8-A084-7C20B117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A28F-DF17-418F-BE88-0F1704C9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AAFAC-707F-40F6-9EFC-BD37FD8B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DBB-5841-4418-9E9D-7DF45EB5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FFA88-64D3-4D08-88BD-FE5B5196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6E91C-5CEE-4552-85AC-3F9DBDD3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AD56D-5D89-4637-8CB7-6096969F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BBC76-923D-4F96-9441-767F01D5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D794D-199A-4D67-B40D-C229EDC5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BAAEA-E2CE-403B-A049-C5E5F607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0332-198E-4AC5-9CEA-740E260B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0A852-C4A9-4A71-8779-A0B89BA9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52F41-F5D6-483E-BAE0-30486245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184A0-1025-4B3F-9E28-EB9914D9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D59-CB1D-46EF-9917-789AB997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143B9-836A-4D62-B9DF-ABF2AB18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27F07-7F49-49BA-9939-F841D639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971B9-B897-4826-9B0A-48558D69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788CF-6815-4C16-A91C-7B60E493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337F3-4AAB-498C-8F6F-34B52EDD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9D7E2-93E0-470A-96E2-7DE4D9DA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A6124-98FD-45E9-BF4C-0AB06375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1085B-2285-406A-B4FF-F5C70B5A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F1820-C585-458A-AD04-25263EAE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EA4D6-06FF-4CF4-8501-D5FF239A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3B9-D2D4-45B9-94C5-09BA624D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572DE-2697-45F3-9884-4233F2A3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4BDEA-8118-459E-A432-1AC73912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55130-4BD8-4131-9C6F-DA6046A8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96B03-ABF5-4E72-9CEA-2976BC49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37CCD-00FA-4631-AA93-45BD9FEB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C54E2-C57B-4894-B600-8743D572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A68D6-C9DC-4871-84D3-3BE44D1A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E7B78-8141-476B-96CF-D1685749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76D85-EDFC-404A-8BCE-B6A9E33E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375AE-079B-4F36-959A-5526F102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2405-FC0F-4C5F-A91D-3B4A0E7E915D}" type="datetime">
              <a:rPr b="0" lang="en-US" sz="1000" spc="-1" strike="noStrike">
                <a:solidFill>
                  <a:srgbClr val="bf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4CC2-51BA-4072-942C-ED0EBCCAEE94}" type="slidenum">
              <a:rPr b="0" lang="zh-CN" sz="1100" spc="-1" strike="noStrike">
                <a:solidFill>
                  <a:srgbClr val="bf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3A9D-F1F8-4B59-80B7-A1194797ABC0}" type="datetime">
              <a:rPr b="0" lang="en-US" sz="1000" spc="-1" strike="noStrike">
                <a:solidFill>
                  <a:srgbClr val="bf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1CE2-AF37-44F4-AD24-9340ED3B6D30}" type="slidenum">
              <a:rPr b="0" lang="zh-CN" sz="1100" spc="-1" strike="noStrike">
                <a:solidFill>
                  <a:srgbClr val="bf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027F-BED0-40C0-9C17-1641BCCDCC44}" type="datetime">
              <a:rPr b="0" lang="en-US" sz="1000" spc="-1" strike="noStrike">
                <a:solidFill>
                  <a:srgbClr val="bf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DB04-433A-444F-A80D-8C186B8379DE}" type="slidenum">
              <a:rPr b="0" lang="zh-CN" sz="1100" spc="-1" strike="noStrike">
                <a:solidFill>
                  <a:srgbClr val="bf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E71E-B50A-4223-AEA6-1A02A8D72576}" type="datetime">
              <a:rPr b="0" lang="en-US" sz="1000" spc="-1" strike="noStrike">
                <a:solidFill>
                  <a:srgbClr val="bf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728D-B468-4D71-91C2-72990D06F177}" type="slidenum">
              <a:rPr b="0" lang="zh-CN" sz="1100" spc="-1" strike="noStrike">
                <a:solidFill>
                  <a:srgbClr val="bf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5931-6D60-42E1-B442-D54CF68DF3CF}" type="datetime">
              <a:rPr b="0" lang="en-US" sz="1000" spc="-1" strike="noStrike">
                <a:solidFill>
                  <a:srgbClr val="bf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5CF4-18F0-4520-AB9E-C8FC25E02569}" type="slidenum">
              <a:rPr b="0" lang="zh-CN" sz="1100" spc="-1" strike="noStrike">
                <a:solidFill>
                  <a:srgbClr val="bf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BB4E-7640-43E9-A22B-8DF872187724}" type="datetime">
              <a:rPr b="0" lang="en-US" sz="1000" spc="-1" strike="noStrike">
                <a:solidFill>
                  <a:srgbClr val="bf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A79C-B910-47AC-B64E-E6F68FF5DDED}" type="slidenum">
              <a:rPr b="0" lang="zh-CN" sz="1100" spc="-1" strike="noStrike">
                <a:solidFill>
                  <a:srgbClr val="bf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B241-7298-4274-BC0A-23144C6A3A0F}" type="datetime">
              <a:rPr b="0" lang="en-US" sz="1000" spc="-1" strike="noStrike">
                <a:solidFill>
                  <a:srgbClr val="bf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2718-D8BA-42E9-94E0-FAF68EF05CCD}" type="slidenum">
              <a:rPr b="0" lang="zh-CN" sz="1100" spc="-1" strike="noStrike">
                <a:solidFill>
                  <a:srgbClr val="bf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5D34-8607-4CBB-95A6-3C4158C17301}" type="datetime">
              <a:rPr b="0" lang="en-US" sz="1000" spc="-1" strike="noStrike">
                <a:solidFill>
                  <a:srgbClr val="bf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E1DB-060F-416C-8D13-C84D9397B3F4}" type="slidenum">
              <a:rPr b="0" lang="zh-CN" sz="1100" spc="-1" strike="noStrike">
                <a:solidFill>
                  <a:srgbClr val="bf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D9CC-288D-475B-B07E-B546CAE216FB}" type="datetime">
              <a:rPr b="0" lang="en-US" sz="1000" spc="-1" strike="noStrike">
                <a:solidFill>
                  <a:srgbClr val="bf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6058-3691-4009-94C5-20EF26C81230}" type="slidenum">
              <a:rPr b="0" lang="zh-CN" sz="1100" spc="-1" strike="noStrike">
                <a:solidFill>
                  <a:srgbClr val="bf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EA33-4E37-4F37-A7B0-C64934CBB203}" type="datetime">
              <a:rPr b="0" lang="en-US" sz="1000" spc="-1" strike="noStrike">
                <a:solidFill>
                  <a:srgbClr val="bf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D3A1-05E2-4363-B2FB-6CA55E9D8C68}" type="slidenum">
              <a:rPr b="0" lang="zh-CN" sz="1100" spc="-1" strike="noStrike">
                <a:solidFill>
                  <a:srgbClr val="bf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5DFD-34C8-4FE6-89D5-C9FB0A49886A}" type="datetime">
              <a:rPr b="0" lang="en-US" sz="1000" spc="-1" strike="noStrike">
                <a:solidFill>
                  <a:srgbClr val="bf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13B9-52E7-4A89-9821-61CD3EC595D2}" type="slidenum">
              <a:rPr b="0" lang="zh-CN" sz="1100" spc="-1" strike="noStrike">
                <a:solidFill>
                  <a:srgbClr val="bf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3714-E81C-4019-A145-E2AEE33454A1}" type="datetime">
              <a:rPr b="0" lang="en-US" sz="1000" spc="-1" strike="noStrike">
                <a:solidFill>
                  <a:srgbClr val="bf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F4ED-85EF-49E6-9545-A2BF2AB35466}" type="slidenum">
              <a:rPr b="0" lang="zh-CN" sz="1100" spc="-1" strike="noStrike">
                <a:solidFill>
                  <a:srgbClr val="bf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rcRect l="0" t="0" r="0" b="15978"/>
          <a:stretch/>
        </p:blipFill>
        <p:spPr>
          <a:xfrm>
            <a:off x="9360" y="-17640"/>
            <a:ext cx="9144000" cy="68742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80640" y="637920"/>
            <a:ext cx="7543800" cy="1568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****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年工作规划模版</a:t>
            </a:r>
            <a:endParaRPr b="1" lang="en-US" sz="4400" spc="-1" strike="noStrike">
              <a:solidFill>
                <a:srgbClr val="bf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6"/>
          <p:cNvSpPr/>
          <p:nvPr/>
        </p:nvSpPr>
        <p:spPr>
          <a:xfrm>
            <a:off x="0" y="0"/>
            <a:ext cx="914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53818" b="0"/>
          <a:stretch/>
        </p:blipFill>
        <p:spPr>
          <a:xfrm>
            <a:off x="8317080" y="117360"/>
            <a:ext cx="826920" cy="1800360"/>
          </a:xfrm>
          <a:prstGeom prst="rect">
            <a:avLst/>
          </a:prstGeom>
          <a:ln w="0">
            <a:noFill/>
          </a:ln>
        </p:spPr>
      </p:pic>
      <p:sp>
        <p:nvSpPr>
          <p:cNvPr id="508" name="矩形 10"/>
          <p:cNvSpPr/>
          <p:nvPr/>
        </p:nvSpPr>
        <p:spPr>
          <a:xfrm>
            <a:off x="0" y="1123920"/>
            <a:ext cx="846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bf0000"/>
                </a:solidFill>
                <a:latin typeface="Verdana"/>
              </a:rPr>
              <a:t>目 录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3041640" y="2492280"/>
            <a:ext cx="431640" cy="43524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511" name="TextBox 5"/>
          <p:cNvSpPr/>
          <p:nvPr/>
        </p:nvSpPr>
        <p:spPr>
          <a:xfrm>
            <a:off x="3654360" y="25257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3"/>
          <a:stretch/>
        </p:blipFill>
        <p:spPr>
          <a:xfrm>
            <a:off x="3041640" y="3322800"/>
            <a:ext cx="431640" cy="43308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513" name="TextBox 7"/>
          <p:cNvSpPr/>
          <p:nvPr/>
        </p:nvSpPr>
        <p:spPr>
          <a:xfrm>
            <a:off x="3654360" y="3354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4"/>
          <a:stretch/>
        </p:blipFill>
        <p:spPr>
          <a:xfrm>
            <a:off x="3041640" y="4151160"/>
            <a:ext cx="431640" cy="43344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515" name="TextBox 9"/>
          <p:cNvSpPr/>
          <p:nvPr/>
        </p:nvSpPr>
        <p:spPr>
          <a:xfrm>
            <a:off x="3654360" y="418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"/>
          <p:cNvPicPr/>
          <p:nvPr/>
        </p:nvPicPr>
        <p:blipFill>
          <a:blip r:embed="rId5"/>
          <a:stretch/>
        </p:blipFill>
        <p:spPr>
          <a:xfrm>
            <a:off x="3041640" y="4981680"/>
            <a:ext cx="431640" cy="43344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517" name="TextBox 11"/>
          <p:cNvSpPr/>
          <p:nvPr/>
        </p:nvSpPr>
        <p:spPr>
          <a:xfrm>
            <a:off x="365436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6"/>
          <p:cNvSpPr/>
          <p:nvPr/>
        </p:nvSpPr>
        <p:spPr>
          <a:xfrm>
            <a:off x="0" y="0"/>
            <a:ext cx="914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rcRect l="0" t="0" r="53818" b="0"/>
          <a:stretch/>
        </p:blipFill>
        <p:spPr>
          <a:xfrm>
            <a:off x="8317080" y="117360"/>
            <a:ext cx="826920" cy="1800360"/>
          </a:xfrm>
          <a:prstGeom prst="rect">
            <a:avLst/>
          </a:prstGeom>
          <a:ln w="0">
            <a:noFill/>
          </a:ln>
        </p:spPr>
      </p:pic>
      <p:sp>
        <p:nvSpPr>
          <p:cNvPr id="520" name="矩形 10"/>
          <p:cNvSpPr/>
          <p:nvPr/>
        </p:nvSpPr>
        <p:spPr>
          <a:xfrm>
            <a:off x="0" y="1123920"/>
            <a:ext cx="846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bf0000"/>
                </a:solidFill>
                <a:latin typeface="Verdana"/>
              </a:rPr>
              <a:t>过渡页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2"/>
          <a:stretch/>
        </p:blipFill>
        <p:spPr>
          <a:xfrm>
            <a:off x="3132000" y="3613320"/>
            <a:ext cx="432000" cy="43308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523" name="TextBox 4"/>
          <p:cNvSpPr/>
          <p:nvPr/>
        </p:nvSpPr>
        <p:spPr>
          <a:xfrm>
            <a:off x="3746520" y="3645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6"/>
          <p:cNvSpPr/>
          <p:nvPr/>
        </p:nvSpPr>
        <p:spPr>
          <a:xfrm>
            <a:off x="0" y="0"/>
            <a:ext cx="914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rcRect l="0" t="0" r="53818" b="0"/>
          <a:stretch/>
        </p:blipFill>
        <p:spPr>
          <a:xfrm>
            <a:off x="8317080" y="117360"/>
            <a:ext cx="826920" cy="1800360"/>
          </a:xfrm>
          <a:prstGeom prst="rect">
            <a:avLst/>
          </a:prstGeom>
          <a:ln w="0">
            <a:noFill/>
          </a:ln>
        </p:spPr>
      </p:pic>
      <p:sp>
        <p:nvSpPr>
          <p:cNvPr id="526" name="矩形 10"/>
          <p:cNvSpPr/>
          <p:nvPr/>
        </p:nvSpPr>
        <p:spPr>
          <a:xfrm>
            <a:off x="0" y="1123920"/>
            <a:ext cx="846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bf0000"/>
                </a:solidFill>
                <a:latin typeface="Verdana"/>
              </a:rPr>
              <a:t>第一章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3776760" y="3171960"/>
            <a:ext cx="1503360" cy="1538280"/>
            <a:chOff x="3776760" y="3171960"/>
            <a:chExt cx="1503360" cy="1538280"/>
          </a:xfrm>
        </p:grpSpPr>
        <p:grpSp>
          <p:nvGrpSpPr>
            <p:cNvPr id="529" name="Group 7"/>
            <p:cNvGrpSpPr/>
            <p:nvPr/>
          </p:nvGrpSpPr>
          <p:grpSpPr>
            <a:xfrm>
              <a:off x="3776760" y="3171960"/>
              <a:ext cx="1503360" cy="1538280"/>
              <a:chOff x="3776760" y="3171960"/>
              <a:chExt cx="1503360" cy="1538280"/>
            </a:xfrm>
          </p:grpSpPr>
          <p:sp>
            <p:nvSpPr>
              <p:cNvPr id="530" name="Oval 93"/>
              <p:cNvSpPr/>
              <p:nvPr/>
            </p:nvSpPr>
            <p:spPr>
              <a:xfrm>
                <a:off x="3776760" y="3171960"/>
                <a:ext cx="1503360" cy="1538280"/>
              </a:xfrm>
              <a:prstGeom prst="ellipse">
                <a:avLst/>
              </a:prstGeom>
              <a:solidFill>
                <a:srgbClr val="ffc000"/>
              </a:solidFill>
              <a:ln w="9360">
                <a:solidFill>
                  <a:srgbClr val="c48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94"/>
              <p:cNvSpPr/>
              <p:nvPr/>
            </p:nvSpPr>
            <p:spPr>
              <a:xfrm>
                <a:off x="3836880" y="3222720"/>
                <a:ext cx="1295640" cy="1325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48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Text Box 18"/>
            <p:cNvSpPr/>
            <p:nvPr/>
          </p:nvSpPr>
          <p:spPr>
            <a:xfrm>
              <a:off x="3851640" y="357372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11"/>
          <p:cNvGrpSpPr/>
          <p:nvPr/>
        </p:nvGrpSpPr>
        <p:grpSpPr>
          <a:xfrm>
            <a:off x="1050840" y="2236680"/>
            <a:ext cx="6942240" cy="3418200"/>
            <a:chOff x="1050840" y="2236680"/>
            <a:chExt cx="6942240" cy="3418200"/>
          </a:xfrm>
        </p:grpSpPr>
        <p:grpSp>
          <p:nvGrpSpPr>
            <p:cNvPr id="534" name="Group 12"/>
            <p:cNvGrpSpPr/>
            <p:nvPr/>
          </p:nvGrpSpPr>
          <p:grpSpPr>
            <a:xfrm>
              <a:off x="1738080" y="2236680"/>
              <a:ext cx="2790720" cy="1299600"/>
              <a:chOff x="1738080" y="2236680"/>
              <a:chExt cx="2790720" cy="1299600"/>
            </a:xfrm>
          </p:grpSpPr>
          <p:grpSp>
            <p:nvGrpSpPr>
              <p:cNvPr id="535" name="Group 13"/>
              <p:cNvGrpSpPr/>
              <p:nvPr/>
            </p:nvGrpSpPr>
            <p:grpSpPr>
              <a:xfrm>
                <a:off x="1738080" y="2236680"/>
                <a:ext cx="2790720" cy="1299600"/>
                <a:chOff x="1738080" y="2236680"/>
                <a:chExt cx="2790720" cy="1299600"/>
              </a:xfrm>
            </p:grpSpPr>
            <p:grpSp>
              <p:nvGrpSpPr>
                <p:cNvPr id="536" name="Group 14"/>
                <p:cNvGrpSpPr/>
                <p:nvPr/>
              </p:nvGrpSpPr>
              <p:grpSpPr>
                <a:xfrm>
                  <a:off x="1738080" y="2236680"/>
                  <a:ext cx="2790720" cy="1299600"/>
                  <a:chOff x="1738080" y="2236680"/>
                  <a:chExt cx="2790720" cy="1299600"/>
                </a:xfrm>
              </p:grpSpPr>
              <p:sp>
                <p:nvSpPr>
                  <p:cNvPr id="537" name="AutoShape 73"/>
                  <p:cNvSpPr/>
                  <p:nvPr/>
                </p:nvSpPr>
                <p:spPr>
                  <a:xfrm rot="2700000">
                    <a:off x="3508200" y="2414160"/>
                    <a:ext cx="785520" cy="989280"/>
                  </a:xfrm>
                  <a:prstGeom prst="rightArrow">
                    <a:avLst>
                      <a:gd name="adj1" fmla="val 70398"/>
                      <a:gd name="adj2" fmla="val 63769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圆角矩形 14"/>
                  <p:cNvSpPr/>
                  <p:nvPr/>
                </p:nvSpPr>
                <p:spPr>
                  <a:xfrm>
                    <a:off x="1738080" y="2236680"/>
                    <a:ext cx="1837080" cy="71748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Group 17"/>
                <p:cNvGrpSpPr/>
                <p:nvPr/>
              </p:nvGrpSpPr>
              <p:grpSpPr>
                <a:xfrm>
                  <a:off x="3246120" y="2236680"/>
                  <a:ext cx="702360" cy="717840"/>
                  <a:chOff x="3246120" y="2236680"/>
                  <a:chExt cx="702360" cy="717840"/>
                </a:xfrm>
              </p:grpSpPr>
              <p:sp>
                <p:nvSpPr>
                  <p:cNvPr id="540" name="椭圆 11"/>
                  <p:cNvSpPr/>
                  <p:nvPr/>
                </p:nvSpPr>
                <p:spPr>
                  <a:xfrm>
                    <a:off x="3246120" y="2236680"/>
                    <a:ext cx="702360" cy="717840"/>
                  </a:xfrm>
                  <a:prstGeom prst="ellipse">
                    <a:avLst/>
                  </a:prstGeom>
                  <a:solidFill>
                    <a:srgbClr val="b0342d"/>
                  </a:solidFill>
                  <a:ln w="9360">
                    <a:solidFill>
                      <a:srgbClr val="b0342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椭圆 117"/>
                  <p:cNvSpPr/>
                  <p:nvPr/>
                </p:nvSpPr>
                <p:spPr>
                  <a:xfrm>
                    <a:off x="3268440" y="2257200"/>
                    <a:ext cx="600480" cy="61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8e1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2" name="Text Box 18"/>
              <p:cNvSpPr/>
              <p:nvPr/>
            </p:nvSpPr>
            <p:spPr>
              <a:xfrm>
                <a:off x="1818360" y="2434680"/>
                <a:ext cx="144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26"/>
              <p:cNvSpPr/>
              <p:nvPr/>
            </p:nvSpPr>
            <p:spPr>
              <a:xfrm>
                <a:off x="3340080" y="24271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22"/>
            <p:cNvGrpSpPr/>
            <p:nvPr/>
          </p:nvGrpSpPr>
          <p:grpSpPr>
            <a:xfrm>
              <a:off x="4602600" y="2236680"/>
              <a:ext cx="2692080" cy="1384920"/>
              <a:chOff x="4602600" y="2236680"/>
              <a:chExt cx="2692080" cy="1384920"/>
            </a:xfrm>
          </p:grpSpPr>
          <p:grpSp>
            <p:nvGrpSpPr>
              <p:cNvPr id="545" name="Group 23"/>
              <p:cNvGrpSpPr/>
              <p:nvPr/>
            </p:nvGrpSpPr>
            <p:grpSpPr>
              <a:xfrm>
                <a:off x="4602600" y="2236680"/>
                <a:ext cx="2692080" cy="1384920"/>
                <a:chOff x="4602600" y="2236680"/>
                <a:chExt cx="2692080" cy="1384920"/>
              </a:xfrm>
            </p:grpSpPr>
            <p:grpSp>
              <p:nvGrpSpPr>
                <p:cNvPr id="546" name="Group 24"/>
                <p:cNvGrpSpPr/>
                <p:nvPr/>
              </p:nvGrpSpPr>
              <p:grpSpPr>
                <a:xfrm>
                  <a:off x="4602600" y="2236680"/>
                  <a:ext cx="2692080" cy="1384920"/>
                  <a:chOff x="4602600" y="2236680"/>
                  <a:chExt cx="2692080" cy="1384920"/>
                </a:xfrm>
              </p:grpSpPr>
              <p:grpSp>
                <p:nvGrpSpPr>
                  <p:cNvPr id="547" name="Group 25"/>
                  <p:cNvGrpSpPr/>
                  <p:nvPr/>
                </p:nvGrpSpPr>
                <p:grpSpPr>
                  <a:xfrm>
                    <a:off x="4602600" y="2236680"/>
                    <a:ext cx="2692080" cy="1384920"/>
                    <a:chOff x="4602600" y="2236680"/>
                    <a:chExt cx="2692080" cy="1384920"/>
                  </a:xfrm>
                </p:grpSpPr>
                <p:sp>
                  <p:nvSpPr>
                    <p:cNvPr id="548" name="AutoShape 67"/>
                    <p:cNvSpPr/>
                    <p:nvPr/>
                  </p:nvSpPr>
                  <p:spPr>
                    <a:xfrm flipH="1" rot="18900000">
                      <a:off x="4809600" y="2506680"/>
                      <a:ext cx="868680" cy="946440"/>
                    </a:xfrm>
                    <a:prstGeom prst="rightArrow">
                      <a:avLst>
                        <a:gd name="adj1" fmla="val 70398"/>
                        <a:gd name="adj2" fmla="val 63769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圆角矩形 54"/>
                    <p:cNvSpPr/>
                    <p:nvPr/>
                  </p:nvSpPr>
                  <p:spPr>
                    <a:xfrm>
                      <a:off x="5533920" y="2236680"/>
                      <a:ext cx="1760760" cy="79344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Group 28"/>
                  <p:cNvGrpSpPr/>
                  <p:nvPr/>
                </p:nvGrpSpPr>
                <p:grpSpPr>
                  <a:xfrm>
                    <a:off x="5085720" y="2236680"/>
                    <a:ext cx="702360" cy="717840"/>
                    <a:chOff x="5085720" y="2236680"/>
                    <a:chExt cx="702360" cy="717840"/>
                  </a:xfrm>
                </p:grpSpPr>
                <p:sp>
                  <p:nvSpPr>
                    <p:cNvPr id="551" name="椭圆 51"/>
                    <p:cNvSpPr/>
                    <p:nvPr/>
                  </p:nvSpPr>
                  <p:spPr>
                    <a:xfrm>
                      <a:off x="5085720" y="2236680"/>
                      <a:ext cx="702360" cy="717840"/>
                    </a:xfrm>
                    <a:prstGeom prst="ellipse">
                      <a:avLst/>
                    </a:prstGeom>
                    <a:solidFill>
                      <a:srgbClr val="b0342d"/>
                    </a:solidFill>
                    <a:ln w="9360">
                      <a:solidFill>
                        <a:srgbClr val="b0342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椭圆 117"/>
                    <p:cNvSpPr/>
                    <p:nvPr/>
                  </p:nvSpPr>
                  <p:spPr>
                    <a:xfrm>
                      <a:off x="5106960" y="2257200"/>
                      <a:ext cx="602280" cy="614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8e1c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3" name="Rectangle 26"/>
                <p:cNvSpPr/>
                <p:nvPr/>
              </p:nvSpPr>
              <p:spPr>
                <a:xfrm>
                  <a:off x="5232960" y="24271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Text Box 18"/>
              <p:cNvSpPr/>
              <p:nvPr/>
            </p:nvSpPr>
            <p:spPr>
              <a:xfrm>
                <a:off x="5834520" y="2434680"/>
                <a:ext cx="144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33"/>
            <p:cNvGrpSpPr/>
            <p:nvPr/>
          </p:nvGrpSpPr>
          <p:grpSpPr>
            <a:xfrm>
              <a:off x="5356080" y="3435120"/>
              <a:ext cx="2637000" cy="1010880"/>
              <a:chOff x="5356080" y="3435120"/>
              <a:chExt cx="2637000" cy="1010880"/>
            </a:xfrm>
          </p:grpSpPr>
          <p:grpSp>
            <p:nvGrpSpPr>
              <p:cNvPr id="556" name="Group 34"/>
              <p:cNvGrpSpPr/>
              <p:nvPr/>
            </p:nvGrpSpPr>
            <p:grpSpPr>
              <a:xfrm>
                <a:off x="5356080" y="3435120"/>
                <a:ext cx="2637000" cy="1010880"/>
                <a:chOff x="5356080" y="3435120"/>
                <a:chExt cx="2637000" cy="1010880"/>
              </a:xfrm>
            </p:grpSpPr>
            <p:grpSp>
              <p:nvGrpSpPr>
                <p:cNvPr id="557" name="Group 35"/>
                <p:cNvGrpSpPr/>
                <p:nvPr/>
              </p:nvGrpSpPr>
              <p:grpSpPr>
                <a:xfrm>
                  <a:off x="5356080" y="3435120"/>
                  <a:ext cx="2637000" cy="1010880"/>
                  <a:chOff x="5356080" y="3435120"/>
                  <a:chExt cx="2637000" cy="1010880"/>
                </a:xfrm>
              </p:grpSpPr>
              <p:grpSp>
                <p:nvGrpSpPr>
                  <p:cNvPr id="558" name="Group 36"/>
                  <p:cNvGrpSpPr/>
                  <p:nvPr/>
                </p:nvGrpSpPr>
                <p:grpSpPr>
                  <a:xfrm>
                    <a:off x="5356080" y="3435120"/>
                    <a:ext cx="2637000" cy="1010880"/>
                    <a:chOff x="5356080" y="3435120"/>
                    <a:chExt cx="2637000" cy="1010880"/>
                  </a:xfrm>
                </p:grpSpPr>
                <p:sp>
                  <p:nvSpPr>
                    <p:cNvPr id="559" name="AutoShape 49"/>
                    <p:cNvSpPr/>
                    <p:nvPr/>
                  </p:nvSpPr>
                  <p:spPr>
                    <a:xfrm flipH="1">
                      <a:off x="5356080" y="3435120"/>
                      <a:ext cx="768240" cy="1010880"/>
                    </a:xfrm>
                    <a:prstGeom prst="rightArrow">
                      <a:avLst>
                        <a:gd name="adj1" fmla="val 70398"/>
                        <a:gd name="adj2" fmla="val 68255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圆角矩形 47"/>
                    <p:cNvSpPr/>
                    <p:nvPr/>
                  </p:nvSpPr>
                  <p:spPr>
                    <a:xfrm>
                      <a:off x="6156000" y="3580920"/>
                      <a:ext cx="1837080" cy="71892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" name="Group 39"/>
                  <p:cNvGrpSpPr/>
                  <p:nvPr/>
                </p:nvGrpSpPr>
                <p:grpSpPr>
                  <a:xfrm>
                    <a:off x="5795640" y="3581640"/>
                    <a:ext cx="702000" cy="717480"/>
                    <a:chOff x="5795640" y="3581640"/>
                    <a:chExt cx="702000" cy="717480"/>
                  </a:xfrm>
                </p:grpSpPr>
                <p:sp>
                  <p:nvSpPr>
                    <p:cNvPr id="562" name="椭圆 42"/>
                    <p:cNvSpPr/>
                    <p:nvPr/>
                  </p:nvSpPr>
                  <p:spPr>
                    <a:xfrm>
                      <a:off x="5795640" y="3581640"/>
                      <a:ext cx="702000" cy="717480"/>
                    </a:xfrm>
                    <a:prstGeom prst="ellipse">
                      <a:avLst/>
                    </a:prstGeom>
                    <a:solidFill>
                      <a:srgbClr val="b0342d"/>
                    </a:solidFill>
                    <a:ln w="9360">
                      <a:solidFill>
                        <a:srgbClr val="b0342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椭圆 117"/>
                    <p:cNvSpPr/>
                    <p:nvPr/>
                  </p:nvSpPr>
                  <p:spPr>
                    <a:xfrm>
                      <a:off x="5817960" y="3601440"/>
                      <a:ext cx="600120" cy="615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8e1c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64" name="Rectangle 26"/>
                <p:cNvSpPr/>
                <p:nvPr/>
              </p:nvSpPr>
              <p:spPr>
                <a:xfrm>
                  <a:off x="5931720" y="37612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Text Box 18"/>
              <p:cNvSpPr/>
              <p:nvPr/>
            </p:nvSpPr>
            <p:spPr>
              <a:xfrm>
                <a:off x="6505560" y="3780000"/>
                <a:ext cx="144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44"/>
            <p:cNvGrpSpPr/>
            <p:nvPr/>
          </p:nvGrpSpPr>
          <p:grpSpPr>
            <a:xfrm>
              <a:off x="1050840" y="3435120"/>
              <a:ext cx="2648160" cy="1010880"/>
              <a:chOff x="1050840" y="3435120"/>
              <a:chExt cx="2648160" cy="1010880"/>
            </a:xfrm>
          </p:grpSpPr>
          <p:grpSp>
            <p:nvGrpSpPr>
              <p:cNvPr id="567" name="Group 45"/>
              <p:cNvGrpSpPr/>
              <p:nvPr/>
            </p:nvGrpSpPr>
            <p:grpSpPr>
              <a:xfrm>
                <a:off x="1050840" y="3435120"/>
                <a:ext cx="2648160" cy="1010880"/>
                <a:chOff x="1050840" y="3435120"/>
                <a:chExt cx="2648160" cy="1010880"/>
              </a:xfrm>
            </p:grpSpPr>
            <p:grpSp>
              <p:nvGrpSpPr>
                <p:cNvPr id="568" name="Group 46"/>
                <p:cNvGrpSpPr/>
                <p:nvPr/>
              </p:nvGrpSpPr>
              <p:grpSpPr>
                <a:xfrm>
                  <a:off x="1050840" y="3435120"/>
                  <a:ext cx="2648160" cy="1010880"/>
                  <a:chOff x="1050840" y="3435120"/>
                  <a:chExt cx="2648160" cy="1010880"/>
                </a:xfrm>
              </p:grpSpPr>
              <p:sp>
                <p:nvSpPr>
                  <p:cNvPr id="569" name="AutoShape 71"/>
                  <p:cNvSpPr/>
                  <p:nvPr/>
                </p:nvSpPr>
                <p:spPr>
                  <a:xfrm>
                    <a:off x="2930760" y="3435120"/>
                    <a:ext cx="768240" cy="1010880"/>
                  </a:xfrm>
                  <a:prstGeom prst="rightArrow">
                    <a:avLst>
                      <a:gd name="adj1" fmla="val 70398"/>
                      <a:gd name="adj2" fmla="val 62116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圆角矩形 21"/>
                  <p:cNvSpPr/>
                  <p:nvPr/>
                </p:nvSpPr>
                <p:spPr>
                  <a:xfrm>
                    <a:off x="1050840" y="3580920"/>
                    <a:ext cx="1837080" cy="71892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Group 49"/>
                <p:cNvGrpSpPr/>
                <p:nvPr/>
              </p:nvGrpSpPr>
              <p:grpSpPr>
                <a:xfrm>
                  <a:off x="2558520" y="3581640"/>
                  <a:ext cx="702000" cy="717480"/>
                  <a:chOff x="2558520" y="3581640"/>
                  <a:chExt cx="702000" cy="717480"/>
                </a:xfrm>
              </p:grpSpPr>
              <p:sp>
                <p:nvSpPr>
                  <p:cNvPr id="572" name="椭圆 18"/>
                  <p:cNvSpPr/>
                  <p:nvPr/>
                </p:nvSpPr>
                <p:spPr>
                  <a:xfrm>
                    <a:off x="2558520" y="3581640"/>
                    <a:ext cx="702000" cy="717480"/>
                  </a:xfrm>
                  <a:prstGeom prst="ellipse">
                    <a:avLst/>
                  </a:prstGeom>
                  <a:solidFill>
                    <a:srgbClr val="b0342d"/>
                  </a:solidFill>
                  <a:ln w="9360">
                    <a:solidFill>
                      <a:srgbClr val="b0342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椭圆 117"/>
                  <p:cNvSpPr/>
                  <p:nvPr/>
                </p:nvSpPr>
                <p:spPr>
                  <a:xfrm>
                    <a:off x="2581200" y="3601440"/>
                    <a:ext cx="600120" cy="615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8e1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Text Box 18"/>
              <p:cNvSpPr/>
              <p:nvPr/>
            </p:nvSpPr>
            <p:spPr>
              <a:xfrm>
                <a:off x="1163520" y="3780000"/>
                <a:ext cx="1459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26"/>
              <p:cNvSpPr/>
              <p:nvPr/>
            </p:nvSpPr>
            <p:spPr>
              <a:xfrm>
                <a:off x="2652480" y="37612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54"/>
            <p:cNvGrpSpPr/>
            <p:nvPr/>
          </p:nvGrpSpPr>
          <p:grpSpPr>
            <a:xfrm>
              <a:off x="1738080" y="4352400"/>
              <a:ext cx="2792520" cy="1284840"/>
              <a:chOff x="1738080" y="4352400"/>
              <a:chExt cx="2792520" cy="1284840"/>
            </a:xfrm>
          </p:grpSpPr>
          <p:grpSp>
            <p:nvGrpSpPr>
              <p:cNvPr id="577" name="Group 55"/>
              <p:cNvGrpSpPr/>
              <p:nvPr/>
            </p:nvGrpSpPr>
            <p:grpSpPr>
              <a:xfrm>
                <a:off x="1738080" y="4352400"/>
                <a:ext cx="2792520" cy="1284840"/>
                <a:chOff x="1738080" y="4352400"/>
                <a:chExt cx="2792520" cy="1284840"/>
              </a:xfrm>
            </p:grpSpPr>
            <p:grpSp>
              <p:nvGrpSpPr>
                <p:cNvPr id="578" name="Group 56"/>
                <p:cNvGrpSpPr/>
                <p:nvPr/>
              </p:nvGrpSpPr>
              <p:grpSpPr>
                <a:xfrm>
                  <a:off x="1738080" y="4352400"/>
                  <a:ext cx="2792520" cy="1284840"/>
                  <a:chOff x="1738080" y="4352400"/>
                  <a:chExt cx="2792520" cy="1284840"/>
                </a:xfrm>
              </p:grpSpPr>
              <p:sp>
                <p:nvSpPr>
                  <p:cNvPr id="579" name="AutoShape 75"/>
                  <p:cNvSpPr/>
                  <p:nvPr/>
                </p:nvSpPr>
                <p:spPr>
                  <a:xfrm rot="18900000">
                    <a:off x="3511800" y="4473720"/>
                    <a:ext cx="768240" cy="1025640"/>
                  </a:xfrm>
                  <a:prstGeom prst="rightArrow">
                    <a:avLst>
                      <a:gd name="adj1" fmla="val 70398"/>
                      <a:gd name="adj2" fmla="val 65690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圆角矩形 31"/>
                  <p:cNvSpPr/>
                  <p:nvPr/>
                </p:nvSpPr>
                <p:spPr>
                  <a:xfrm>
                    <a:off x="1738080" y="4919760"/>
                    <a:ext cx="1837080" cy="71748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59"/>
                <p:cNvGrpSpPr/>
                <p:nvPr/>
              </p:nvGrpSpPr>
              <p:grpSpPr>
                <a:xfrm>
                  <a:off x="3245400" y="4919040"/>
                  <a:ext cx="702000" cy="718200"/>
                  <a:chOff x="3245400" y="4919040"/>
                  <a:chExt cx="702000" cy="718200"/>
                </a:xfrm>
              </p:grpSpPr>
              <p:sp>
                <p:nvSpPr>
                  <p:cNvPr id="582" name="椭圆 26"/>
                  <p:cNvSpPr/>
                  <p:nvPr/>
                </p:nvSpPr>
                <p:spPr>
                  <a:xfrm>
                    <a:off x="3245400" y="4919040"/>
                    <a:ext cx="702000" cy="718200"/>
                  </a:xfrm>
                  <a:prstGeom prst="ellipse">
                    <a:avLst/>
                  </a:prstGeom>
                  <a:solidFill>
                    <a:srgbClr val="b0342d"/>
                  </a:solidFill>
                  <a:ln w="9360">
                    <a:solidFill>
                      <a:srgbClr val="b0342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椭圆 117"/>
                  <p:cNvSpPr/>
                  <p:nvPr/>
                </p:nvSpPr>
                <p:spPr>
                  <a:xfrm>
                    <a:off x="3267000" y="4939920"/>
                    <a:ext cx="601920" cy="614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8e1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4" name="Text Box 18"/>
              <p:cNvSpPr/>
              <p:nvPr/>
            </p:nvSpPr>
            <p:spPr>
              <a:xfrm>
                <a:off x="1769760" y="5117400"/>
                <a:ext cx="145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26"/>
              <p:cNvSpPr/>
              <p:nvPr/>
            </p:nvSpPr>
            <p:spPr>
              <a:xfrm>
                <a:off x="3339360" y="5098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64"/>
            <p:cNvGrpSpPr/>
            <p:nvPr/>
          </p:nvGrpSpPr>
          <p:grpSpPr>
            <a:xfrm>
              <a:off x="4455000" y="4441680"/>
              <a:ext cx="2839320" cy="1213200"/>
              <a:chOff x="4455000" y="4441680"/>
              <a:chExt cx="2839320" cy="1213200"/>
            </a:xfrm>
          </p:grpSpPr>
          <p:grpSp>
            <p:nvGrpSpPr>
              <p:cNvPr id="587" name="Group 65"/>
              <p:cNvGrpSpPr/>
              <p:nvPr/>
            </p:nvGrpSpPr>
            <p:grpSpPr>
              <a:xfrm>
                <a:off x="4455000" y="4441680"/>
                <a:ext cx="2839320" cy="1213200"/>
                <a:chOff x="4455000" y="4441680"/>
                <a:chExt cx="2839320" cy="1213200"/>
              </a:xfrm>
            </p:grpSpPr>
            <p:grpSp>
              <p:nvGrpSpPr>
                <p:cNvPr id="588" name="Group 66"/>
                <p:cNvGrpSpPr/>
                <p:nvPr/>
              </p:nvGrpSpPr>
              <p:grpSpPr>
                <a:xfrm>
                  <a:off x="4455000" y="4441680"/>
                  <a:ext cx="2839320" cy="1213200"/>
                  <a:chOff x="4455000" y="4441680"/>
                  <a:chExt cx="2839320" cy="1213200"/>
                </a:xfrm>
              </p:grpSpPr>
              <p:grpSp>
                <p:nvGrpSpPr>
                  <p:cNvPr id="589" name="Group 67"/>
                  <p:cNvGrpSpPr/>
                  <p:nvPr/>
                </p:nvGrpSpPr>
                <p:grpSpPr>
                  <a:xfrm>
                    <a:off x="4455000" y="4441680"/>
                    <a:ext cx="2839320" cy="1213200"/>
                    <a:chOff x="4455000" y="4441680"/>
                    <a:chExt cx="2839320" cy="1213200"/>
                  </a:xfrm>
                </p:grpSpPr>
                <p:sp>
                  <p:nvSpPr>
                    <p:cNvPr id="590" name="AutoShape 69"/>
                    <p:cNvSpPr/>
                    <p:nvPr/>
                  </p:nvSpPr>
                  <p:spPr>
                    <a:xfrm flipH="1" rot="2700000">
                      <a:off x="4660560" y="4591080"/>
                      <a:ext cx="801720" cy="914040"/>
                    </a:xfrm>
                    <a:prstGeom prst="rightArrow">
                      <a:avLst>
                        <a:gd name="adj1" fmla="val 70398"/>
                        <a:gd name="adj2" fmla="val 64579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圆角矩形 38"/>
                    <p:cNvSpPr/>
                    <p:nvPr/>
                  </p:nvSpPr>
                  <p:spPr>
                    <a:xfrm>
                      <a:off x="5377680" y="4988160"/>
                      <a:ext cx="1916640" cy="64908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Group 70"/>
                  <p:cNvGrpSpPr/>
                  <p:nvPr/>
                </p:nvGrpSpPr>
                <p:grpSpPr>
                  <a:xfrm>
                    <a:off x="5086800" y="4919040"/>
                    <a:ext cx="701640" cy="718200"/>
                    <a:chOff x="5086800" y="4919040"/>
                    <a:chExt cx="701640" cy="718200"/>
                  </a:xfrm>
                </p:grpSpPr>
                <p:sp>
                  <p:nvSpPr>
                    <p:cNvPr id="593" name="椭圆 35"/>
                    <p:cNvSpPr/>
                    <p:nvPr/>
                  </p:nvSpPr>
                  <p:spPr>
                    <a:xfrm>
                      <a:off x="5086800" y="4919040"/>
                      <a:ext cx="701640" cy="718200"/>
                    </a:xfrm>
                    <a:prstGeom prst="ellipse">
                      <a:avLst/>
                    </a:prstGeom>
                    <a:solidFill>
                      <a:srgbClr val="b0342d"/>
                    </a:solidFill>
                    <a:ln w="9360">
                      <a:solidFill>
                        <a:srgbClr val="b0342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椭圆 117"/>
                    <p:cNvSpPr/>
                    <p:nvPr/>
                  </p:nvSpPr>
                  <p:spPr>
                    <a:xfrm>
                      <a:off x="5109120" y="4938840"/>
                      <a:ext cx="599760" cy="615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8e1c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95" name="Rectangle 26"/>
                <p:cNvSpPr/>
                <p:nvPr/>
              </p:nvSpPr>
              <p:spPr>
                <a:xfrm>
                  <a:off x="5222880" y="50986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Text Box 18"/>
              <p:cNvSpPr/>
              <p:nvPr/>
            </p:nvSpPr>
            <p:spPr>
              <a:xfrm>
                <a:off x="5739120" y="5117400"/>
                <a:ext cx="1513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"/>
          <p:cNvPicPr/>
          <p:nvPr/>
        </p:nvPicPr>
        <p:blipFill>
          <a:blip r:embed="rId2"/>
          <a:stretch/>
        </p:blipFill>
        <p:spPr>
          <a:xfrm>
            <a:off x="3714840" y="1989000"/>
            <a:ext cx="1792080" cy="180036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7280" y="3718080"/>
            <a:ext cx="6858000" cy="963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bf0000"/>
                </a:solidFill>
                <a:latin typeface="Verdana"/>
              </a:rPr>
              <a:t>谢谢各位</a:t>
            </a:r>
            <a:endParaRPr b="1" lang="en-US" sz="4200" spc="-1" strike="noStrike">
              <a:solidFill>
                <a:srgbClr val="bf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05:40:00Z</dcterms:created>
  <dc:creator>王琳</dc:creator>
  <dc:description/>
  <cp:keywords/>
  <dc:language>en-US</dc:language>
  <cp:lastModifiedBy>Administrator</cp:lastModifiedBy>
  <cp:lastPrinted>1899-12-30T00:00:00Z</cp:lastPrinted>
  <dcterms:modified xsi:type="dcterms:W3CDTF">2015-08-22T02:59:11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