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65EA-81EB-4095-B401-961596E00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5A78-E3CC-48B7-8E9C-398265F1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A0BA-2D1A-4A96-9BF2-11BFBA995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479B-76D3-4DA4-BBF8-6D5A7D3BC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7C1C-BAD5-4DD3-9E40-C960DC09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1B5E-2ADA-4B43-AAEC-21893AFE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12E9-5C46-45D5-94F5-BB8B1211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40B9-F3D3-4C9B-90E6-5347B325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2D15-F813-4746-A61C-11D60081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2010-1A68-4DD4-A8ED-146BC4CC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9B8B-FE3C-42C2-A0AE-6032744D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4838-5323-4A69-84AB-4DD5DD7A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90A2-7097-4427-8F1A-6A0BDD532D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19280" y="4869000"/>
            <a:ext cx="5832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70b00"/>
                </a:solidFill>
                <a:latin typeface="微软雅黑"/>
                <a:ea typeface="微软雅黑"/>
              </a:rPr>
              <a:t>企业年会参考方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176120" y="1557000"/>
            <a:ext cx="64198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我们自己的方式表达我们的心情和感受，用我们自己的才艺展示企业的文化和精神！欢歌笑语，掌声雷动，让我们尽情欢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1403280" y="1052640"/>
            <a:ext cx="277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员工表演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0" t="0" r="14822" b="0"/>
          <a:stretch/>
        </p:blipFill>
        <p:spPr>
          <a:xfrm>
            <a:off x="4643280" y="4508640"/>
            <a:ext cx="2519640" cy="1584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rcRect l="11601" t="0" r="0" b="0"/>
          <a:stretch/>
        </p:blipFill>
        <p:spPr>
          <a:xfrm>
            <a:off x="1690560" y="4508640"/>
            <a:ext cx="2521080" cy="1584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692360" y="2708280"/>
            <a:ext cx="2519280" cy="1603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4645080" y="2708280"/>
            <a:ext cx="2519280" cy="1584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476000" y="1700280"/>
            <a:ext cx="5986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一年的好运从这里开始！嗨，伙伴，幸运的一定是你！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1403280" y="1052640"/>
            <a:ext cx="277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幸运抽奖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: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348000" y="3213000"/>
            <a:ext cx="2160720" cy="1844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55640" y="2060280"/>
            <a:ext cx="5904000" cy="32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娱乐类：好运年年有，快乐皮筋……</a:t>
            </a:r>
            <a:br>
              <a:rPr sz="1400"/>
            </a:b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团队类：公共汽车，团队之椅……</a:t>
            </a:r>
            <a:br>
              <a:rPr sz="1400"/>
            </a:b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情感类：胜利龙舟，荣誉勋章……</a:t>
            </a:r>
            <a:br>
              <a:rPr sz="1400"/>
            </a:b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娱乐类活动可以在年会现场营造喜庆热闹的气氛！</a:t>
            </a:r>
            <a:br>
              <a:rPr sz="1400"/>
            </a:b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团队类活动能够增强企业员工的凝聚力！</a:t>
            </a:r>
            <a:br>
              <a:rPr sz="1400"/>
            </a:b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情感类活动从每个人的内心深处激发出对企业的认同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1403280" y="1052640"/>
            <a:ext cx="277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晚会游戏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8: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003640" y="1557360"/>
            <a:ext cx="2729160" cy="2047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1403280" y="1052640"/>
            <a:ext cx="277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闭幕仪式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1547640" y="1917720"/>
            <a:ext cx="604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在活动的最后，让我们把自己的心愿挂在这颗心愿树上，这树把我们的祝福聚会在一起，它将挂满我们的希望，和我们一起见证新一年的来临，与我们一起去创造，去征服，去胜利。</a:t>
            </a: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98920" y="3051000"/>
            <a:ext cx="3528720" cy="29703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77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770" fill="hold"/>
                                        <p:tgtEl>
                                          <p:spTgt spid="1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0" dur="77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2" dur="77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20"/>
          <p:cNvSpPr/>
          <p:nvPr/>
        </p:nvSpPr>
        <p:spPr>
          <a:xfrm>
            <a:off x="2050920" y="1341360"/>
            <a:ext cx="504216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1"/>
          <p:cNvSpPr/>
          <p:nvPr/>
        </p:nvSpPr>
        <p:spPr>
          <a:xfrm>
            <a:off x="3454560" y="14176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70b00"/>
                </a:solidFill>
                <a:latin typeface="Arial"/>
              </a:rPr>
              <a:t>年会活动目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22"/>
          <p:cNvSpPr/>
          <p:nvPr/>
        </p:nvSpPr>
        <p:spPr>
          <a:xfrm>
            <a:off x="1974960" y="2149560"/>
            <a:ext cx="510516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3"/>
          <p:cNvSpPr/>
          <p:nvPr/>
        </p:nvSpPr>
        <p:spPr>
          <a:xfrm>
            <a:off x="3688560" y="21985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70b00"/>
                </a:solidFill>
                <a:latin typeface="Arial"/>
              </a:rPr>
              <a:t>年会关键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24"/>
          <p:cNvSpPr/>
          <p:nvPr/>
        </p:nvSpPr>
        <p:spPr>
          <a:xfrm>
            <a:off x="2048040" y="2940120"/>
            <a:ext cx="504504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5"/>
          <p:cNvSpPr/>
          <p:nvPr/>
        </p:nvSpPr>
        <p:spPr>
          <a:xfrm>
            <a:off x="3685320" y="29908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70b00"/>
                </a:solidFill>
                <a:latin typeface="Arial"/>
              </a:rPr>
              <a:t>年会时间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26"/>
          <p:cNvSpPr/>
          <p:nvPr/>
        </p:nvSpPr>
        <p:spPr>
          <a:xfrm>
            <a:off x="1962000" y="1459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27"/>
          <p:cNvSpPr/>
          <p:nvPr/>
        </p:nvSpPr>
        <p:spPr>
          <a:xfrm>
            <a:off x="1974960" y="2224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28"/>
          <p:cNvSpPr/>
          <p:nvPr/>
        </p:nvSpPr>
        <p:spPr>
          <a:xfrm>
            <a:off x="1974960" y="3056040"/>
            <a:ext cx="228600" cy="2286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5f025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29"/>
          <p:cNvSpPr/>
          <p:nvPr/>
        </p:nvSpPr>
        <p:spPr>
          <a:xfrm>
            <a:off x="2050920" y="3732120"/>
            <a:ext cx="504216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0"/>
          <p:cNvSpPr/>
          <p:nvPr/>
        </p:nvSpPr>
        <p:spPr>
          <a:xfrm>
            <a:off x="3735360" y="3782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70b00"/>
                </a:solidFill>
                <a:latin typeface="Arial"/>
              </a:rPr>
              <a:t>年会活动流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31"/>
          <p:cNvSpPr/>
          <p:nvPr/>
        </p:nvSpPr>
        <p:spPr>
          <a:xfrm>
            <a:off x="1962000" y="384804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2"/>
          <p:cNvSpPr/>
          <p:nvPr/>
        </p:nvSpPr>
        <p:spPr>
          <a:xfrm>
            <a:off x="2050920" y="4524480"/>
            <a:ext cx="504216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3"/>
          <p:cNvSpPr/>
          <p:nvPr/>
        </p:nvSpPr>
        <p:spPr>
          <a:xfrm>
            <a:off x="3642120" y="4573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70b00"/>
                </a:solidFill>
                <a:latin typeface="Arial"/>
              </a:rPr>
              <a:t>公司简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34"/>
          <p:cNvSpPr/>
          <p:nvPr/>
        </p:nvSpPr>
        <p:spPr>
          <a:xfrm>
            <a:off x="1974960" y="464040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4"/>
          <p:cNvSpPr/>
          <p:nvPr/>
        </p:nvSpPr>
        <p:spPr>
          <a:xfrm>
            <a:off x="2050920" y="5300640"/>
            <a:ext cx="504216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1979640" y="5445000"/>
            <a:ext cx="228600" cy="2286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5f025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3"/>
          <p:cNvSpPr/>
          <p:nvPr/>
        </p:nvSpPr>
        <p:spPr>
          <a:xfrm>
            <a:off x="3680280" y="5365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70b00"/>
                </a:solidFill>
                <a:latin typeface="Arial"/>
              </a:rPr>
              <a:t>联系我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17840" y="260280"/>
            <a:ext cx="1441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70b00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476360" y="658800"/>
            <a:ext cx="2286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cc0000"/>
                    </a:gs>
                  </a:gsLst>
                  <a:lin ang="5400000"/>
                </a:gradFill>
                <a:latin typeface="方正姚体"/>
              </a:rPr>
              <a:t>年会活动目的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cc0000"/>
                  </a:gs>
                </a:gsLst>
                <a:lin ang="5400000"/>
              </a:gradFill>
              <a:latin typeface="方正姚体"/>
              <a:ea typeface="方正姚体"/>
            </a:endParaRPr>
          </a:p>
        </p:txBody>
      </p:sp>
      <p:sp>
        <p:nvSpPr>
          <p:cNvPr id="62" name="AutoShape 7"/>
          <p:cNvSpPr/>
          <p:nvPr/>
        </p:nvSpPr>
        <p:spPr>
          <a:xfrm>
            <a:off x="2124000" y="3141720"/>
            <a:ext cx="5457960" cy="9525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99cc00"/>
              </a:gs>
              <a:gs pos="100000">
                <a:srgbClr val="2a5824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8"/>
          <p:cNvSpPr/>
          <p:nvPr/>
        </p:nvSpPr>
        <p:spPr>
          <a:xfrm>
            <a:off x="3003480" y="3556080"/>
            <a:ext cx="376200" cy="250920"/>
          </a:xfrm>
          <a:prstGeom prst="rightArrow">
            <a:avLst>
              <a:gd name="adj1" fmla="val 50000"/>
              <a:gd name="adj2" fmla="val 62470"/>
            </a:avLst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9"/>
          <p:cNvSpPr/>
          <p:nvPr/>
        </p:nvSpPr>
        <p:spPr>
          <a:xfrm>
            <a:off x="2162160" y="4575240"/>
            <a:ext cx="5423040" cy="9414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333399"/>
              </a:gs>
              <a:gs pos="100000">
                <a:srgbClr val="420142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0"/>
          <p:cNvSpPr/>
          <p:nvPr/>
        </p:nvSpPr>
        <p:spPr>
          <a:xfrm>
            <a:off x="2976480" y="5040360"/>
            <a:ext cx="376200" cy="249120"/>
          </a:xfrm>
          <a:prstGeom prst="rightArrow">
            <a:avLst>
              <a:gd name="adj1" fmla="val 50000"/>
              <a:gd name="adj2" fmla="val 62921"/>
            </a:avLst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1"/>
          <p:cNvSpPr/>
          <p:nvPr/>
        </p:nvSpPr>
        <p:spPr>
          <a:xfrm>
            <a:off x="2124000" y="1685880"/>
            <a:ext cx="5457960" cy="9511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009999">
                  <a:alpha val="80000"/>
                </a:srgbClr>
              </a:gs>
              <a:gs pos="100000">
                <a:srgbClr val="72380d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2"/>
          <p:cNvSpPr/>
          <p:nvPr/>
        </p:nvSpPr>
        <p:spPr>
          <a:xfrm>
            <a:off x="2984400" y="2131920"/>
            <a:ext cx="376200" cy="250920"/>
          </a:xfrm>
          <a:prstGeom prst="rightArrow">
            <a:avLst>
              <a:gd name="adj1" fmla="val 50000"/>
              <a:gd name="adj2" fmla="val 62470"/>
            </a:avLst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3"/>
          <p:cNvSpPr/>
          <p:nvPr/>
        </p:nvSpPr>
        <p:spPr>
          <a:xfrm>
            <a:off x="1541520" y="1670040"/>
            <a:ext cx="1628640" cy="94464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009999"/>
              </a:gs>
              <a:gs pos="100000">
                <a:srgbClr val="ac5514"/>
              </a:gs>
            </a:gsLst>
            <a:lin ang="5400000"/>
          </a:gradFill>
          <a:ln w="25560">
            <a:solidFill>
              <a:srgbClr val="fefefe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14"/>
          <p:cNvSpPr/>
          <p:nvPr/>
        </p:nvSpPr>
        <p:spPr>
          <a:xfrm>
            <a:off x="1604880" y="1735200"/>
            <a:ext cx="811440" cy="473040"/>
          </a:xfrm>
          <a:custGeom>
            <a:avLst/>
            <a:gdLst>
              <a:gd name="textAreaLeft" fmla="*/ 0 w 811440"/>
              <a:gd name="textAreaRight" fmla="*/ 811800 w 81144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fbbe91"/>
              </a:gs>
              <a:gs pos="50000">
                <a:srgbClr val="009999">
                  <a:alpha val="0"/>
                </a:srgbClr>
              </a:gs>
              <a:gs pos="100000">
                <a:srgbClr val="fbbe9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5"/>
          <p:cNvSpPr/>
          <p:nvPr/>
        </p:nvSpPr>
        <p:spPr>
          <a:xfrm>
            <a:off x="1554120" y="3100320"/>
            <a:ext cx="1628640" cy="9478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99cc00"/>
              </a:gs>
              <a:gs pos="100000">
                <a:srgbClr val="408536"/>
              </a:gs>
            </a:gsLst>
            <a:lin ang="5400000"/>
          </a:gradFill>
          <a:ln w="25560">
            <a:solidFill>
              <a:srgbClr val="fefefe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16"/>
          <p:cNvSpPr/>
          <p:nvPr/>
        </p:nvSpPr>
        <p:spPr>
          <a:xfrm>
            <a:off x="1608120" y="3165480"/>
            <a:ext cx="811080" cy="474480"/>
          </a:xfrm>
          <a:custGeom>
            <a:avLst/>
            <a:gdLst>
              <a:gd name="textAreaLeft" fmla="*/ 0 w 811080"/>
              <a:gd name="textAreaRight" fmla="*/ 811440 w 811080"/>
              <a:gd name="textAreaTop" fmla="*/ 0 h 474480"/>
              <a:gd name="textAreaBottom" fmla="*/ 474840 h 474480"/>
            </a:gdLst>
            <a:ahLst/>
            <a:rect l="textAreaLeft" t="textAreaTop" r="textAreaRight" b="textAreaBottom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afdfa9"/>
              </a:gs>
              <a:gs pos="50000">
                <a:srgbClr val="99cc00">
                  <a:alpha val="0"/>
                </a:srgbClr>
              </a:gs>
              <a:gs pos="100000">
                <a:srgbClr val="afdfa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7"/>
          <p:cNvSpPr/>
          <p:nvPr/>
        </p:nvSpPr>
        <p:spPr>
          <a:xfrm>
            <a:off x="1535040" y="4565520"/>
            <a:ext cx="1629000" cy="93024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333399"/>
              </a:gs>
              <a:gs pos="100000">
                <a:srgbClr val="640264"/>
              </a:gs>
            </a:gsLst>
            <a:lin ang="5400000"/>
          </a:gradFill>
          <a:ln w="25560">
            <a:solidFill>
              <a:srgbClr val="fefefe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18"/>
          <p:cNvSpPr/>
          <p:nvPr/>
        </p:nvSpPr>
        <p:spPr>
          <a:xfrm>
            <a:off x="1589040" y="4621320"/>
            <a:ext cx="811440" cy="465120"/>
          </a:xfrm>
          <a:custGeom>
            <a:avLst/>
            <a:gdLst>
              <a:gd name="textAreaLeft" fmla="*/ 0 w 811440"/>
              <a:gd name="textAreaRight" fmla="*/ 811800 w 811440"/>
              <a:gd name="textAreaTop" fmla="*/ 0 h 465120"/>
              <a:gd name="textAreaBottom" fmla="*/ 465480 h 465120"/>
            </a:gdLst>
            <a:ahLst/>
            <a:rect l="textAreaLeft" t="textAreaTop" r="textAreaRight" b="textAreaBottom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c984c9"/>
              </a:gs>
              <a:gs pos="50000">
                <a:srgbClr val="333399">
                  <a:alpha val="0"/>
                </a:srgbClr>
              </a:gs>
              <a:gs pos="100000">
                <a:srgbClr val="c984c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0"/>
          <p:cNvSpPr/>
          <p:nvPr/>
        </p:nvSpPr>
        <p:spPr>
          <a:xfrm>
            <a:off x="3394080" y="1916280"/>
            <a:ext cx="39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感谢公司员工一年来的辛勤工作，增进领导与员工间的互动与交流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1"/>
          <p:cNvSpPr/>
          <p:nvPr/>
        </p:nvSpPr>
        <p:spPr>
          <a:xfrm>
            <a:off x="3394080" y="3343320"/>
            <a:ext cx="39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通过举办一次全新的不同感觉的年会，让员工看到公司的实力以及增强其对未来的信心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2"/>
          <p:cNvSpPr/>
          <p:nvPr/>
        </p:nvSpPr>
        <p:spPr>
          <a:xfrm>
            <a:off x="3394080" y="4797360"/>
            <a:ext cx="39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通过年会的举办，了解员工对公司未来发展的期望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1476360" y="1892160"/>
            <a:ext cx="16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ff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effff"/>
                </a:solidFill>
                <a:latin typeface="Arial"/>
              </a:rPr>
              <a:t>感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5"/>
          <p:cNvSpPr/>
          <p:nvPr/>
        </p:nvSpPr>
        <p:spPr>
          <a:xfrm>
            <a:off x="1476360" y="3357720"/>
            <a:ext cx="17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ffff"/>
                </a:solidFill>
                <a:latin typeface="Arial"/>
              </a:rPr>
              <a:t>信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6"/>
          <p:cNvSpPr/>
          <p:nvPr/>
        </p:nvSpPr>
        <p:spPr>
          <a:xfrm>
            <a:off x="1450800" y="4829040"/>
            <a:ext cx="16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ff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effff"/>
                </a:solidFill>
                <a:latin typeface="Arial"/>
              </a:rPr>
              <a:t>展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2268360" y="1915920"/>
            <a:ext cx="5832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精彩的演出和别出心裁的游戏，让岁末的聚会变成欢乐的海洋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476360" y="658800"/>
            <a:ext cx="2286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cc0000"/>
                    </a:gs>
                  </a:gsLst>
                  <a:lin ang="5400000"/>
                </a:gradFill>
                <a:latin typeface="方正姚体"/>
              </a:rPr>
              <a:t>年会关键词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cc0000"/>
                  </a:gs>
                </a:gsLst>
                <a:lin ang="5400000"/>
              </a:gradFill>
              <a:latin typeface="方正姚体"/>
              <a:ea typeface="方正姚体"/>
            </a:endParaRPr>
          </a:p>
        </p:txBody>
      </p:sp>
      <p:grpSp>
        <p:nvGrpSpPr>
          <p:cNvPr id="82" name="组合 10"/>
          <p:cNvGrpSpPr/>
          <p:nvPr/>
        </p:nvGrpSpPr>
        <p:grpSpPr>
          <a:xfrm>
            <a:off x="1116000" y="1700280"/>
            <a:ext cx="1368360" cy="960480"/>
            <a:chOff x="1116000" y="1700280"/>
            <a:chExt cx="1368360" cy="960480"/>
          </a:xfrm>
        </p:grpSpPr>
        <p:sp>
          <p:nvSpPr>
            <p:cNvPr id="83" name="椭圆 11"/>
            <p:cNvSpPr/>
            <p:nvPr/>
          </p:nvSpPr>
          <p:spPr>
            <a:xfrm>
              <a:off x="1116000" y="2307600"/>
              <a:ext cx="1368360" cy="3531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椭圆形标注 12"/>
            <p:cNvSpPr/>
            <p:nvPr/>
          </p:nvSpPr>
          <p:spPr>
            <a:xfrm>
              <a:off x="1317960" y="1700280"/>
              <a:ext cx="883440" cy="70632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椭圆 13"/>
            <p:cNvSpPr/>
            <p:nvPr/>
          </p:nvSpPr>
          <p:spPr>
            <a:xfrm>
              <a:off x="1383480" y="1729080"/>
              <a:ext cx="750600" cy="5734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6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Box 14"/>
            <p:cNvSpPr/>
            <p:nvPr/>
          </p:nvSpPr>
          <p:spPr>
            <a:xfrm>
              <a:off x="1379520" y="1861920"/>
              <a:ext cx="7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欢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组合 35"/>
          <p:cNvGrpSpPr/>
          <p:nvPr/>
        </p:nvGrpSpPr>
        <p:grpSpPr>
          <a:xfrm>
            <a:off x="1116000" y="3116160"/>
            <a:ext cx="1368360" cy="960480"/>
            <a:chOff x="1116000" y="3116160"/>
            <a:chExt cx="1368360" cy="960480"/>
          </a:xfrm>
        </p:grpSpPr>
        <p:sp>
          <p:nvSpPr>
            <p:cNvPr id="88" name="椭圆 36"/>
            <p:cNvSpPr/>
            <p:nvPr/>
          </p:nvSpPr>
          <p:spPr>
            <a:xfrm>
              <a:off x="1116000" y="3723840"/>
              <a:ext cx="1368360" cy="3528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椭圆形标注 37"/>
            <p:cNvSpPr/>
            <p:nvPr/>
          </p:nvSpPr>
          <p:spPr>
            <a:xfrm>
              <a:off x="1318320" y="3116160"/>
              <a:ext cx="882720" cy="70596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椭圆 38"/>
            <p:cNvSpPr/>
            <p:nvPr/>
          </p:nvSpPr>
          <p:spPr>
            <a:xfrm>
              <a:off x="1383120" y="3144240"/>
              <a:ext cx="750240" cy="5734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6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39"/>
            <p:cNvSpPr/>
            <p:nvPr/>
          </p:nvSpPr>
          <p:spPr>
            <a:xfrm>
              <a:off x="1392120" y="3269880"/>
              <a:ext cx="74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感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组合 25"/>
          <p:cNvGrpSpPr/>
          <p:nvPr/>
        </p:nvGrpSpPr>
        <p:grpSpPr>
          <a:xfrm>
            <a:off x="1116000" y="4680000"/>
            <a:ext cx="1295280" cy="909720"/>
            <a:chOff x="1116000" y="4680000"/>
            <a:chExt cx="1295280" cy="909720"/>
          </a:xfrm>
        </p:grpSpPr>
        <p:sp>
          <p:nvSpPr>
            <p:cNvPr id="93" name="椭圆 26"/>
            <p:cNvSpPr/>
            <p:nvPr/>
          </p:nvSpPr>
          <p:spPr>
            <a:xfrm>
              <a:off x="1116000" y="5254920"/>
              <a:ext cx="1295280" cy="3348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椭圆形标注 27"/>
            <p:cNvSpPr/>
            <p:nvPr/>
          </p:nvSpPr>
          <p:spPr>
            <a:xfrm>
              <a:off x="1307160" y="4680000"/>
              <a:ext cx="835920" cy="66852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椭圆 28"/>
            <p:cNvSpPr/>
            <p:nvPr/>
          </p:nvSpPr>
          <p:spPr>
            <a:xfrm>
              <a:off x="1369440" y="4707000"/>
              <a:ext cx="709920" cy="5439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6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29"/>
            <p:cNvSpPr/>
            <p:nvPr/>
          </p:nvSpPr>
          <p:spPr>
            <a:xfrm>
              <a:off x="1350720" y="4821120"/>
              <a:ext cx="71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希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2268360" y="3789360"/>
            <a:ext cx="6418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24000" y="4581360"/>
            <a:ext cx="6418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2268360" y="2997360"/>
            <a:ext cx="561672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过去的一年中，我们同舟共济，用团队的力量创造了一个又一个伟大的成绩！在这过程中，也有很多美好的回忆。让我们一起来把回忆重温，让些许感动，在我们心中长存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2195640" y="4581360"/>
            <a:ext cx="56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明年又是一个新的开始了，让我们在岁末的感慨中展望来年的远景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在新的一年里，我们会有新的起点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那是一种力量，帮助我们点燃心中的梦想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484360" y="1125000"/>
            <a:ext cx="38988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00    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年会工作人员签到</a:t>
            </a:r>
            <a:br>
              <a:rPr sz="1200"/>
            </a:b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    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场地布置，设备调试 </a:t>
            </a:r>
            <a:br>
              <a:rPr sz="1200"/>
            </a:b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00    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持人及演出人员签到</a:t>
            </a:r>
            <a:br>
              <a:rPr sz="1200"/>
            </a:b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0    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持人及演出人员排练</a:t>
            </a:r>
            <a:br>
              <a:rPr sz="1200"/>
            </a:b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0    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有年会演职人员会议</a:t>
            </a:r>
            <a:br>
              <a:rPr sz="1200"/>
            </a:b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00    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与酒店协调，做好迎宾准备</a:t>
            </a:r>
            <a:br>
              <a:rPr sz="1200"/>
            </a:b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0    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开场仪式</a:t>
            </a:r>
            <a:br>
              <a:rPr sz="1200"/>
            </a:b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0    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领导致词</a:t>
            </a:r>
            <a:br>
              <a:rPr sz="1200"/>
            </a:b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00    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年会晚宴开始</a:t>
            </a:r>
            <a:br>
              <a:rPr sz="1200"/>
            </a:b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0    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游戏环节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br>
              <a:rPr sz="1200"/>
            </a:b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00    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员工节目表演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br>
              <a:rPr sz="1200"/>
            </a:b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0    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抽奖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br>
              <a:rPr sz="1200"/>
            </a:b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0    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员工节目表演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br>
              <a:rPr sz="1200"/>
            </a:b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0    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游戏环节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br>
              <a:rPr sz="1200"/>
            </a:b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00    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抽奖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br>
              <a:rPr sz="1200"/>
            </a:b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0    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员工节目表演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br>
              <a:rPr sz="1200"/>
            </a:b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0    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闭幕仪式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476360" y="260280"/>
            <a:ext cx="22860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cc0000"/>
                    </a:gs>
                  </a:gsLst>
                  <a:lin ang="5400000"/>
                </a:gradFill>
                <a:latin typeface="方正姚体"/>
              </a:rPr>
              <a:t>年会时间表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cc0000"/>
                  </a:gs>
                </a:gsLst>
                <a:lin ang="5400000"/>
              </a:gradFill>
              <a:latin typeface="方正姚体"/>
              <a:ea typeface="方正姚体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C:\Documents and Settings\sally\桌面\U320P8T1D87351F62DT20040225040004.jpg"/>
          <p:cNvPicPr/>
          <p:nvPr/>
        </p:nvPicPr>
        <p:blipFill>
          <a:blip r:embed="rId2"/>
          <a:stretch/>
        </p:blipFill>
        <p:spPr>
          <a:xfrm>
            <a:off x="4913280" y="2924280"/>
            <a:ext cx="2395440" cy="1643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C:\Documents and Settings\sally\桌面\u=1832851218,4280642417&amp;gp=-10.jpg"/>
          <p:cNvPicPr/>
          <p:nvPr/>
        </p:nvPicPr>
        <p:blipFill>
          <a:blip r:embed="rId3"/>
          <a:stretch/>
        </p:blipFill>
        <p:spPr>
          <a:xfrm>
            <a:off x="1712880" y="2924280"/>
            <a:ext cx="2427480" cy="1614240"/>
          </a:xfrm>
          <a:prstGeom prst="rect">
            <a:avLst/>
          </a:prstGeom>
          <a:ln w="0">
            <a:noFill/>
          </a:ln>
        </p:spPr>
      </p:pic>
      <p:sp>
        <p:nvSpPr>
          <p:cNvPr id="105" name="右箭头 9"/>
          <p:cNvSpPr/>
          <p:nvPr/>
        </p:nvSpPr>
        <p:spPr>
          <a:xfrm>
            <a:off x="4284720" y="3573360"/>
            <a:ext cx="574560" cy="357120"/>
          </a:xfrm>
          <a:prstGeom prst="rightArrow">
            <a:avLst>
              <a:gd name="adj1" fmla="val 50000"/>
              <a:gd name="adj2" fmla="val 80444"/>
            </a:avLst>
          </a:prstGeom>
          <a:solidFill>
            <a:srgbClr val="7575d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2266920" y="2349360"/>
            <a:ext cx="151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领取许愿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1403280" y="1052640"/>
            <a:ext cx="277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员工签到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7:00-17: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3"/>
          <p:cNvSpPr/>
          <p:nvPr/>
        </p:nvSpPr>
        <p:spPr>
          <a:xfrm>
            <a:off x="5435640" y="234936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签到墙签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476360" y="260280"/>
            <a:ext cx="22860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cc0000"/>
                    </a:gs>
                  </a:gsLst>
                  <a:lin ang="5400000"/>
                </a:gradFill>
                <a:latin typeface="方正姚体"/>
              </a:rPr>
              <a:t>年会活动流程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cc0000"/>
                  </a:gs>
                </a:gsLst>
                <a:lin ang="5400000"/>
              </a:gradFill>
              <a:latin typeface="方正姚体"/>
              <a:ea typeface="方正姚体"/>
            </a:endParaRPr>
          </a:p>
        </p:txBody>
      </p:sp>
    </p:spTree>
  </p:cSld>
  <p:transition spd="med">
    <p:comb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116000" y="1699920"/>
            <a:ext cx="352728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在年会的一开始，我们首先将营造一个喜庆热烈的气氛，当然仅做到这一点还远远不够，我们会利用图像，音乐和灯光等手段，带领大家一起回忆那属于我们每一个人的“闪亮的日子”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1403280" y="1052640"/>
            <a:ext cx="277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场仪式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7:30-17: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2" descr="弦之尚"/>
          <p:cNvPicPr/>
          <p:nvPr/>
        </p:nvPicPr>
        <p:blipFill>
          <a:blip r:embed="rId2"/>
          <a:stretch/>
        </p:blipFill>
        <p:spPr>
          <a:xfrm>
            <a:off x="1476360" y="3933720"/>
            <a:ext cx="2808360" cy="2160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643280" y="3933720"/>
            <a:ext cx="2951280" cy="2148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4859280" y="836640"/>
            <a:ext cx="2592360" cy="28796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331640" y="1628640"/>
            <a:ext cx="633564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一年的工作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我们的成效如何？未来的征途，我们如何跋涉？我们生活在一个温暖的集体中，我们相互依靠，我们共同战斗。是什么让我们凝聚在一起？企业的带头人激励我们：一起拼搏，共享成果！因为，我们为彼此而战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1403280" y="1052640"/>
            <a:ext cx="277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领导致词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7:50-18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rcRect l="19721" t="18189" r="10564" b="0"/>
          <a:stretch/>
        </p:blipFill>
        <p:spPr>
          <a:xfrm>
            <a:off x="4572000" y="3324240"/>
            <a:ext cx="3168720" cy="2481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rcRect l="0" t="12293" r="0" b="0"/>
          <a:stretch/>
        </p:blipFill>
        <p:spPr>
          <a:xfrm>
            <a:off x="1403280" y="3306600"/>
            <a:ext cx="3060720" cy="24987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61560" y="1600200"/>
            <a:ext cx="692316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　　一年了，我们忙碌，我们创造，我们成功。在这过程中，你是否忽视了一些身边的同事，忘记了多给他们一些关怀，倾听他们的感受，分担他们的忧愁？让我们打开心扉，将彼此的心靠的紧一些吧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!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伙伴们共聚一堂，畅谈一年来的各种感受，杯盏里满载着美酒，美酒里沉浸着同事之间的美好情谊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1403280" y="1052640"/>
            <a:ext cx="277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会晚宴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8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0" t="8598" r="0" b="0"/>
          <a:stretch/>
        </p:blipFill>
        <p:spPr>
          <a:xfrm>
            <a:off x="2529000" y="3435480"/>
            <a:ext cx="3771720" cy="2298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03:55:52Z</dcterms:created>
  <dc:creator>微软用户</dc:creator>
  <dc:description/>
  <dc:language>en-US</dc:language>
  <cp:lastModifiedBy>admin</cp:lastModifiedBy>
  <dcterms:modified xsi:type="dcterms:W3CDTF">2015-03-11T09:00:50Z</dcterms:modified>
  <cp:revision>78</cp:revision>
  <dc:subject/>
  <dc:title>幻灯片 1</dc:title>
</cp:coreProperties>
</file>