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CB2-ED9C-4E06-A440-63C11F0D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2A6-9846-44CC-9296-602D025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D7D-93D4-4642-AA5A-AB681F34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560-EA9E-4F47-BC9A-C9A9CFF5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39A-FA51-4106-B9C1-6ADBAD9E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0E4-823A-4522-B252-F7183BA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96B-F698-4EF6-8F02-9913560F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FA4-4A0E-449A-8C83-5116E265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099-3433-476D-BA01-3CE066BF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E92-C61E-4CBD-BD95-722C3C9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343-F3C0-4CC6-8DEF-D0984247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B03-2352-45E5-A12F-41BB830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617C-1578-4A70-BD49-9B04C6F838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8216-D965-4C7E-89E8-8F559CF1D6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 rot="10992000">
            <a:off x="5146200" y="4376880"/>
            <a:ext cx="1297080" cy="317520"/>
          </a:xfrm>
          <a:prstGeom prst="rect">
            <a:avLst/>
          </a:prstGeom>
          <a:ln w="0">
            <a:noFill/>
          </a:ln>
        </p:spPr>
      </p:pic>
      <p:pic>
        <p:nvPicPr>
          <p:cNvPr id="42" name="5" descr=""/>
          <p:cNvPicPr/>
          <p:nvPr/>
        </p:nvPicPr>
        <p:blipFill>
          <a:blip r:embed="rId2"/>
          <a:stretch/>
        </p:blipFill>
        <p:spPr>
          <a:xfrm rot="8625600">
            <a:off x="4797360" y="2825280"/>
            <a:ext cx="1238400" cy="687600"/>
          </a:xfrm>
          <a:prstGeom prst="rect">
            <a:avLst/>
          </a:prstGeom>
          <a:ln w="0">
            <a:noFill/>
          </a:ln>
        </p:spPr>
      </p:pic>
      <p:pic>
        <p:nvPicPr>
          <p:cNvPr id="43" name="3" descr=""/>
          <p:cNvPicPr/>
          <p:nvPr/>
        </p:nvPicPr>
        <p:blipFill>
          <a:blip r:embed="rId3"/>
          <a:stretch/>
        </p:blipFill>
        <p:spPr>
          <a:xfrm rot="5955000">
            <a:off x="3917160" y="1982520"/>
            <a:ext cx="17989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10" descr=""/>
          <p:cNvPicPr/>
          <p:nvPr/>
        </p:nvPicPr>
        <p:blipFill>
          <a:blip r:embed="rId4"/>
          <a:stretch/>
        </p:blipFill>
        <p:spPr>
          <a:xfrm rot="1887600">
            <a:off x="6235200" y="1600200"/>
            <a:ext cx="538200" cy="298440"/>
          </a:xfrm>
          <a:prstGeom prst="rect">
            <a:avLst/>
          </a:prstGeom>
          <a:ln w="0">
            <a:noFill/>
          </a:ln>
        </p:spPr>
      </p:pic>
      <p:pic>
        <p:nvPicPr>
          <p:cNvPr id="45" name="9" descr=""/>
          <p:cNvPicPr/>
          <p:nvPr/>
        </p:nvPicPr>
        <p:blipFill>
          <a:blip r:embed="rId5"/>
          <a:stretch/>
        </p:blipFill>
        <p:spPr>
          <a:xfrm rot="5064000">
            <a:off x="6800760" y="2493720"/>
            <a:ext cx="695160" cy="384480"/>
          </a:xfrm>
          <a:prstGeom prst="rect">
            <a:avLst/>
          </a:prstGeom>
          <a:ln w="0">
            <a:noFill/>
          </a:ln>
        </p:spPr>
      </p:pic>
      <p:pic>
        <p:nvPicPr>
          <p:cNvPr id="46" name="8" descr=""/>
          <p:cNvPicPr/>
          <p:nvPr/>
        </p:nvPicPr>
        <p:blipFill>
          <a:blip r:embed="rId6"/>
          <a:stretch/>
        </p:blipFill>
        <p:spPr>
          <a:xfrm rot="7322400">
            <a:off x="6735960" y="3490200"/>
            <a:ext cx="825840" cy="458640"/>
          </a:xfrm>
          <a:prstGeom prst="rect">
            <a:avLst/>
          </a:prstGeom>
          <a:ln w="0">
            <a:noFill/>
          </a:ln>
        </p:spPr>
      </p:pic>
      <p:pic>
        <p:nvPicPr>
          <p:cNvPr id="47" name="4" descr=""/>
          <p:cNvPicPr/>
          <p:nvPr/>
        </p:nvPicPr>
        <p:blipFill>
          <a:blip r:embed="rId7"/>
          <a:stretch/>
        </p:blipFill>
        <p:spPr>
          <a:xfrm rot="9582000">
            <a:off x="5236920" y="3870360"/>
            <a:ext cx="1296720" cy="720720"/>
          </a:xfrm>
          <a:prstGeom prst="rect">
            <a:avLst/>
          </a:prstGeom>
          <a:ln w="0">
            <a:noFill/>
          </a:ln>
        </p:spPr>
      </p:pic>
      <p:pic>
        <p:nvPicPr>
          <p:cNvPr id="48" name="7" descr=""/>
          <p:cNvPicPr/>
          <p:nvPr/>
        </p:nvPicPr>
        <p:blipFill>
          <a:blip r:embed="rId8"/>
          <a:stretch/>
        </p:blipFill>
        <p:spPr>
          <a:xfrm rot="5585400">
            <a:off x="5542200" y="2890800"/>
            <a:ext cx="1295280" cy="720720"/>
          </a:xfrm>
          <a:prstGeom prst="rect">
            <a:avLst/>
          </a:prstGeom>
          <a:ln w="0">
            <a:noFill/>
          </a:ln>
        </p:spPr>
      </p:pic>
      <p:pic>
        <p:nvPicPr>
          <p:cNvPr id="49" name="2" descr=""/>
          <p:cNvPicPr/>
          <p:nvPr/>
        </p:nvPicPr>
        <p:blipFill>
          <a:blip r:embed="rId9"/>
          <a:stretch/>
        </p:blipFill>
        <p:spPr>
          <a:xfrm rot="13620600">
            <a:off x="4045680" y="3191760"/>
            <a:ext cx="1873440" cy="1039680"/>
          </a:xfrm>
          <a:prstGeom prst="rect">
            <a:avLst/>
          </a:prstGeom>
          <a:ln w="0">
            <a:noFill/>
          </a:ln>
        </p:spPr>
      </p:pic>
      <p:pic>
        <p:nvPicPr>
          <p:cNvPr id="50" name="1" descr=""/>
          <p:cNvPicPr/>
          <p:nvPr/>
        </p:nvPicPr>
        <p:blipFill>
          <a:blip r:embed="rId10"/>
          <a:stretch/>
        </p:blipFill>
        <p:spPr>
          <a:xfrm rot="17945400">
            <a:off x="3663000" y="2635920"/>
            <a:ext cx="192240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大叶" descr=""/>
          <p:cNvPicPr/>
          <p:nvPr/>
        </p:nvPicPr>
        <p:blipFill>
          <a:blip r:embed="rId11"/>
          <a:stretch/>
        </p:blipFill>
        <p:spPr>
          <a:xfrm rot="17945400">
            <a:off x="3707640" y="-3137760"/>
            <a:ext cx="45892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53 -0.19884 C 0.09948 -0.19954 0.11002 -0.20139 0.11771 -0.20162 C 0.12617 -0.20139 0.13893 -0.19699 0.14557 -0.19375 C 0.14961 -0.19121 0.15429 -0.18866 0.15872 -0.18519 C 0.16354 -0.18171 0.16849 -0.17778 0.17409 -0.17153 C 0.17877 -0.16644 0.18633 -0.15718 0.19258 -0.14699 C 0.197 -0.13773 0.20651 -0.11829 0.21106 -0.10556 C 0.21328 -0.09769 0.21497 -0.09259 0.21901 -0.0757 C 0.22122 -0.06204 0.2263 -0.03056 0.22747 0.00069 C 0.22747 0.02708 0.2207 0.07199 0.21432 0.09398 C 0.20976 0.10509 0.20612 0.1206 0.19935 0.13403 C 0.19401 0.14167 0.18489 0.15879 0.17669 0.16805 C 0.16979 0.17546 0.16041 0.18588 0.14961 0.19259 C 0.13997 0.19676 0.12773 0.20208 0.11679 0.20254 C 0.10612 0.20278 0.09362 0.19768 0.08476 0.19583 L 0.07018 0.18588 C 0.0681 0.18495 0.06224 0.17917 0.06015 0.17801 C 0.05325 0.1706 0.04648 0.16204 0.04062 0.15278 C 0.03698 0.14768 0.03203 0.14167 0.03021 0.13588 C 0.02578 0.12893 0.02018 0.11111 0.01614 0.10347 C 0.01354 0.0956 0.01067 0.08403 0.0095 0.07801 C 0.00599 0.06944 0.00247 0.04907 0.0013 0.03634 C 0.00065 0.03194 0.00052 0.02292 -0.00026 0.01852 C 0.00013 0.0169 -0.00104 1.48148E-006 -0.00039 1.48148E-006 E">
                                      <p:cBhvr>
                                        <p:cTn id="9" dur="2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6667 -0.27176 C 0.06667 -0.27152 0.06823 -0.26782 0.06823 -0.26759 C 0.07344 -0.27199 0.08464 -0.27639 0.09258 -0.27893 C 0.10052 -0.28148 0.10782 -0.28356 0.11602 -0.28287 C 0.12292 -0.28078 0.13164 -0.27986 0.14154 -0.27523 C 0.14766 -0.27176 0.16185 -0.25995 0.16355 -0.25995 C 0.16849 -0.25601 0.18555 -0.23402 0.19193 -0.2206 C 0.19987 -0.20926 0.20717 -0.18634 0.2112 -0.17639 C 0.21641 -0.15717 0.22084 -0.12731 0.22292 -0.1081 C 0.22435 -0.09976 0.22409 -0.06689 0.22318 -0.05833 C 0.22188 -0.03495 0.2168 -0.01134 0.21198 0.00903 C 0.20769 0.02639 0.19857 0.04607 0.19193 0.05949 C 0.18646 0.07199 0.17683 0.08218 0.17136 0.08959 C 0.16771 0.09399 0.16146 0.10047 0.15743 0.10324 C 0.15443 0.10857 0.15079 0.10926 0.14649 0.11181 C 0.14232 0.11436 0.14115 0.11783 0.13204 0.11875 C 0.12214 0.11968 0.10222 0.12246 0.08724 0.11736 C 0.07331 0.11459 0.06159 0.10232 0.05144 0.09167 C 0.03816 0.075 0.03633 0.07292 0.02487 0.0544 C 0.02305 0.05348 0.01485 0.02431 0.01368 0.02431 L 0.01368 0.02454 E">
                                      <p:cBhvr>
                                        <p:cTn id="22" dur="225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24" dur="1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mph" presetID="32">
                                  <p:stCondLst>
                                    <p:cond delay="1750"/>
                                  </p:stCondLst>
                                  <p:childTnLst>
                                    <p:animRot by="120000">
                                      <p:cBhvr>
                                        <p:cTn id="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8229 -0.09259 C 0.0875 -0.09167 0.09818 -0.09537 0.10912 -0.0919 C 0.11979 -0.08843 0.13711 -0.07894 0.1457 -0.07153 C 0.15703 -0.06088 0.16914 -0.04028 0.17839 -0.02431 C 0.18607 -0.00857 0.19414 0.01736 0.19766 0.02963 C 0.20013 0.03889 0.2043 0.06342 0.20495 0.0706 C 0.20638 0.08194 0.20716 0.11366 0.20664 0.12592 C 0.20534 0.14629 0.20195 0.17523 0.19883 0.18796 C 0.19505 0.20416 0.18359 0.23565 0.17721 0.24815 C 0.17149 0.26065 0.16537 0.26829 0.16133 0.2743 C 0.15039 0.2875 0.13412 0.30324 0.10964 0.31157 C 0.10391 0.31273 0.0806 0.3125 0.07513 0.30972 C 0.06576 0.30694 0.05039 0.29606 0.0457 0.29282 C 0.03789 0.2868 0.03268 0.28194 0.02748 0.27245 C 0.01836 0.26227 0.00573 0.23518 -0.00091 0.21805 C -0.0043 0.21065 -0.01263 0.1743 -0.01445 0.16041 C -0.0151 0.1537 -0.01823 0.11852 -0.01836 0.11134 C -0.01901 0.09305 -0.01432 0.0618 -0.01198 0.04444 C -0.00885 0.02662 -0.00299 0.00926 -1.04167E-006 1.85185E-006 E">
                                      <p:cBhvr>
                                        <p:cTn id="35" dur="2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37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34 -0.36551 C -2.29166999999968E-006 -0.36574 0.00404 -0.3669 0.0125 -0.36574 C 0.02097 -0.3632 0.03802 -0.35764 0.04571 -0.35139 C 0.05781 -0.33982 0.07969 -0.31273 0.08516 -0.29653 C 0.09479 -0.27593 0.10209 -0.24051 0.10391 -0.22685 C 0.10834 -0.20116 0.10677 -0.16505 0.10456 -0.14283 C 0.10209 -0.12639 0.0987 -0.10671 0.09232 -0.08935 C 0.08594 -0.07292 0.07656 -0.05278 0.06719 -0.03935 C 0.05834 -0.02685 0.04805 -0.01875 0.03972 -0.0125 C 0.03125 -0.00648 0.0237 -0.00301 0.01693 -0.00209 C 0.00443 1.85184999999984E-006 0.01081 -0.00116 -0.00065 -0.00116 L -0.00065 -0.00023 E">
                                      <p:cBhvr>
                                        <p:cTn id="48" dur="2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50" dur="1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32">
                                  <p:stCondLst>
                                    <p:cond delay="2250"/>
                                  </p:stCondLst>
                                  <p:childTnLst>
                                    <p:animRot by="120000">
                                      <p:cBhvr>
                                        <p:cTn id="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3138 -0.22083 C 0.0362 -0.22176 0.05117 -0.22431 0.05521 -0.22431 C 0.06445 -0.22408 0.07539 -0.22408 0.08542 -0.21852 C 0.09544 -0.21296 0.11081 -0.20347 0.11719 -0.19468 C 0.128 -0.18125 0.14675 -0.15208 0.15156 -0.13542 C 0.15977 -0.11621 0.16497 -0.08773 0.16667 -0.07616 C 0.16901 -0.05602 0.17122 -0.03148 0.1707 -0.01597 C 0.17018 0.00417 0.16693 0.02917 0.16315 0.04907 C 0.15846 0.06898 0.14792 0.1 0.14245 0.11111 C 0.13386 0.12917 0.1194 0.14815 0.11185 0.15602 C 0.10195 0.16713 0.09323 0.17129 0.0832 0.17523 C 0.07292 0.17986 0.05886 0.18125 0.05104 0.18125 C 0.04076 0.18125 0.02826 0.17523 0.02266 0.17268 C 0.01432 0.16875 0.00521 0.16319 0.00091 0.15787 C -0.00469 0.14653 -0.00846 0.1206 -0.01094 0.10555 C -0.01198 0.09745 -0.01393 0.08333 -0.01341 0.06736 C -0.01289 0.05092 -0.0125 0.02222 -0.00768 0.00717 C -0.00586 0.00417 -0.00052 -0.0007 -0.00052 0.00069 L -0.00052 -0.0007 E">
                                      <p:cBhvr>
                                        <p:cTn id="61" dur="2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63" dur="1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32">
                                  <p:stCondLst>
                                    <p:cond delay="2250"/>
                                  </p:stCondLst>
                                  <p:childTnLst>
                                    <p:animRot by="12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52 -0.43287 C 0.00391 -0.43356 0.01159 -0.43472 0.01927 -0.43333 C 0.0276 -0.43194 0.03516 -0.42986 0.04518 -0.425 C 0.0556 -0.42014 0.07305 -0.40278 0.08034 -0.39514 C 0.09141 -0.38194 0.10495 -0.35833 0.10912 -0.34606 C 0.11771 -0.32592 0.12813 -0.28657 0.12917 -0.27407 C 0.13333 -0.2537 0.13398 -0.24028 0.13464 -0.2213 C 0.13464 -0.19491 0.13164 -0.15579 0.12539 -0.12708 C 0.12539 -0.12616 0.11146 -0.08403 0.11081 -0.08148 C 0.10391 -0.06852 0.09622 -0.05278 0.08789 -0.0412 C 0.07956 -0.02963 0.06667 -0.01759 0.06081 -0.01273 C 0.04935 -0.0037 0.03763 0.00139 0.0237 0.00486 C 0.01263 0.00556 0.00742 0.00162 -0.00065 -0.00023 L -0.00065 -1.11111E-006 E">
                                      <p:cBhvr>
                                        <p:cTn id="74" dur="22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76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306 -0.21388 C -0.01653 -0.21481 -0.00364 -0.20995 0.00912 -0.20301 C 0.02188 -0.1956 0.03477 -0.17893 0.04193 -0.17152 C 0.05117 -0.15833 0.06224 -0.13588 0.0668 -0.12546 C 0.07318 -0.11111 0.07774 -0.09699 0.07943 -0.08541 C 0.08321 -0.06851 0.0888 -0.0375 0.08933 -0.025 C 0.08581 -0.00231 0.09037 0.02639 0.05912 0.0507 C 0.04831 0.05787 0.03255 0.05232 0.02617 0.04931 C 0.02383 0.04838 0.02005 0.04537 0.01888 0.04352 C 0.01524 0.03797 0.00729 0.02338 0.0043 0.01598 C 0.00274 0.01042 0.00183 0.00487 -2.08333E-006 -0.00069 L -2.08333E-006 -0.00046 E">
                                      <p:cBhvr>
                                        <p:cTn id="87" dur="22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89" dur="1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32">
                                  <p:stCondLst>
                                    <p:cond delay="2750"/>
                                  </p:stCondLst>
                                  <p:childTnLst>
                                    <p:animRot by="120000">
                                      <p:cBhvr>
                                        <p:cTn id="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11094 -0.31389 C -0.10182 -0.31343 -0.08906 -0.31273 -0.07448 -0.30648 C -0.06198 -0.30023 -0.04805 -0.29074 -0.0362 -0.27523 C -0.02474 -0.26019 -0.01016 -0.23241 -0.00352 -0.21435 L 0.00247 -0.19792 C 0.00495 -0.18866 0.00924 -0.16597 0.01185 -0.15532 C 0.01419 -0.13912 0.01523 -0.11458 0.01627 -0.09699 C 0.01653 -0.0794 0.01328 -0.0581 0.01276 -0.04745 C 0.01107 -0.0331 0.00807 -0.01875 0.00612 -0.01065 C 0.00469 -0.0088 0.00117 3.70370000000011E-007 0.00117 0.00023 L -0.00039 3.7037E-007 E">
                                      <p:cBhvr>
                                        <p:cTn id="100" dur="225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10800000">
                                      <p:cBhvr>
                                        <p:cTn id="102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32">
                                  <p:stCondLst>
                                    <p:cond delay="3000"/>
                                  </p:stCondLst>
                                  <p:childTnLst>
                                    <p:animRot by="12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10768 -0.1625 C -0.10052 -0.1625 -0.08373 -0.16158 -0.07253 -0.1551 C -0.06211 -0.15139 -0.05794 -0.14561 -0.04974 -0.14005 C -0.03972 -0.12871 -0.02969 -0.11829 -0.02201 -0.1051 C -0.01393 -0.0926 -0.00599 -0.07107 -0.00235 -0.06181 C 0.00221 -0.04954 0.00586 -0.04074 0.00625 -0.03033 C 0.00377 -0.01829 -0.00078 -0.01065 -0.00078 -0.00116 L -0.00078 3.33333E-006 E">
                                      <p:cBhvr>
                                        <p:cTn id="113" dur="2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10800000">
                                      <p:cBhvr>
                                        <p:cTn id="115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32">
                                  <p:stCondLst>
                                    <p:cond delay="3250"/>
                                  </p:stCondLst>
                                  <p:childTnLst>
                                    <p:animRot by="12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5729 -0.02592 C -0.04752 -0.02592 -0.03854 -0.02592 -0.01614 -0.01736 C -0.00664 -0.01319 -0.00273 -0.00393 -3.54167E-006 -0.00092 L -3.54167E-006 -2.59259E-006 E">
                                      <p:cBhvr>
                                        <p:cTn id="12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128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mph" presetID="32">
                                  <p:stCondLst>
                                    <p:cond delay="4000"/>
                                  </p:stCondLst>
                                  <p:childTnLst>
                                    <p:animRot by="120000">
                                      <p:cBhvr>
                                        <p:cTn id="1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250"/>
                            </p:stCondLst>
                            <p:childTnLst>
                              <p:par>
                                <p:cTn id="13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37" dur="3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1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42" dur="3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1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47" dur="3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1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52" dur="3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1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57" dur="3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1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2" dur="3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1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67" dur="3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10">
                                  <p:stCondLst>
                                    <p:cond delay="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1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72" dur="3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1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77" dur="3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xit" presetID="10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1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82" dur="3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" dur="1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0393 L 0.00781 0.77176 E">
                                      <p:cBhvr>
                                        <p:cTn id="187" dur="6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mph" presetID="32">
                                  <p:stCondLst>
                                    <p:cond delay="100"/>
                                  </p:stCondLst>
                                  <p:childTnLst>
                                    <p:animRot by="120000">
                                      <p:cBhvr>
                                        <p:cTn id="189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1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15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1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2"/>
          <p:cNvSpPr/>
          <p:nvPr/>
        </p:nvSpPr>
        <p:spPr>
          <a:xfrm>
            <a:off x="4703040" y="2932200"/>
            <a:ext cx="42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ee22"/>
                </a:solidFill>
                <a:latin typeface="TypeLand 康熙字典體"/>
                <a:ea typeface="TypeLand 康熙字典體"/>
              </a:rPr>
              <a:t>2015</a:t>
            </a:r>
            <a:r>
              <a:rPr b="0" lang="zh-CN" sz="3600" spc="-1" strike="noStrike">
                <a:solidFill>
                  <a:srgbClr val="cdee22"/>
                </a:solidFill>
                <a:latin typeface="TypeLand 康熙字典體"/>
                <a:ea typeface="TypeLand 康熙字典體"/>
              </a:rPr>
              <a:t>年商务汇报</a:t>
            </a:r>
            <a:r>
              <a:rPr b="0" lang="en-US" sz="3600" spc="-1" strike="noStrike">
                <a:solidFill>
                  <a:srgbClr val="cdee22"/>
                </a:solidFill>
                <a:latin typeface="TypeLand 康熙字典體"/>
                <a:ea typeface="TypeLand 康熙字典體"/>
              </a:rPr>
              <a:t>PPT</a:t>
            </a:r>
            <a:r>
              <a:rPr b="0" lang="zh-CN" sz="3600" spc="-1" strike="noStrike">
                <a:solidFill>
                  <a:srgbClr val="cdee22"/>
                </a:solidFill>
                <a:latin typeface="TypeLand 康熙字典體"/>
                <a:ea typeface="TypeLand 康熙字典體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6" descr=""/>
          <p:cNvPicPr/>
          <p:nvPr/>
        </p:nvPicPr>
        <p:blipFill>
          <a:blip r:embed="rId1"/>
          <a:stretch/>
        </p:blipFill>
        <p:spPr>
          <a:xfrm rot="10992000">
            <a:off x="5146200" y="4376880"/>
            <a:ext cx="129708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5" descr=""/>
          <p:cNvPicPr/>
          <p:nvPr/>
        </p:nvPicPr>
        <p:blipFill>
          <a:blip r:embed="rId2"/>
          <a:stretch/>
        </p:blipFill>
        <p:spPr>
          <a:xfrm rot="8625600">
            <a:off x="4797360" y="2825280"/>
            <a:ext cx="1238400" cy="687600"/>
          </a:xfrm>
          <a:prstGeom prst="rect">
            <a:avLst/>
          </a:prstGeom>
          <a:ln w="0">
            <a:noFill/>
          </a:ln>
        </p:spPr>
      </p:pic>
      <p:pic>
        <p:nvPicPr>
          <p:cNvPr id="55" name="3" descr=""/>
          <p:cNvPicPr/>
          <p:nvPr/>
        </p:nvPicPr>
        <p:blipFill>
          <a:blip r:embed="rId3"/>
          <a:stretch/>
        </p:blipFill>
        <p:spPr>
          <a:xfrm rot="5955000">
            <a:off x="3917160" y="1982520"/>
            <a:ext cx="1798920" cy="998640"/>
          </a:xfrm>
          <a:prstGeom prst="rect">
            <a:avLst/>
          </a:prstGeom>
          <a:ln w="0">
            <a:noFill/>
          </a:ln>
        </p:spPr>
      </p:pic>
      <p:pic>
        <p:nvPicPr>
          <p:cNvPr id="56" name="10" descr=""/>
          <p:cNvPicPr/>
          <p:nvPr/>
        </p:nvPicPr>
        <p:blipFill>
          <a:blip r:embed="rId4"/>
          <a:stretch/>
        </p:blipFill>
        <p:spPr>
          <a:xfrm rot="1887600">
            <a:off x="6235200" y="1600200"/>
            <a:ext cx="538200" cy="298440"/>
          </a:xfrm>
          <a:prstGeom prst="rect">
            <a:avLst/>
          </a:prstGeom>
          <a:ln w="0">
            <a:noFill/>
          </a:ln>
        </p:spPr>
      </p:pic>
      <p:pic>
        <p:nvPicPr>
          <p:cNvPr id="57" name="9" descr=""/>
          <p:cNvPicPr/>
          <p:nvPr/>
        </p:nvPicPr>
        <p:blipFill>
          <a:blip r:embed="rId5"/>
          <a:stretch/>
        </p:blipFill>
        <p:spPr>
          <a:xfrm rot="5064000">
            <a:off x="6800760" y="2493720"/>
            <a:ext cx="695160" cy="384480"/>
          </a:xfrm>
          <a:prstGeom prst="rect">
            <a:avLst/>
          </a:prstGeom>
          <a:ln w="0">
            <a:noFill/>
          </a:ln>
        </p:spPr>
      </p:pic>
      <p:pic>
        <p:nvPicPr>
          <p:cNvPr id="58" name="8" descr=""/>
          <p:cNvPicPr/>
          <p:nvPr/>
        </p:nvPicPr>
        <p:blipFill>
          <a:blip r:embed="rId6"/>
          <a:stretch/>
        </p:blipFill>
        <p:spPr>
          <a:xfrm rot="7322400">
            <a:off x="6735960" y="3490200"/>
            <a:ext cx="825840" cy="458640"/>
          </a:xfrm>
          <a:prstGeom prst="rect">
            <a:avLst/>
          </a:prstGeom>
          <a:ln w="0">
            <a:noFill/>
          </a:ln>
        </p:spPr>
      </p:pic>
      <p:pic>
        <p:nvPicPr>
          <p:cNvPr id="59" name="4" descr=""/>
          <p:cNvPicPr/>
          <p:nvPr/>
        </p:nvPicPr>
        <p:blipFill>
          <a:blip r:embed="rId7"/>
          <a:stretch/>
        </p:blipFill>
        <p:spPr>
          <a:xfrm rot="9582000">
            <a:off x="5236920" y="3870360"/>
            <a:ext cx="129672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7" descr=""/>
          <p:cNvPicPr/>
          <p:nvPr/>
        </p:nvPicPr>
        <p:blipFill>
          <a:blip r:embed="rId8"/>
          <a:stretch/>
        </p:blipFill>
        <p:spPr>
          <a:xfrm rot="5585400">
            <a:off x="5542200" y="2890800"/>
            <a:ext cx="129528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2" descr=""/>
          <p:cNvPicPr/>
          <p:nvPr/>
        </p:nvPicPr>
        <p:blipFill>
          <a:blip r:embed="rId9"/>
          <a:stretch/>
        </p:blipFill>
        <p:spPr>
          <a:xfrm rot="13620600">
            <a:off x="4045680" y="3191760"/>
            <a:ext cx="1873440" cy="1039680"/>
          </a:xfrm>
          <a:prstGeom prst="rect">
            <a:avLst/>
          </a:prstGeom>
          <a:ln w="0">
            <a:noFill/>
          </a:ln>
        </p:spPr>
      </p:pic>
      <p:pic>
        <p:nvPicPr>
          <p:cNvPr id="62" name="1" descr=""/>
          <p:cNvPicPr/>
          <p:nvPr/>
        </p:nvPicPr>
        <p:blipFill>
          <a:blip r:embed="rId10"/>
          <a:stretch/>
        </p:blipFill>
        <p:spPr>
          <a:xfrm rot="17945400">
            <a:off x="3663000" y="2635920"/>
            <a:ext cx="1922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53 -0.19884 C 0.09948 -0.19954 0.11002 -0.20139 0.11771 -0.20162 C 0.12617 -0.20139 0.13893 -0.19699 0.14557 -0.19375 C 0.14961 -0.19121 0.15429 -0.18866 0.15872 -0.18519 C 0.16354 -0.18171 0.16849 -0.17778 0.17409 -0.17153 C 0.17877 -0.16644 0.18633 -0.15718 0.19258 -0.14699 C 0.197 -0.13773 0.20651 -0.11829 0.21106 -0.10556 C 0.21328 -0.09769 0.21497 -0.09259 0.21901 -0.0757 C 0.22122 -0.06204 0.2263 -0.03056 0.22747 0.00069 C 0.22747 0.02708 0.2207 0.07199 0.21432 0.09398 C 0.20976 0.10509 0.20612 0.1206 0.19935 0.13403 C 0.19401 0.14167 0.18489 0.15879 0.17669 0.16805 C 0.16979 0.17546 0.16041 0.18588 0.14961 0.19259 C 0.13997 0.19676 0.12773 0.20208 0.11679 0.20254 C 0.10612 0.20278 0.09362 0.19768 0.08476 0.19583 L 0.07018 0.18588 C 0.0681 0.18495 0.06224 0.17917 0.06015 0.17801 C 0.05325 0.1706 0.04648 0.16204 0.04062 0.15278 C 0.03698 0.14768 0.03203 0.14167 0.03021 0.13588 C 0.02578 0.12893 0.02018 0.11111 0.01614 0.10347 C 0.01354 0.0956 0.01067 0.08403 0.0095 0.07801 C 0.00599 0.06944 0.00247 0.04907 0.0013 0.03634 C 0.00065 0.03194 0.00052 0.02292 -0.00026 0.01852 C 0.00013 0.0169 -0.00104 1.48148E-006 -0.00039 1.48148E-006 E">
                                      <p:cBhvr>
                                        <p:cTn id="202" dur="22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4" dur="1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Rot by="120000">
                                      <p:cBhvr>
                                        <p:cTn id="2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6667 -0.27176 C 0.06667 -0.27152 0.06823 -0.26782 0.06823 -0.26759 C 0.07344 -0.27199 0.08464 -0.27639 0.09258 -0.27893 C 0.10052 -0.28148 0.10782 -0.28356 0.11602 -0.28287 C 0.12292 -0.28078 0.13164 -0.27986 0.14154 -0.27523 C 0.14766 -0.27176 0.16185 -0.25995 0.16355 -0.25995 C 0.16849 -0.25601 0.18555 -0.23402 0.19193 -0.2206 C 0.19987 -0.20926 0.20717 -0.18634 0.2112 -0.17639 C 0.21641 -0.15717 0.22084 -0.12731 0.22292 -0.1081 C 0.22435 -0.09976 0.22409 -0.06689 0.22318 -0.05833 C 0.22188 -0.03495 0.2168 -0.01134 0.21198 0.00903 C 0.20769 0.02639 0.19857 0.04607 0.19193 0.05949 C 0.18646 0.07199 0.17683 0.08218 0.17136 0.08959 C 0.16771 0.09399 0.16146 0.10047 0.15743 0.10324 C 0.15443 0.10857 0.15079 0.10926 0.14649 0.11181 C 0.14232 0.11436 0.14115 0.11783 0.13204 0.11875 C 0.12214 0.11968 0.10222 0.12246 0.08724 0.11736 C 0.07331 0.11459 0.06159 0.10232 0.05144 0.09167 C 0.03816 0.075 0.03633 0.07292 0.02487 0.0544 C 0.02305 0.05348 0.01485 0.02431 0.01368 0.02431 L 0.01368 0.02454 E">
                                      <p:cBhvr>
                                        <p:cTn id="215" dur="22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217" dur="1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mph" presetID="32">
                                  <p:stCondLst>
                                    <p:cond delay="1750"/>
                                  </p:stCondLst>
                                  <p:childTnLst>
                                    <p:animRot by="120000">
                                      <p:cBhvr>
                                        <p:cTn id="2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3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8229 -0.09259 C 0.0875 -0.09167 0.09818 -0.09537 0.10912 -0.0919 C 0.11979 -0.08843 0.13711 -0.07894 0.1457 -0.07153 C 0.15703 -0.06088 0.16914 -0.04028 0.17839 -0.02431 C 0.18607 -0.00857 0.19414 0.01736 0.19766 0.02963 C 0.20013 0.03889 0.2043 0.06342 0.20495 0.0706 C 0.20638 0.08194 0.20716 0.11366 0.20664 0.12592 C 0.20534 0.14629 0.20195 0.17523 0.19883 0.18796 C 0.19505 0.20416 0.18359 0.23565 0.17721 0.24815 C 0.17149 0.26065 0.16537 0.26829 0.16133 0.2743 C 0.15039 0.2875 0.13412 0.30324 0.10964 0.31157 C 0.10391 0.31273 0.0806 0.3125 0.07513 0.30972 C 0.06576 0.30694 0.05039 0.29606 0.0457 0.29282 C 0.03789 0.2868 0.03268 0.28194 0.02748 0.27245 C 0.01836 0.26227 0.00573 0.23518 -0.00091 0.21805 C -0.0043 0.21065 -0.01263 0.1743 -0.01445 0.16041 C -0.0151 0.1537 -0.01823 0.11852 -0.01836 0.11134 C -0.01901 0.09305 -0.01432 0.0618 -0.01198 0.04444 C -0.00885 0.02662 -0.00299 0.00926 -1.04167E-006 1.85185E-006 E">
                                      <p:cBhvr>
                                        <p:cTn id="228" dur="22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0800000">
                                      <p:cBhvr>
                                        <p:cTn id="230" dur="1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2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34 -0.36551 C -2.29166999999968E-006 -0.36574 0.00404 -0.3669 0.0125 -0.36574 C 0.02097 -0.3632 0.03802 -0.35764 0.04571 -0.35139 C 0.05781 -0.33982 0.07969 -0.31273 0.08516 -0.29653 C 0.09479 -0.27593 0.10209 -0.24051 0.10391 -0.22685 C 0.10834 -0.20116 0.10677 -0.16505 0.10456 -0.14283 C 0.10209 -0.12639 0.0987 -0.10671 0.09232 -0.08935 C 0.08594 -0.07292 0.07656 -0.05278 0.06719 -0.03935 C 0.05834 -0.02685 0.04805 -0.01875 0.03972 -0.0125 C 0.03125 -0.00648 0.0237 -0.00301 0.01693 -0.00209 C 0.00443 1.85184999999984E-006 0.01081 -0.00116 -0.00065 -0.00116 L -0.00065 -0.00023 E">
                                      <p:cBhvr>
                                        <p:cTn id="241" dur="2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10800000">
                                      <p:cBhvr>
                                        <p:cTn id="243" dur="1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32">
                                  <p:stCondLst>
                                    <p:cond delay="2250"/>
                                  </p:stCondLst>
                                  <p:childTnLst>
                                    <p:animRot by="120000">
                                      <p:cBhvr>
                                        <p:cTn id="2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3138 -0.22083 C 0.0362 -0.22176 0.05117 -0.22431 0.05521 -0.22431 C 0.06445 -0.22408 0.07539 -0.22408 0.08542 -0.21852 C 0.09544 -0.21296 0.11081 -0.20347 0.11719 -0.19468 C 0.128 -0.18125 0.14675 -0.15208 0.15156 -0.13542 C 0.15977 -0.11621 0.16497 -0.08773 0.16667 -0.07616 C 0.16901 -0.05602 0.17122 -0.03148 0.1707 -0.01597 C 0.17018 0.00417 0.16693 0.02917 0.16315 0.04907 C 0.15846 0.06898 0.14792 0.1 0.14245 0.11111 C 0.13386 0.12917 0.1194 0.14815 0.11185 0.15602 C 0.10195 0.16713 0.09323 0.17129 0.0832 0.17523 C 0.07292 0.17986 0.05886 0.18125 0.05104 0.18125 C 0.04076 0.18125 0.02826 0.17523 0.02266 0.17268 C 0.01432 0.16875 0.00521 0.16319 0.00091 0.15787 C -0.00469 0.14653 -0.00846 0.1206 -0.01094 0.10555 C -0.01198 0.09745 -0.01393 0.08333 -0.01341 0.06736 C -0.01289 0.05092 -0.0125 0.02222 -0.00768 0.00717 C -0.00586 0.00417 -0.00052 -0.0007 -0.00052 0.00069 L -0.00052 -0.0007 E">
                                      <p:cBhvr>
                                        <p:cTn id="254" dur="2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10800000">
                                      <p:cBhvr>
                                        <p:cTn id="256" dur="1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32">
                                  <p:stCondLst>
                                    <p:cond delay="2250"/>
                                  </p:stCondLst>
                                  <p:childTnLst>
                                    <p:animRot by="120000">
                                      <p:cBhvr>
                                        <p:cTn id="25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2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52 -0.43287 C 0.00391 -0.43356 0.01159 -0.43472 0.01927 -0.43333 C 0.0276 -0.43194 0.03516 -0.42986 0.04518 -0.425 C 0.0556 -0.42014 0.07305 -0.40278 0.08034 -0.39514 C 0.09141 -0.38194 0.10495 -0.35833 0.10912 -0.34606 C 0.11771 -0.32592 0.12813 -0.28657 0.12917 -0.27407 C 0.13333 -0.2537 0.13398 -0.24028 0.13464 -0.2213 C 0.13464 -0.19491 0.13164 -0.15579 0.12539 -0.12708 C 0.12539 -0.12616 0.11146 -0.08403 0.11081 -0.08148 C 0.10391 -0.06852 0.09622 -0.05278 0.08789 -0.0412 C 0.07956 -0.02963 0.06667 -0.01759 0.06081 -0.01273 C 0.04935 -0.0037 0.03763 0.00139 0.0237 0.00486 C 0.01263 0.00556 0.00742 0.00162 -0.00065 -0.00023 L -0.00065 -1.11111E-006 E">
                                      <p:cBhvr>
                                        <p:cTn id="267" dur="2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269" dur="1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Rot by="120000">
                                      <p:cBhvr>
                                        <p:cTn id="2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306 -0.21388 C -0.01653 -0.21481 -0.00364 -0.20995 0.00912 -0.20301 C 0.02188 -0.1956 0.03477 -0.17893 0.04193 -0.17152 C 0.05117 -0.15833 0.06224 -0.13588 0.0668 -0.12546 C 0.07318 -0.11111 0.07774 -0.09699 0.07943 -0.08541 C 0.08321 -0.06851 0.0888 -0.0375 0.08933 -0.025 C 0.08581 -0.00231 0.09037 0.02639 0.05912 0.0507 C 0.04831 0.05787 0.03255 0.05232 0.02617 0.04931 C 0.02383 0.04838 0.02005 0.04537 0.01888 0.04352 C 0.01524 0.03797 0.00729 0.02338 0.0043 0.01598 C 0.00274 0.01042 0.00183 0.00487 -2.08333E-006 -0.00069 L -2.08333E-006 -0.00046 E">
                                      <p:cBhvr>
                                        <p:cTn id="280" dur="225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10800000">
                                      <p:cBhvr>
                                        <p:cTn id="282" dur="1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mph" presetID="32">
                                  <p:stCondLst>
                                    <p:cond delay="2750"/>
                                  </p:stCondLst>
                                  <p:childTnLst>
                                    <p:animRot by="120000">
                                      <p:cBhvr>
                                        <p:cTn id="2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11094 -0.31389 C -0.10182 -0.31343 -0.08906 -0.31273 -0.07448 -0.30648 C -0.06198 -0.30023 -0.04805 -0.29074 -0.0362 -0.27523 C -0.02474 -0.26019 -0.01016 -0.23241 -0.00352 -0.21435 L 0.00247 -0.19792 C 0.00495 -0.18866 0.00924 -0.16597 0.01185 -0.15532 C 0.01419 -0.13912 0.01523 -0.11458 0.01627 -0.09699 C 0.01653 -0.0794 0.01328 -0.0581 0.01276 -0.04745 C 0.01107 -0.0331 0.00807 -0.01875 0.00612 -0.01065 C 0.00469 -0.0088 0.00117 3.70370000000011E-007 0.00117 0.00023 L -0.00039 3.7037E-007 E">
                                      <p:cBhvr>
                                        <p:cTn id="293" dur="225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10800000">
                                      <p:cBhvr>
                                        <p:cTn id="295" dur="1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mph" presetID="32">
                                  <p:stCondLst>
                                    <p:cond delay="3000"/>
                                  </p:stCondLst>
                                  <p:childTnLst>
                                    <p:animRot by="120000">
                                      <p:cBhvr>
                                        <p:cTn id="2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10768 -0.1625 C -0.10052 -0.1625 -0.08373 -0.16158 -0.07253 -0.1551 C -0.06211 -0.15139 -0.05794 -0.14561 -0.04974 -0.14005 C -0.03972 -0.12871 -0.02969 -0.11829 -0.02201 -0.1051 C -0.01393 -0.0926 -0.00599 -0.07107 -0.00235 -0.06181 C 0.00221 -0.04954 0.00586 -0.04074 0.00625 -0.03033 C 0.00377 -0.01829 -0.00078 -0.01065 -0.00078 -0.00116 L -0.00078 3.33333E-006 E">
                                      <p:cBhvr>
                                        <p:cTn id="306" dur="2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10800000">
                                      <p:cBhvr>
                                        <p:cTn id="308" dur="1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mph" presetID="32">
                                  <p:stCondLst>
                                    <p:cond delay="3250"/>
                                  </p:stCondLst>
                                  <p:childTnLst>
                                    <p:animRot by="120000">
                                      <p:cBhvr>
                                        <p:cTn id="3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4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7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05729 -0.02592 C -0.04752 -0.02592 -0.03854 -0.02592 -0.01614 -0.01736 C -0.00664 -0.01319 -0.00273 -0.00393 -3.54167E-006 -0.00092 L -3.54167E-006 -2.59259E-006 E">
                                      <p:cBhvr>
                                        <p:cTn id="319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321" dur="1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32">
                                  <p:stCondLst>
                                    <p:cond delay="4000"/>
                                  </p:stCondLst>
                                  <p:childTnLst>
                                    <p:animRot by="120000">
                                      <p:cBhvr>
                                        <p:cTn id="3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250"/>
                            </p:stCondLst>
                            <p:childTnLst>
                              <p:par>
                                <p:cTn id="32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30" dur="6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6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63.332509040833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9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40" dur="4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342" dur="4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47" dur="4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49" dur="4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54" dur="4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56" dur="4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61" dur="4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63" dur="4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68" dur="4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70" dur="4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75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77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82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384" dur="4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89" dur="4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391" dur="4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0.02591 -0.01158 0.01471 -0.00857 0.03346 -0.01204 C 0.04609 -0.01945 0.04492 -0.01968 0.06484 -0.02199 C 0.08945 -0.025 0.07604 -0.02338 0.10521 -0.02593 C 0.1194 -0.025 0.14544 -0.02385 0.16107 -0.02199 C 0.16445 -0.02153 0.16784 -0.02061 0.17122 -0.01991 C 0.18685 -0.01065 0.16732 -0.0213 0.18802 -0.01412 C 0.19036 -0.0132 0.19245 -0.01135 0.19466 -0.00996 C 0.19987 -0.00718 0.20534 -0.00556 0.21042 -0.00209 C 0.21224 -0.0007 0.21406 0.00069 0.21601 0.00185 C 0.24414 0.01851 0.20599 -0.00463 0.23047 0.00787 C 0.2362 0.01088 0.24167 0.01504 0.24726 0.01782 C 0.24987 0.01921 0.2526 0.02037 0.25521 0.02176 C 0.26588 0.02824 0.25534 0.0243 0.26745 0.02777 C 0.27005 0.02986 0.27266 0.03217 0.27526 0.03379 C 0.27708 0.03495 0.27904 0.03495 0.28086 0.03564 C 0.28203 0.03634 0.28307 0.03726 0.28424 0.03773 C 0.28607 0.03865 0.28802 0.03888 0.28984 0.03981 C 0.29219 0.04074 0.29427 0.04305 0.29661 0.04375 C 0.30026 0.0449 0.30404 0.0449 0.30781 0.0456 C 0.30963 0.04606 0.31146 0.04745 0.31341 0.04768 C 0.31927 0.04861 0.32526 0.04907 0.33125 0.04976 C 0.33385 0.05046 0.33646 0.05092 0.33906 0.05162 C 0.34101 0.05231 0.34284 0.05324 0.34466 0.0537 C 0.34987 0.05463 0.35521 0.05509 0.36042 0.05578 L 0.45547 0.0537 C 0.45742 0.0537 0.45924 0.05208 0.46107 0.05162 C 0.46588 0.05069 0.47083 0.05046 0.47565 0.04976 L 0.48463 0.0456 C 0.48646 0.0449 0.48841 0.04467 0.49023 0.04375 C 0.49401 0.04189 0.49766 0.03958 0.50143 0.03773 C 0.50586 0.03564 0.50729 0.03634 0.51146 0.03379 C 0.51445 0.03194 0.51745 0.02963 0.52044 0.02777 C 0.52266 0.02638 0.52487 0.02523 0.52721 0.02384 C 0.52825 0.02314 0.5293 0.02222 0.53047 0.02176 C 0.5401 0.01851 0.53255 0.02152 0.53945 0.01782 C 0.54206 0.01643 0.54466 0.01527 0.54726 0.01388 C 0.55833 0.0074 0.54739 0.0118 0.55846 0.00787 C 0.56042 0.00648 0.56224 0.00532 0.56406 0.00393 C 0.56641 0.00208 0.56849 -0.00047 0.57083 -0.00209 C 0.58229 -0.00949 0.57044 0.00231 0.58203 -0.00811 C 0.58398 -0.00973 0.58568 -0.01227 0.58763 -0.01412 C 0.59245 -0.01829 0.59466 -0.01829 0.59987 -0.02199 C 0.60143 -0.02315 0.60273 -0.02524 0.60443 -0.02593 C 0.6069 -0.02709 0.60963 -0.02709 0.61224 -0.02801 C 0.61562 -0.02917 0.61888 -0.03056 0.62226 -0.03195 C 0.62383 -0.03334 0.62526 -0.03473 0.62682 -0.03588 C 0.63008 -0.0382 0.63685 -0.0419 0.63685 -0.0419 C 0.64362 -0.05 0.63646 -0.04237 0.64466 -0.04792 C 0.64622 -0.04885 0.64766 -0.05093 0.64922 -0.05186 C 0.6569 -0.05695 0.65521 -0.0544 0.66146 -0.05787 C 0.66367 -0.05903 0.66601 -0.06042 0.66823 -0.06181 L 0.67161 -0.06366 E">
                                      <p:cBhvr>
                                        <p:cTn id="396" dur="4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398" dur="4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2T15:45:00Z</dcterms:created>
  <dc:creator>PC</dc:creator>
  <dc:description/>
  <dc:language>en-US</dc:language>
  <cp:lastModifiedBy>YANGS-PC</cp:lastModifiedBy>
  <dcterms:modified xsi:type="dcterms:W3CDTF">2015-11-12T06:22:25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