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E37C-FA4A-4082-A529-E944AFE67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F941-17F3-49E0-8E7C-9F297E63C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4B07-B4FA-40C3-B406-8E23B79C9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F053-5AF4-4C18-9571-0B3C77701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A585-B907-496B-8C02-71FAE0D9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F013-044C-4A39-A258-F29D3C3D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103-A422-49DE-819D-A5272DB5A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7A2-3233-4D31-B945-19306F5A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99"/>
              </a:spcBef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4B56-B75E-49BF-82C8-17E1A0F7D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A365-EB25-4DF0-840E-23F8EFC7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5B51-68C9-49FB-8A20-33DCA1FD1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99"/>
              </a:spcBef>
              <a:buNone/>
            </a:pP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2B97-45BA-4D75-A965-616B78BE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7f7f7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7f7f7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1" marL="743040" indent="-28584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2" marL="11430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•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3" marL="16002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4" marL="2057400" indent="-228600">
              <a:lnSpc>
                <a:spcPct val="15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5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  <a:p>
            <a:pPr lvl="6" marL="2057400" indent="-22860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7f7f7f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7f7f7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5A8B-A020-4DCF-9703-98854C0BC431}" type="datetime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微软雅黑"/>
                <a:ea typeface="宋体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4912-DC07-4D11-A811-687BB452F8FE}" type="slidenum">
              <a:rPr b="0" lang="zh-CN" sz="1200" spc="-1" strike="noStrike">
                <a:solidFill>
                  <a:srgbClr val="898989"/>
                </a:solidFill>
                <a:latin typeface="微软雅黑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11"/>
          <p:cNvSpPr/>
          <p:nvPr/>
        </p:nvSpPr>
        <p:spPr>
          <a:xfrm>
            <a:off x="1927080" y="2133720"/>
            <a:ext cx="1584360" cy="15843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22"/>
          <p:cNvSpPr/>
          <p:nvPr/>
        </p:nvSpPr>
        <p:spPr>
          <a:xfrm>
            <a:off x="3967200" y="2098800"/>
            <a:ext cx="1584360" cy="1584360"/>
          </a:xfrm>
          <a:prstGeom prst="ellipse">
            <a:avLst/>
          </a:prstGeom>
          <a:solidFill>
            <a:srgbClr val="9bbb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33"/>
          <p:cNvSpPr/>
          <p:nvPr/>
        </p:nvSpPr>
        <p:spPr>
          <a:xfrm>
            <a:off x="5940360" y="2143080"/>
            <a:ext cx="1584360" cy="1584360"/>
          </a:xfrm>
          <a:prstGeom prst="ellipse">
            <a:avLst/>
          </a:prstGeom>
          <a:solidFill>
            <a:srgbClr val="4bacc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111"/>
          <p:cNvSpPr/>
          <p:nvPr/>
        </p:nvSpPr>
        <p:spPr>
          <a:xfrm>
            <a:off x="1927080" y="2133720"/>
            <a:ext cx="1584360" cy="1584360"/>
          </a:xfrm>
          <a:prstGeom prst="donut">
            <a:avLst>
              <a:gd name="adj" fmla="val 17865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222"/>
          <p:cNvSpPr/>
          <p:nvPr/>
        </p:nvSpPr>
        <p:spPr>
          <a:xfrm>
            <a:off x="3967200" y="2098800"/>
            <a:ext cx="1584360" cy="1584360"/>
          </a:xfrm>
          <a:prstGeom prst="donut">
            <a:avLst>
              <a:gd name="adj" fmla="val 17865"/>
            </a:avLst>
          </a:prstGeom>
          <a:solidFill>
            <a:srgbClr val="9bbb59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333"/>
          <p:cNvSpPr/>
          <p:nvPr/>
        </p:nvSpPr>
        <p:spPr>
          <a:xfrm>
            <a:off x="5940360" y="2143080"/>
            <a:ext cx="1584360" cy="1584360"/>
          </a:xfrm>
          <a:prstGeom prst="donut">
            <a:avLst>
              <a:gd name="adj" fmla="val 17865"/>
            </a:avLst>
          </a:prstGeom>
          <a:solidFill>
            <a:srgbClr val="4bacc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255240" y="378936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1. 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1"/>
          <p:cNvSpPr/>
          <p:nvPr/>
        </p:nvSpPr>
        <p:spPr>
          <a:xfrm>
            <a:off x="-4320" y="458136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2. 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2"/>
          <p:cNvSpPr/>
          <p:nvPr/>
        </p:nvSpPr>
        <p:spPr>
          <a:xfrm>
            <a:off x="-69480" y="4870440"/>
            <a:ext cx="59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3. ADD YOUR 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14757 -0.20995 E">
                                      <p:cBhvr>
                                        <p:cTn id="14" dur="4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400" fill="hold"/>
                                        <p:tgtEl>
                                          <p:spTgt spid="4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4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11111E-006 L 0.14757 -0.20995 E">
                                      <p:cBhvr>
                                        <p:cTn id="21" dur="4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400" fill="hold"/>
                                        <p:tgtEl>
                                          <p:spTgt spid="4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4" dur="indefinite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4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0033 -0.20648 E">
                                      <p:cBhvr>
                                        <p:cTn id="28" dur="4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0" dur="400" fill="hold"/>
                                        <p:tgtEl>
                                          <p:spTgt spid="4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0 0 L -0.0033 -0.20648 E">
                                      <p:cBhvr>
                                        <p:cTn id="32" dur="4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34" dur="4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4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1.11111E-006 L -0.14965 -0.20995 E">
                                      <p:cBhvr>
                                        <p:cTn id="39" dur="4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1" dur="4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path" presetID="0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-4.72222E-006 1.11111E-006 L -0.14965 -0.20995 E">
                                      <p:cBhvr>
                                        <p:cTn id="43" dur="4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mph" presetID="6">
                                  <p:stCondLst>
                                    <p:cond delay="400"/>
                                  </p:stCondLst>
                                  <p:childTnLst>
                                    <p:animScale>
                                      <p:cBhvr>
                                        <p:cTn id="45" dur="4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"/>
                            </p:stCondLst>
                            <p:childTnLst>
                              <p:par>
                                <p:cTn id="47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57 -0.20995 C 0.20903 -0.22361 0.27049 -0.23727 0.33663 -0.21644 C 0.40278 -0.1956 0.51233 -0.14977 0.54393 -0.08472 C 0.57552 -0.01968 0.56111 0.13356 0.52587 0.17361 C 0.49063 0.21366 0.37309 0.15972 0.33299 0.15602 E">
                                      <p:cBhvr>
                                        <p:cTn id="48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5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5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0" y="500000"/>
                                    </p:animScale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757 -0.20995 C 0.20903 -0.22361 0.27049 -0.23727 0.33663 -0.21644 C 0.40278 -0.1956 0.51216 -0.14977 0.54393 -0.08472 C 0.5757 -0.01968 0.56216 0.13356 0.52709 0.17361 C 0.49202 0.21366 0.37344 0.15972 0.33299 0.15602 E">
                                      <p:cBhvr>
                                        <p:cTn id="54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3 -0.20649 C 0.03837 -0.22107 0.08003 -0.23542 0.14427 -0.18866 C 0.2085 -0.1419 0.34288 0.000469999999999998 0.38212 0.07476 C 0.42135 0.14907 0.39739 0.20787 0.37969 0.25694 C 0.36198 0.30601 0.31458 0.35208 0.27604 0.36921 E">
                                      <p:cBhvr>
                                        <p:cTn id="56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59" dur="indefinite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60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path" presetID="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033 -0.20649 C 0.03837 -0.22107 0.08003 -0.23542 0.14427 -0.18866 C 0.2085 -0.1419 0.34288 0.000469999999999998 0.38212 0.07476 C 0.42135 0.14907 0.39739 0.20787 0.37969 0.25694 C 0.36198 0.30601 0.31458 0.35208 0.27604 0.36921 E">
                                      <p:cBhvr>
                                        <p:cTn id="6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xit" presetID="6" presetSubtype="32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4964 -0.20996 C -0.08228 -0.20139 -0.01475 -0.19283 0.0356 -0.14977 C 0.08595 -0.10672 0.16563 1.48148000000264E-006 0.15279 0.04861 E">
                                      <p:cBhvr>
                                        <p:cTn id="69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path" presetID="0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4964 -0.20996 C -0.08228 -0.20139 -0.01475 -0.19283 0.0356 -0.14977 C 0.08595 -0.10672 0.16563 1.48148000000264E-006 0.15279 0.04861 E">
                                      <p:cBhvr>
                                        <p:cTn id="71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3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mph" presetID="6">
                                  <p:stCondLst>
                                    <p:cond delay="200"/>
                                  </p:stCondLst>
                                  <p:childTnLst>
                                    <p:animScale>
                                      <p:cBhvr>
                                        <p:cTn id="75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xit" presetID="6" presetSubtype="32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4" dur="200" fill="hold"/>
                                        <p:tgtEl>
                                          <p:spTgt spid="4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6" dur="200" fill="hold"/>
                                        <p:tgtEl>
                                          <p:spTgt spid="4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"/>
                            </p:stCondLst>
                            <p:childTnLst>
                              <p:par>
                                <p:cTn id="98" dur="indefinite" nodeType="after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9" dur="2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2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8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900"/>
                            </p:stCondLst>
                            <p:childTnLst>
                              <p:par>
                                <p:cTn id="111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2" dur="500" fill="hold"/>
                                        <p:tgtEl>
                                          <p:spTgt spid="42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3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4" dur="500" fill="hold"/>
                                        <p:tgtEl>
                                          <p:spTgt spid="45"/>
                                        </p:tgtEl>
                                      </p:cBhvr>
                                      <p:to x="300000" y="300000"/>
                                    </p:animScale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299 0.15602 C 0.33906 0.1287 0.33316 0.02592 0.36979 -0.00857 C 0.40643 -0.04306 0.51441 -0.04167 0.55243 -0.05046 E">
                                      <p:cBhvr>
                                        <p:cTn id="116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299 0.15602 C 0.33889 0.12917 0.33195 0.02917 0.36858 -0.00533 C 0.40521 -0.03982 0.51424 -0.04097 0.55243 -0.05046 E">
                                      <p:cBhvr>
                                        <p:cTn id="118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3 0.36921 C 0.26614 0.31342 0.25624 0.25787 0.22846 0.24236 C 0.20069 0.22685 0.12933 0.26967 0.10902 0.27638 E">
                                      <p:cBhvr>
                                        <p:cTn id="120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603 0.36921 C 0.26614 0.31342 0.25624 0.25787 0.22846 0.24236 C 0.20069 0.22685 0.12933 0.26967 0.10902 0.27638 E">
                                      <p:cBhvr>
                                        <p:cTn id="122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78 0.04861 C 0.17379 0.08518 0.1948 0.12199 0.20035 0.1787 C 0.20591 0.23542 0.21737 0.34653 0.1856 0.38843 C 0.15382 0.43032 0.04671 0.42176 0.01007 0.43055 E">
                                      <p:cBhvr>
                                        <p:cTn id="124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278 0.04861 C 0.17379 0.08518 0.1948 0.12199 0.20035 0.1787 C 0.20591 0.23542 0.21737 0.34653 0.1856 0.38843 C 0.15382 0.43032 0.04671 0.42176 0.01007 0.43055 E">
                                      <p:cBhvr>
                                        <p:cTn id="126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400"/>
                            </p:stCondLst>
                            <p:childTnLst>
                              <p:par>
                                <p:cTn id="128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0" dur="200" fill="hold"/>
                                        <p:tgtEl>
                                          <p:spTgt spid="4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200" fill="hold"/>
                                        <p:tgtEl>
                                          <p:spTgt spid="4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700"/>
                            </p:stCondLst>
                            <p:childTnLst>
                              <p:par>
                                <p:cTn id="144" dur="indefinite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5" dur="2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" dur="2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54" dur="2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900"/>
                            </p:stCondLst>
                            <p:childTnLst>
                              <p:par>
                                <p:cTn id="157" dur="indefinite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8" dur="5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0" dur="500" fill="hold"/>
                                        <p:tgtEl>
                                          <p:spTgt spid="46"/>
                                        </p:tgtEl>
                                      </p:cBhvr>
                                      <p:to x="250000" y="250000"/>
                                    </p:animScale>
                                  </p:childTnLst>
                                </p:cTn>
                              </p:par>
                              <p:par>
                                <p:cTn id="16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0.27639 C 0.11528 0.23889 0.1217 0.20162 0.16146 0.18032 C 0.20121 0.15903 0.30746 0.14444 0.34791 0.14791 C 0.38837 0.15139 0.39531 0.19259 0.40416 0.20139 E">
                                      <p:cBhvr>
                                        <p:cTn id="162" dur="5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903 0.27639 C 0.11528 0.23889 0.1217 0.20162 0.16146 0.18032 C 0.20121 0.15903 0.30746 0.14444 0.34791 0.14791 C 0.38837 0.15139 0.39531 0.19259 0.40416 0.20139 E">
                                      <p:cBhvr>
                                        <p:cTn id="164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43056 C -0.0519 0.42662 -0.11371 0.42292 -0.0802 0.30694 E">
                                      <p:cBhvr>
                                        <p:cTn id="166" dur="5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0.43056 C -0.0519 0.42662 -0.11371 0.42292 -0.0802 0.30694 E">
                                      <p:cBhvr>
                                        <p:cTn id="168" dur="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43 -0.05046 C 0.61788 0.09375 0.68334 0.23796 0.68785 0.32176 C 0.69236 0.40555 0.60972 0.43542 0.57934 0.45185 C 0.54896 0.46829 0.52066 0.42731 0.50521 0.42083 E">
                                      <p:cBhvr>
                                        <p:cTn id="170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243 -0.05046 C 0.61788 0.09375 0.68334 0.23796 0.68785 0.32176 C 0.69236 0.40555 0.61025 0.43634 0.57934 0.45185 C 0.54844 0.46736 0.51875 0.42222 0.50278 0.41435 E">
                                      <p:cBhvr>
                                        <p:cTn id="172" dur="5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400"/>
                            </p:stCondLst>
                            <p:childTnLst>
                              <p:par>
                                <p:cTn id="174" dur="indefinite" nodeType="after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#ppt_w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dur="indefinite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00Z</dcterms:created>
  <dc:creator>chen.zhb</dc:creator>
  <dc:description/>
  <dc:language>en-US</dc:language>
  <cp:lastModifiedBy>YANGS-PC</cp:lastModifiedBy>
  <dcterms:modified xsi:type="dcterms:W3CDTF">2015-11-12T07:08:34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IP等级">
    <vt:lpwstr>2</vt:lpwstr>
  </property>
  <property fmtid="{D5CDD505-2E9C-101B-9397-08002B2CF9AE}" pid="4" name="价格">
    <vt:lpwstr>40</vt:lpwstr>
  </property>
  <property fmtid="{D5CDD505-2E9C-101B-9397-08002B2CF9AE}" pid="5" name="使用说明">
    <vt:lpwstr>请使用PPT打开</vt:lpwstr>
  </property>
  <property fmtid="{D5CDD505-2E9C-101B-9397-08002B2CF9AE}" pid="6" name="使用软件">
    <vt:lpwstr>ppt</vt:lpwstr>
  </property>
  <property fmtid="{D5CDD505-2E9C-101B-9397-08002B2CF9AE}" pid="7" name="关键字">
    <vt:lpwstr>文本 白 白色 红色 蓝色 绿色 圆 圆形 引出 旋转 矩形 排列 排版 V2 多个 PPT动画模板 开场动画 </vt:lpwstr>
  </property>
  <property fmtid="{D5CDD505-2E9C-101B-9397-08002B2CF9AE}" pid="8" name="操作代码">
    <vt:lpwstr>1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3项圆形动画</vt:lpwstr>
  </property>
  <property fmtid="{D5CDD505-2E9C-101B-9397-08002B2CF9AE}" pid="12" name="模板ID">
    <vt:lpwstr>A60620130509A02</vt:lpwstr>
  </property>
  <property fmtid="{D5CDD505-2E9C-101B-9397-08002B2CF9AE}" pid="13" name="模板缩略图">
    <vt:lpwstr>A60620130509A02.png</vt:lpwstr>
  </property>
  <property fmtid="{D5CDD505-2E9C-101B-9397-08002B2CF9AE}" pid="14" name="相关案例">
    <vt:lpwstr>854</vt:lpwstr>
  </property>
  <property fmtid="{D5CDD505-2E9C-101B-9397-08002B2CF9AE}" pid="15" name="缩略图标题">
    <vt:lpwstr>A60620130509A0201.mp4</vt:lpwstr>
  </property>
  <property fmtid="{D5CDD505-2E9C-101B-9397-08002B2CF9AE}" pid="16" name="适用软件">
    <vt:lpwstr>PowerPoint 2007 及以上版本</vt:lpwstr>
  </property>
  <property fmtid="{D5CDD505-2E9C-101B-9397-08002B2CF9AE}" pid="17" name="附件ID">
    <vt:lpwstr>A60620130509A0201</vt:lpwstr>
  </property>
  <property fmtid="{D5CDD505-2E9C-101B-9397-08002B2CF9AE}" pid="18" name="附件缩略图">
    <vt:lpwstr>A60620130509A0201.png</vt:lpwstr>
  </property>
  <property fmtid="{D5CDD505-2E9C-101B-9397-08002B2CF9AE}" pid="19" name="附件路径">
    <vt:lpwstr>A60620130509A0201.pptx</vt:lpwstr>
  </property>
</Properties>
</file>