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DADB-6327-42B6-AD8E-BD1B2294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6C23-38F6-499F-A661-EA1E25BA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27F3-51A7-40AF-8E56-E8D59BA1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B194-81E6-4264-A7AB-D3547778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23A7-52FF-4687-8EF9-C72BA3B3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A64D-30D3-40DA-9455-79FD8E55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A370-CA47-48C4-ABB5-58F56E34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40F6-9611-4688-8C9D-54D714CF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C1BF-1A5C-4AD3-9D9F-9A0CC1CD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6471-201D-4068-8F34-9580D3D8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0C94-EE0D-47C6-A6C8-86B226E7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CDF-5FE5-4A2F-A7C7-61C71AA8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CD51-B2FE-423E-8986-CE683A01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2B27-EE5A-48DE-8A93-D3AFF7EA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37A0-8BCB-41D6-9383-7C0EF565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319A-3A5D-4D48-BE1B-D4329C47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3AB8-A344-4AE2-80A7-2E5122DC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F634-BB9D-4B8C-B2A3-C41D1661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88FB-90CC-42D3-9195-590A277D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3BF9-FCD9-45C0-9BB1-BEE2232C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4752-E6EF-4A26-BEF8-4861D860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A61E-9A6F-4016-B431-2D0951F7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95F1-69D5-46CD-9398-20D95A3B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A822-622D-4938-BE4C-996A4152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35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"/>
          <p:cNvPicPr/>
          <p:nvPr/>
        </p:nvPicPr>
        <p:blipFill>
          <a:blip r:embed="rId3"/>
          <a:stretch/>
        </p:blipFill>
        <p:spPr>
          <a:xfrm>
            <a:off x="-324000" y="3933720"/>
            <a:ext cx="10117440" cy="319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4652-708B-4D49-B43A-015851888C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2" descr=""/>
          <p:cNvPicPr/>
          <p:nvPr/>
        </p:nvPicPr>
        <p:blipFill>
          <a:blip r:embed="rId2"/>
          <a:stretch/>
        </p:blipFill>
        <p:spPr>
          <a:xfrm>
            <a:off x="-1260360" y="907920"/>
            <a:ext cx="9361440" cy="6438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635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B540-E415-452F-835B-294A92D65207}" type="slidenum">
              <a:rPr b="0" lang="zh-CN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7" descr=""/>
          <p:cNvPicPr/>
          <p:nvPr/>
        </p:nvPicPr>
        <p:blipFill>
          <a:blip r:embed="rId2"/>
          <a:stretch/>
        </p:blipFill>
        <p:spPr>
          <a:xfrm>
            <a:off x="4427640" y="1366920"/>
            <a:ext cx="4052880" cy="1041480"/>
          </a:xfrm>
          <a:prstGeom prst="rect">
            <a:avLst/>
          </a:prstGeom>
          <a:ln w="0">
            <a:noFill/>
          </a:ln>
        </p:spPr>
      </p:pic>
      <p:sp>
        <p:nvSpPr>
          <p:cNvPr id="83" name="矩形 8"/>
          <p:cNvSpPr/>
          <p:nvPr/>
        </p:nvSpPr>
        <p:spPr>
          <a:xfrm>
            <a:off x="1979640" y="278748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526080"/>
            <a:ext cx="5079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11-11T06:18:18Z</dcterms:modified>
  <cp:revision>10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