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BDA-A097-4BD0-A897-45A5C6BB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521B-88AC-4556-B11C-1E3E4C0B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70D-E926-42D8-8DF4-3680AE7A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4E5-923E-4DCE-AFD1-76135AF4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375-E148-49CA-B162-EC2D0151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1A6-AAE8-480B-B698-F247760D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45C-FDE6-4244-AC1C-00C7EB2E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AF3-B8AD-47DE-8C4B-CF4A6B39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7D9-C4E0-4D09-8E9E-85F98655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DDD-CCF7-46B2-950B-1F487A8E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AD7-A078-4C8D-843B-C303BC9F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A27-09B3-42E3-B363-E9C55E41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E9AC-41CF-4766-9E58-AC2B1F95ED6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937-0DCD-4A84-99AE-449E3A8C3D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5"/>
          <p:cNvSpPr/>
          <p:nvPr/>
        </p:nvSpPr>
        <p:spPr>
          <a:xfrm>
            <a:off x="4389120" y="2927520"/>
            <a:ext cx="320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兰亭超细黑简体"/>
                <a:ea typeface="方正兰亭超细黑简体"/>
              </a:rPr>
              <a:t>Loading.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6284880" y="5591160"/>
            <a:ext cx="30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6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375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d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4"/>
          <p:cNvSpPr/>
          <p:nvPr/>
        </p:nvSpPr>
        <p:spPr>
          <a:xfrm>
            <a:off x="5894280" y="3263760"/>
            <a:ext cx="330480" cy="3304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5894280" y="3263760"/>
            <a:ext cx="330480" cy="3304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5894280" y="3263760"/>
            <a:ext cx="330480" cy="3304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5894280" y="3263760"/>
            <a:ext cx="330480" cy="3304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894280" y="3263760"/>
            <a:ext cx="330480" cy="3304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7"/>
          <p:cNvGrpSpPr/>
          <p:nvPr/>
        </p:nvGrpSpPr>
        <p:grpSpPr>
          <a:xfrm>
            <a:off x="4876920" y="3263760"/>
            <a:ext cx="2359080" cy="330480"/>
            <a:chOff x="4876920" y="3263760"/>
            <a:chExt cx="2359080" cy="330480"/>
          </a:xfrm>
        </p:grpSpPr>
        <p:sp>
          <p:nvSpPr>
            <p:cNvPr id="49" name="矩形 12"/>
            <p:cNvSpPr/>
            <p:nvPr/>
          </p:nvSpPr>
          <p:spPr>
            <a:xfrm>
              <a:off x="6400080" y="3263760"/>
              <a:ext cx="330120" cy="33048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3"/>
            <p:cNvSpPr/>
            <p:nvPr/>
          </p:nvSpPr>
          <p:spPr>
            <a:xfrm>
              <a:off x="6905880" y="3263760"/>
              <a:ext cx="330120" cy="33048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4"/>
            <p:cNvSpPr/>
            <p:nvPr/>
          </p:nvSpPr>
          <p:spPr>
            <a:xfrm>
              <a:off x="5388120" y="3263760"/>
              <a:ext cx="330120" cy="33048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5"/>
            <p:cNvSpPr/>
            <p:nvPr/>
          </p:nvSpPr>
          <p:spPr>
            <a:xfrm>
              <a:off x="4876920" y="3263760"/>
              <a:ext cx="330120" cy="33048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16"/>
            <p:cNvSpPr/>
            <p:nvPr/>
          </p:nvSpPr>
          <p:spPr>
            <a:xfrm>
              <a:off x="5893920" y="3263760"/>
              <a:ext cx="330120" cy="33048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18"/>
          <p:cNvSpPr/>
          <p:nvPr/>
        </p:nvSpPr>
        <p:spPr>
          <a:xfrm>
            <a:off x="6284880" y="5591160"/>
            <a:ext cx="30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3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" dur="375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75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3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3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75"/>
                            </p:stCondLst>
                            <p:childTnLst>
                              <p:par>
                                <p:cTn id="3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34 0 L 6.66667E-006 0 E">
                                      <p:cBhvr>
                                        <p:cTn id="39" dur="375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0 L 3.33333E-006 0 E">
                                      <p:cBhvr>
                                        <p:cTn id="41" dur="375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6 -1.85185E-006 L 1.125E-005 -1.85185E-006 E">
                                      <p:cBhvr>
                                        <p:cTn id="43" dur="375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33 0 L 3.75E-006 0 E">
                                      <p:cBhvr>
                                        <p:cTn id="45" dur="375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"/>
                            </p:stCondLst>
                            <p:childTnLst>
                              <p:par>
                                <p:cTn id="47" dur="indefinite" autoRev="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87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dc7"/>
                                      </p:to>
                                    </p:animClr>
                                    <p:set>
                                      <p:cBhvr>
                                        <p:cTn id="49" dur="187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autoRev="1" nodeType="withEffect" fill="hold" presetClass="emph" presetID="1" presetSubtype="2">
                                  <p:stCondLst>
                                    <p:cond delay="187"/>
                                  </p:stCondLst>
                                  <p:childTnLst>
                                    <p:animClr clrSpc="rgb">
                                      <p:cBhvr>
                                        <p:cTn id="51" dur="187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dc7"/>
                                      </p:to>
                                    </p:animClr>
                                    <p:set>
                                      <p:cBhvr>
                                        <p:cTn id="52" dur="187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autoRev="1" nodeType="withEffect" fill="hold" presetClass="emph" presetID="1" presetSubtype="2">
                                  <p:stCondLst>
                                    <p:cond delay="375"/>
                                  </p:stCondLst>
                                  <p:childTnLst>
                                    <p:animClr clrSpc="rgb">
                                      <p:cBhvr>
                                        <p:cTn id="54" dur="187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dc7"/>
                                      </p:to>
                                    </p:animClr>
                                    <p:set>
                                      <p:cBhvr>
                                        <p:cTn id="55" dur="187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autoRev="1" nodeType="withEffect" fill="hold" presetClass="emph" presetID="1" presetSubtype="2">
                                  <p:stCondLst>
                                    <p:cond delay="562"/>
                                  </p:stCondLst>
                                  <p:childTnLst>
                                    <p:animClr clrSpc="rgb">
                                      <p:cBhvr>
                                        <p:cTn id="57" dur="187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dc7"/>
                                      </p:to>
                                    </p:animClr>
                                    <p:set>
                                      <p:cBhvr>
                                        <p:cTn id="58" dur="187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autoRev="1" nodeType="withEffect" fill="hold" presetClass="emph" presetID="1" presetSubtype="2">
                                  <p:stCondLst>
                                    <p:cond delay="750"/>
                                  </p:stCondLst>
                                  <p:childTnLst>
                                    <p:animClr clrSpc="rgb">
                                      <p:cBhvr>
                                        <p:cTn id="60" dur="187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dc7"/>
                                      </p:to>
                                    </p:animClr>
                                    <p:set>
                                      <p:cBhvr>
                                        <p:cTn id="61" dur="187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874"/>
                            </p:stCondLst>
                            <p:childTnLst>
                              <p:par>
                                <p:cTn id="63" dur="indefinite" autoRev="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187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dc7"/>
                                      </p:to>
                                    </p:animClr>
                                    <p:set>
                                      <p:cBhvr>
                                        <p:cTn id="65" dur="187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autoRev="1" nodeType="withEffect" fill="hold" presetClass="emph" presetID="1" presetSubtype="2">
                                  <p:stCondLst>
                                    <p:cond delay="187"/>
                                  </p:stCondLst>
                                  <p:childTnLst>
                                    <p:animClr clrSpc="rgb">
                                      <p:cBhvr>
                                        <p:cTn id="67" dur="187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dc7"/>
                                      </p:to>
                                    </p:animClr>
                                    <p:set>
                                      <p:cBhvr>
                                        <p:cTn id="68" dur="187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autoRev="1" nodeType="withEffect" fill="hold" presetClass="emph" presetID="1" presetSubtype="2">
                                  <p:stCondLst>
                                    <p:cond delay="375"/>
                                  </p:stCondLst>
                                  <p:childTnLst>
                                    <p:animClr clrSpc="rgb">
                                      <p:cBhvr>
                                        <p:cTn id="70" dur="187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dc7"/>
                                      </p:to>
                                    </p:animClr>
                                    <p:set>
                                      <p:cBhvr>
                                        <p:cTn id="71" dur="187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autoRev="1" nodeType="withEffect" fill="hold" presetClass="emph" presetID="1" presetSubtype="2">
                                  <p:stCondLst>
                                    <p:cond delay="562"/>
                                  </p:stCondLst>
                                  <p:childTnLst>
                                    <p:animClr clrSpc="rgb">
                                      <p:cBhvr>
                                        <p:cTn id="73" dur="187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dc7"/>
                                      </p:to>
                                    </p:animClr>
                                    <p:set>
                                      <p:cBhvr>
                                        <p:cTn id="74" dur="187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autoRev="1" nodeType="withEffect" fill="hold" presetClass="emph" presetID="1" presetSubtype="2">
                                  <p:stCondLst>
                                    <p:cond delay="750"/>
                                  </p:stCondLst>
                                  <p:childTnLst>
                                    <p:animClr clrSpc="rgb">
                                      <p:cBhvr>
                                        <p:cTn id="76" dur="187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dc7"/>
                                      </p:to>
                                    </p:animClr>
                                    <p:set>
                                      <p:cBhvr>
                                        <p:cTn id="77" dur="187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998"/>
                            </p:stCondLst>
                            <p:childTnLst>
                              <p:par>
                                <p:cTn id="7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99"/>
                            </p:stCondLst>
                            <p:childTnLst>
                              <p:par>
                                <p:cTn id="92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3" dur="164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639"/>
                            </p:stCondLst>
                            <p:childTnLst>
                              <p:par>
                                <p:cTn id="9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07 0 L 3.125E-006 0 E">
                                      <p:cBhvr>
                                        <p:cTn id="108" dur="375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27 0 L 4.79167E-006 0 E">
                                      <p:cBhvr>
                                        <p:cTn id="110" dur="375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41 0 L 4.79167E-006 0 E">
                                      <p:cBhvr>
                                        <p:cTn id="112" dur="375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82 0 L 4.79167E-006 0 E">
                                      <p:cBhvr>
                                        <p:cTn id="114" dur="375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14"/>
                            </p:stCondLst>
                            <p:childTnLst>
                              <p:par>
                                <p:cTn id="116" dur="indefinite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90" fill="hold"/>
                                        <p:tgtEl>
                                          <p:spTgt spid="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8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90" fill="hold"/>
                                        <p:tgtEl>
                                          <p:spTgt spid="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0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90" fill="hold"/>
                                        <p:tgtEl>
                                          <p:spTgt spid="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2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90" fill="hold"/>
                                        <p:tgtEl>
                                          <p:spTgt spid="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4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90" fill="hold"/>
                                        <p:tgtEl>
                                          <p:spTgt spid="4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10">
                                  <p:stCondLst>
                                    <p:cond delay="18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87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87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187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8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10">
                                  <p:stCondLst>
                                    <p:cond delay="18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87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7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187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8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xit" presetID="10">
                                  <p:stCondLst>
                                    <p:cond delay="18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87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7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" dur="187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8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10">
                                  <p:stCondLst>
                                    <p:cond delay="18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87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87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" dur="187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8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xit" presetID="10">
                                  <p:stCondLst>
                                    <p:cond delay="18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87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87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187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8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381"/>
                            </p:stCondLst>
                            <p:childTnLst>
                              <p:par>
                                <p:cTn id="152" dur="indefinite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08:32:00Z</dcterms:created>
  <dc:creator>张一宏</dc:creator>
  <dc:description/>
  <dc:language>en-US</dc:language>
  <cp:lastModifiedBy>YANGS-PC</cp:lastModifiedBy>
  <dcterms:modified xsi:type="dcterms:W3CDTF">2015-11-12T06:54:42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