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media/image19.jpeg" ContentType="image/jpe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D2C5-540B-456A-AB45-CB8021E68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6C5E-29C4-4A36-8EDD-462C82C2B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3266DD-5015-4B54-99AD-5E13AF5C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753CE7-0B21-4857-8BB5-CC3965F1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32166B-C6F2-4422-9154-547B5CD68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FF23DE-4532-4EF7-A50C-9F9E6A81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B3EDF7-3959-452F-8624-A1FCC170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3808A0-7260-4EE3-B854-C975153C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85FE5F-2B02-42A3-B4ED-3B319037E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ACE95E-5F0D-40CA-9DA5-0DFCE2FF8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8B184C-5CEA-46A6-9AF6-6060A1807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274CD2-52F5-4589-BB26-714528AFF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481A-08CF-4400-91F5-D98A81758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F74843-DDE0-4749-A532-5F1AFB4A3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7F0480-BE80-4550-9FD9-2017BF8A1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988C03-2F7D-4B3B-9513-59DA1555C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97622F-CF56-4A21-8881-8EDC4A1FB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55460E-9C95-40E5-8617-AD96F20BC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D85A11-EC29-4C46-BF1B-A3BCBA6E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6DFCAD-99A7-4077-8528-9A3496B0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3922D6-13A4-4E75-B01B-E73B1D2B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1C5BA4-7C8A-462D-B89D-1C6674A3B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F27968-2662-4B69-8371-9F07D811E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B401-2233-4D5F-9027-994E28C39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EB2085-C542-4EAC-A316-3509CF295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9B81E6-CE3D-47E4-A45E-00C933BA6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ECFFE2-DFB4-4D5F-9E09-46081E4E2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C13304-AF5A-41DF-A715-7AFCA82D6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1C7D6C-EF56-4CD2-B437-F45C3D0DC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E2D429-D051-4827-B12F-463EFEE38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A50CB7-4F4D-4A77-B648-FBCBF3947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241932-6610-4E81-880D-8CF4BDF4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2D0909-F8E3-4B92-A094-9F91EA6E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DBEA6E-9C24-40DD-83AD-5555EF18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53B1F-EDBC-400B-84C6-A10E0C3C8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D83770-BC5D-488B-8DCB-29B87F9C8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E3B8E6-C926-43E5-860B-588938E79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79979E-0616-4706-AB01-E7E6DFE3A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D59E76-E718-4931-8335-3765BE7D5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5E03FA-9E20-4CCC-A4C5-E714EA290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CEA9CE-D282-4B66-A0ED-932BE9883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D5E5E3-7BA0-4829-9DFC-947D3C0B3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E445CB-290A-407B-A2B1-04A96333E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4E9F18-E921-4686-898D-CC4522D0D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3179D3-7BEF-43AB-B354-C02E92C5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11DAD-B410-4A16-9E93-9C74E19ED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C7AE54-D706-4EE3-9B32-AE7E027C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95D122-A480-4D46-99DD-2BCF0428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95C869-BE02-4FAD-A9F0-4349C11AE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A07063-9586-450B-AB37-E587E1596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5D7B65-846F-4544-8358-2DE5CC03F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F49063-201E-4658-A727-9CBE8A1E4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C64083-664B-4837-B572-B989626E7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377363-604A-47B7-9CC8-B7DB5EEFD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60944D-1F18-44F6-A693-01B06BFD5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3D5C88-CE42-4164-8148-9A42505E6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D9999-3924-4B12-B11F-AB8A0F9CD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30CA9A-FF27-46DB-BA63-FE6100040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BC8BA1-0E6C-4135-B332-BD22EA5D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EC3595-5EB1-41B3-B932-BDC57055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A352A5-3A34-4AAC-AAEC-D00AF781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D6FF0B-AB73-4055-862A-FA37B0EA9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D46250-ADAD-4300-83CD-3786FC580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A97AB5-824B-4744-9E33-61A4A33B1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ECCD18-316A-45EB-BE03-8C2EB8D5F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DBB43A-5394-4E93-A31A-FA5942C14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4B026B-1C6C-4AA9-8146-20FDCA112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BFA6C-610D-4329-B215-D785484E7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EFD7EB-058E-4EA8-90E1-65BF9741F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5602D3-C6FC-46D4-98CB-DC423C10E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457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D7EEEA-7B4B-4673-8BD2-5FF9DE2E0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F89746-9DE3-47BC-A795-9620C24E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8027CE-2C79-4C75-8251-BDF92EC0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28050D-944E-44A5-AF50-4647D352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D15D2B-83FF-4251-BAB4-4A29F6C90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6DA75E-1DD2-4912-8651-3ECEC5991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139350-971D-44AF-AC55-5D6EDBBEF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52341-0D89-4E4D-AE40-B49B4F54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457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D9E7E-8C20-42F3-B70E-9F4E4EF4A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457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11449-1C0C-4F29-A80E-FD4128E9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457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110D-EDD5-46B3-8F25-54D712320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E7E7F-5D9A-489E-86B4-3A86A4A0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C3828-A7D1-4D17-A826-BD105039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2B9C9-13EE-47EB-B983-EF3B4E840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457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C3EE797-33DE-4293-9FA5-1A4098547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83CB9-AAF6-43D3-B9AF-A282E9990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8339DC8-14DC-43A2-A626-1A33AE502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D2FD98B-87C0-4560-BA66-8C34C7508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CB16950-7BCA-45D3-8ACC-7E8FD5023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C65835F-5259-4C59-9E4F-324C4A585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457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3817C5A-1227-4802-A842-339A9074D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45FCD2C-4138-41BE-B275-FC5B3C9B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1E6B2DD-01A0-47E0-9E5C-171473A8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F775F16-5FCC-41EB-86C3-6B65F6B8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C47911C-C8CE-4E1C-ABA8-8E8BD7C54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54417E0-71D8-4D87-B9A9-F51492832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2A306-D1BA-4FB0-9A74-166B20481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4D19E70-0A5C-4B11-B505-ABE765A71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2FDFCF3-CE35-4A11-AD73-55C790C10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31B68BA-0EF7-4156-97B2-6E8228703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7683845-14E6-4312-BED5-F05044B87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FDC8EFD-722C-415E-A6A3-69EEFDA40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A23D7EF-573D-48D8-B153-5262118E0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ubTitle"/>
          </p:nvPr>
        </p:nvSpPr>
        <p:spPr>
          <a:xfrm>
            <a:off x="457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E6392C0-DE6A-48C5-91B9-9017AE58E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C68B9D0-8677-4600-8948-56412509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8541911-AC8B-4E25-9B3B-BE9978D1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F40DF95-79D0-4DD7-B026-CF2108FC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DB52A-5A97-4C9E-A874-7845016EA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53AB1EB-2C52-4351-893A-AA6E5C326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558EBCC-7B61-4D60-AC9D-2E23BE47B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8550DAC-A939-43D2-95E5-CABAC37E2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6E36904-0D75-4B01-AA2A-263104D3F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02872B4-268A-49D2-BB78-D0806725A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2960FD0-AB47-452F-AFFB-848AB5707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BA3D9C2-417A-4827-BF08-CA0FAD9CB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2BA0893-91D4-4B1E-952E-73CC7A4CE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457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F10C7E5-4DC6-4FF5-AAD9-A3EDD4A7F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39A5387-348B-448C-96E3-4765E55C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FE01C-CE18-4110-A7EE-5F2A09E06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B58830B-2FF0-474C-B1D4-7A7F5076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E26595F-096E-43AC-B55C-2E6E9CDA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2A4F82F-8497-4F1C-8CD1-97D60CFA7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A7ECCE0-FE37-49BF-97CD-8811EF1EC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F08E8BA-E74B-4CF9-A3ED-09DB1ADB7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B7675-1A4B-4676-A437-5F1D7AE41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ubTitle"/>
          </p:nvPr>
        </p:nvSpPr>
        <p:spPr>
          <a:xfrm>
            <a:off x="457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41FCE-D824-4E33-AB0E-39E5354A5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9CBD9-3D87-4D9A-9564-3C603D58E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29B3-F6F1-48BB-AE15-4F6190B38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A510C-598B-4501-BB13-4338F2612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361D9-E899-4DB5-88A0-BB681D14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CAA50-2485-4A55-9435-53E2D2C3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1ABC8-F327-470A-94CC-D8E9DA4E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4D3F6-C9D3-4525-AB55-828422A70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BE3CD-B9D4-44C3-B26F-BA3560451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FCEB7-0301-41DD-B78B-739785F2A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6558E-97A2-4D5B-A1F6-E79FA2B27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014E9-610C-44BA-8CC2-60F1C588E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F560F-B6E0-468B-AC29-D5A94CA1C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F3CD-0CC5-40A3-BD33-D6C317575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760E8-FA12-4D16-A027-D5D051EA5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1B638-5AC6-4766-A9B5-7592E54AE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E644D-35DA-4F1F-A993-6959BCB15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5F99A-4525-4AFF-9142-1D5CE6C0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E68D4-1902-44B3-8262-7A4A7084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DE49F-BA2A-45EF-ADC6-41E51B4F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BAF19-D90A-4DDE-8108-6D55C84BE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1E905-077B-46ED-92B0-43E64F21A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92EB3-6FB4-4836-B9B0-2A38A6E08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BAE74-8F45-4432-A72A-17CFA7AAD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8E0D-F4C4-475D-AB25-78FA7BFF8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0883B-9A5E-4046-8C80-7F0E26724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193C2-B0BC-4418-BA22-5B160BF8A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3C42E-A5AF-437E-AE86-57F4A65E6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9090C-0935-49E2-9984-7262FB321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53241-C1AC-4A22-9979-98F5F90C9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3515D-F39B-46E7-A298-1EFE139B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AFCD9-EE53-4487-8EEA-3230ECCC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15C9D-74B2-419F-A576-B9673150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A03D2-9330-4AB3-8D20-AADF5D4E7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87E7C-A9E8-4CC9-B9F9-FB5528E2B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A4DE-7C27-4949-9CDB-C387B727F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6BED3-B555-4059-A938-23F9A8D76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6C8860-18C6-4F52-98F5-D135E40F4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2E350F-B92D-4595-88AC-26C24496E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B07F2-241F-4C93-86AB-C9C297A92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127BC-6360-44C0-9626-8931E9253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0446B-DB05-44BB-B4FD-027114E7B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DBF34-D00D-4FBC-B740-3317F7268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DDDC5-4951-4AE4-BA4B-31308AD7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ABBAB-2004-4C79-98F2-F5E66A24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145142-46B7-467B-8B8D-CAA46D8D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9812-24D7-4FF7-A115-31783DD3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D1CB7-3E5B-486A-9E08-3CCD5BCD6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B6BD1-2363-44BC-90CA-51F6402C2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04FF5-2F1B-4B9A-89F5-5BE150E1E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0874FB-1E62-4E2C-AF82-4B572E9A2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4E8D42-5EAE-4FF0-AC71-0B80EAF1E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FC106-5964-49BF-AB2A-824AD3458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1D1D0-86E5-44E2-8841-72410BFBF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45D5A-C6AE-4D5B-9E15-41A591381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4A8E16-D9AD-4B0B-8052-2C625CF2C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C3F6C5-99F8-4133-B4C5-38BF1F88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5505-BEAA-4998-B717-A440FEFC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B62F49-93C7-4040-B700-6FBFDBC2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C1DF68-8229-43C7-B7EB-DACE6820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C0FF37-A1C3-4B11-804E-B979C2630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0D40E-D600-418E-81D5-0E8746184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6F6703-DF74-4FE1-A040-03B2D3DAF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7E1683-CB05-4AB3-AF59-948AD52F4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5436E2-B1FA-4392-8BB4-2B12D2899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936495-B1A2-4F3E-85F0-F2379E5E2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0BAC71-4164-4ABB-9E0C-714948098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83ABF2-446B-4218-9242-01BC20E00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0486-7503-45F3-BAC0-E095EF04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835F87-E004-4B7B-A645-726D76860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35E959-F6F4-461C-BC89-CD71C0FD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24866F-5F56-4EC2-AC6B-300B8700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C4FBCF-A8C1-4AE0-BFC2-4EFB15C1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6F5A7B-C53B-4E1A-9AB6-E8C84FB52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AA5BC2-DD55-469F-8FDF-2804109F6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0F23A8-5AE4-4353-8930-A16C2160C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026D88-DD71-4A06-8097-EBCCF80B6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D64CA2-E9BF-4AFD-B377-CD803DDD2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FEDA6D-EE98-4103-82EC-DA646757D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231F0-E0F7-4904-BF54-8AA962273637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376" name="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PlaceHolder 1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F11FE-3E02-4EEE-9D4B-644271B312E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5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65f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95CD8-EDF6-423C-AF2C-3921E66ED87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666520" y="2130120"/>
            <a:ext cx="579132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5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65f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84EA5-22A1-4EF8-A765-6A7F8ABEA9A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EBBAD-6820-491D-A243-3E679E8524B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88FDE-8FF5-4824-B9DE-13CCC7FE5FE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4EAF1-2801-4906-AF04-2D98EE2E2A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746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87480" indent="-265320"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ftr" idx="43"/>
          </p:nvPr>
        </p:nvSpPr>
        <p:spPr>
          <a:xfrm>
            <a:off x="3124080" y="636588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5"/>
          <p:cNvSpPr/>
          <p:nvPr/>
        </p:nvSpPr>
        <p:spPr>
          <a:xfrm>
            <a:off x="219240" y="6365880"/>
            <a:ext cx="13428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fld id="{0789D391-4A03-4E85-A458-7DF282F6D6BB}" type="slidenum">
              <a:rPr b="0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665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457200" y="1555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cc6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e151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e1517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e15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e151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ae151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e151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e151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ae151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e15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e151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ae151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ae151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e151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ae151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ae151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e151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ae151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e151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ae151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e151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ae151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39640" y="206064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e1517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ae151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C3E2A-AD91-48E9-97D2-960EE913CF76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dt" idx="4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ftr" idx="4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sldNum" idx="4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08998-8121-44D1-A13B-D2A579D2B1F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 type="body"/>
          </p:nvPr>
        </p:nvSpPr>
        <p:spPr>
          <a:xfrm>
            <a:off x="4460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buClr>
                <a:srgbClr val="ff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15000"/>
              </a:lnSpc>
              <a:buClr>
                <a:srgbClr val="33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15000"/>
              </a:lnSpc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15000"/>
              </a:lnSpc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115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115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dt" idx="4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ftr" idx="4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 type="sldNum" idx="4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B2C02-5B69-47D2-8291-F312591C5D8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dt" idx="5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BC108-D127-425E-94C5-4012AF64F2C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5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 type="sldNum" idx="5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356A1-9789-4DFE-8605-C69868B259A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99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06628-9D3E-4161-B7A8-AE68C164882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17DDA-F8F0-4869-8687-D8EE4B16D4D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63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13C32-0AB4-46EC-8C47-78DF57809F8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85BF8-87C4-47EA-8254-FB2C0179197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5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65f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12127-E477-4554-AA5B-158DEC6D926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666520" y="2130120"/>
            <a:ext cx="579132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5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65f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6690A-EE73-49A0-9D9A-12E609B982E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"/>
          <p:cNvGrpSpPr/>
          <p:nvPr/>
        </p:nvGrpSpPr>
        <p:grpSpPr>
          <a:xfrm>
            <a:off x="1071360" y="304920"/>
            <a:ext cx="7615440" cy="1105920"/>
            <a:chOff x="1071360" y="304920"/>
            <a:chExt cx="7615440" cy="1105920"/>
          </a:xfrm>
        </p:grpSpPr>
        <p:sp>
          <p:nvSpPr>
            <p:cNvPr id="329" name=""/>
            <p:cNvSpPr/>
            <p:nvPr/>
          </p:nvSpPr>
          <p:spPr>
            <a:xfrm flipH="1">
              <a:off x="4868280" y="304920"/>
              <a:ext cx="1104840" cy="11044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7583760" y="304920"/>
              <a:ext cx="1103040" cy="11044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1071000" y="30600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6324120" y="304920"/>
              <a:ext cx="1103400" cy="11044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2358360" y="304920"/>
              <a:ext cx="1103400" cy="11044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0A588-A490-49E7-B213-F831CC696A7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0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2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7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0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6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8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2519280" y="1160640"/>
            <a:ext cx="8229600" cy="22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新加坡十大旅游景点</a:t>
            </a:r>
            <a:endParaRPr b="0" lang="en-US" sz="4800" spc="-1" strike="noStrike">
              <a:solidFill>
                <a:srgbClr val="265f00"/>
              </a:solidFill>
              <a:latin typeface="Arial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5724360" y="3602160"/>
            <a:ext cx="8229600" cy="45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作者：张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.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裕廊飞禽公园 </a:t>
            </a:r>
            <a:br>
              <a:rPr sz="3200"/>
            </a:br>
            <a:endParaRPr b="1" lang="en-US" sz="3200" spc="-1" strike="noStrike">
              <a:solidFill>
                <a:srgbClr val="ae1517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e15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e1517"/>
                </a:solidFill>
                <a:latin typeface="Arial"/>
              </a:rPr>
              <a:t>裕廊飞禽公园坐落在新加坡裕廊山上，建于</a:t>
            </a:r>
            <a:r>
              <a:rPr b="0" lang="en-US" sz="2400" spc="-1" strike="noStrike">
                <a:solidFill>
                  <a:srgbClr val="ae1517"/>
                </a:solidFill>
                <a:latin typeface="Arial"/>
              </a:rPr>
              <a:t>1971</a:t>
            </a:r>
            <a:r>
              <a:rPr b="0" lang="zh-CN" sz="2400" spc="-1" strike="noStrike">
                <a:solidFill>
                  <a:srgbClr val="ae1517"/>
                </a:solidFill>
                <a:latin typeface="Arial"/>
              </a:rPr>
              <a:t>年，面积达</a:t>
            </a:r>
            <a:r>
              <a:rPr b="0" lang="en-US" sz="2400" spc="-1" strike="noStrike">
                <a:solidFill>
                  <a:srgbClr val="ae1517"/>
                </a:solidFill>
                <a:latin typeface="Arial"/>
              </a:rPr>
              <a:t>20.2</a:t>
            </a:r>
            <a:r>
              <a:rPr b="0" lang="zh-CN" sz="2400" spc="-1" strike="noStrike">
                <a:solidFill>
                  <a:srgbClr val="ae1517"/>
                </a:solidFill>
                <a:latin typeface="Arial"/>
              </a:rPr>
              <a:t>公顷，被誉为东南亚最壮观的“鸟类天堂”，也是世界上少数规模庞大的禽鸟公园之一。</a:t>
            </a:r>
            <a:endParaRPr b="0" lang="en-US" sz="2400" spc="-1" strike="noStrike">
              <a:solidFill>
                <a:srgbClr val="ae151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e151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e15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e1517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ae1517"/>
              </a:solidFill>
              <a:latin typeface="Arial"/>
            </a:endParaRPr>
          </a:p>
        </p:txBody>
      </p:sp>
      <p:pic>
        <p:nvPicPr>
          <p:cNvPr id="965" name="" descr=""/>
          <p:cNvPicPr/>
          <p:nvPr/>
        </p:nvPicPr>
        <p:blipFill>
          <a:blip r:embed="rId2"/>
          <a:stretch/>
        </p:blipFill>
        <p:spPr>
          <a:xfrm rot="60000">
            <a:off x="4444560" y="1766520"/>
            <a:ext cx="4197600" cy="36021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NO. 10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圣淘沙岛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46040" y="1350720"/>
            <a:ext cx="4038480" cy="47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从市中心出发，仅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分钟即可到达圣陶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一座风景旖旎的度假岛屿圣淘沙，在马来语中即“和平安宁”的意思。这里有纯净的海滩、世界级的旅游景点、海上运动场所、高尔夫球场和度假休闲中心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68" name="" descr=""/>
          <p:cNvPicPr/>
          <p:nvPr/>
        </p:nvPicPr>
        <p:blipFill>
          <a:blip r:embed="rId2"/>
          <a:stretch/>
        </p:blipFill>
        <p:spPr>
          <a:xfrm rot="20880000">
            <a:off x="4727160" y="1761840"/>
            <a:ext cx="4038480" cy="2646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1266840" y="2738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Calibri"/>
              </a:rPr>
              <a:t>谢谢您的观赏</a:t>
            </a:r>
            <a:endParaRPr b="1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.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滨海湾金沙</a:t>
            </a:r>
            <a:endParaRPr b="1" lang="en-US" sz="32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在滨海湾金沙的中心地区，有三座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55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层高的酒店高楼拔地而起，提供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2500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多间豪华客房。餐吧，酒吧，休闲吧，及名店汇聚。并设有两座一流的剧院，你可欣赏到各种风格各种流派各种地区的表演艺术。更为酒店观赏荣耀之光的是令人惊叹的金沙空中花园，并拥有一个广阔无垠的泳池，在这里能够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360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度的拳脚俯瞰新加坡的繁华之美。如临世界之巅，你将感受到误伤的尊贵体验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8" name="文本占位符 2" descr=""/>
          <p:cNvPicPr/>
          <p:nvPr/>
        </p:nvPicPr>
        <p:blipFill>
          <a:blip r:embed="rId2"/>
          <a:stretch/>
        </p:blipFill>
        <p:spPr>
          <a:xfrm>
            <a:off x="4645080" y="1698480"/>
            <a:ext cx="4041720" cy="41022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828360" y="-168120"/>
            <a:ext cx="822492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.2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环球影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84000" y="907920"/>
            <a:ext cx="295092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新加坡环球影城坐落于全球投资额最高、内容最丰富的顶级家庭旅游目的地圣淘沙名胜世界之内，其将推出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4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个过山车和景点，大部分景点为世界级的首创亮点或是特地为新加坡量身定造的，堪称环球影城的又一鸿篇巨制。环球影城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4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个景点和云霄飞车等项目中，有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8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个专为新加坡设计，全球独有的游乐项目，包括科幻影集太空堡垒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Battlestar Galactica)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为蓝本，高度达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2.5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米的双轨云霄飞车；以及拥有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500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个观众席、全球最多座位的未来水世界剧场等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1" name="Espace réservé du texte 2" descr=""/>
          <p:cNvPicPr/>
          <p:nvPr/>
        </p:nvPicPr>
        <p:blipFill>
          <a:blip r:embed="rId2"/>
          <a:stretch/>
        </p:blipFill>
        <p:spPr>
          <a:xfrm>
            <a:off x="3637080" y="1054080"/>
            <a:ext cx="5256000" cy="43909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新加坡摩天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788000" y="1483920"/>
            <a:ext cx="4038480" cy="47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新加坡摩天轮耗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4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亿元新币，历经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年打造完工，其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65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米高的巨姿震撼全亚洲。由东京知名建筑师黑山纪章与新加坡缔博建筑师事务所携手合作，从埃菲尔塔及伦敦眼汲取设计灵感，创造出前所未有的观景轮。周边设施还有购物休闲中心，户外希腊剧院，湾畔餐饮长廊以及热带雨林庭园，为游客带来独特的全新体验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4" name="" descr=""/>
          <p:cNvPicPr/>
          <p:nvPr/>
        </p:nvPicPr>
        <p:blipFill>
          <a:blip r:embed="rId2"/>
          <a:stretch/>
        </p:blipFill>
        <p:spPr>
          <a:xfrm>
            <a:off x="684360" y="1413000"/>
            <a:ext cx="4038480" cy="4176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10920" y="259920"/>
            <a:ext cx="82234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.4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新加坡夜间动物园</a:t>
            </a:r>
            <a:br>
              <a:rPr sz="3600"/>
            </a:br>
            <a:r>
              <a:rPr b="0" lang="zh-CN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946" name="" descr=""/>
          <p:cNvPicPr/>
          <p:nvPr/>
        </p:nvPicPr>
        <p:blipFill>
          <a:blip r:embed="rId1"/>
          <a:stretch/>
        </p:blipFill>
        <p:spPr>
          <a:xfrm>
            <a:off x="2556000" y="1268280"/>
            <a:ext cx="3024000" cy="2448000"/>
          </a:xfrm>
          <a:prstGeom prst="rect">
            <a:avLst/>
          </a:prstGeom>
          <a:ln w="0">
            <a:noFill/>
          </a:ln>
        </p:spPr>
      </p:pic>
      <p:pic>
        <p:nvPicPr>
          <p:cNvPr id="947" name="" descr=""/>
          <p:cNvPicPr/>
          <p:nvPr/>
        </p:nvPicPr>
        <p:blipFill>
          <a:blip r:embed="rId2"/>
          <a:stretch/>
        </p:blipFill>
        <p:spPr>
          <a:xfrm>
            <a:off x="5796000" y="1268280"/>
            <a:ext cx="3097080" cy="2448000"/>
          </a:xfrm>
          <a:prstGeom prst="rect">
            <a:avLst/>
          </a:prstGeom>
          <a:ln w="0">
            <a:noFill/>
          </a:ln>
        </p:spPr>
      </p:pic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10920" y="4076280"/>
            <a:ext cx="64818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这是全球唯一一座夜间野生动物园，耗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0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元，运用岩石，溪流，及花草树木等天然环境，营造出适合夜间动物居住的丛林世界。园内目前拥有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只的夜间动物，通过先进的照明科技，在不干扰动物的生活状况下，让游客能清楚的观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-1979640" y="40428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5f00"/>
                </a:solidFill>
                <a:latin typeface="Arial"/>
              </a:rPr>
              <a:t>NO.5</a:t>
            </a:r>
            <a:r>
              <a:rPr b="0" lang="zh-CN" sz="3200" spc="-1" strike="noStrike">
                <a:solidFill>
                  <a:srgbClr val="265f00"/>
                </a:solidFill>
                <a:latin typeface="Arial"/>
              </a:rPr>
              <a:t>新加坡植物园</a:t>
            </a:r>
            <a:br>
              <a:rPr sz="3200"/>
            </a:br>
            <a:endParaRPr b="0" lang="en-US" sz="3200" spc="-1" strike="noStrike">
              <a:solidFill>
                <a:srgbClr val="265f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43280" y="1196640"/>
            <a:ext cx="401184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加坡植物园占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公顷，以研究和收集热带植物、园艺花卉而著称。园内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多种亚热带、热带的奇异花卉和珍贵的树木，可分为热带、亚热带常绿乔木、灌木、蔓藤、棕榈、竹类园艺花卉、水生植物、沼生植物、寄生植物和沙漠植物等。园中的热带丛林、繁花似锦的小花园和温室，占地约四公顷，分外清新迷人。维多利亚式建筑的胡姬亭，种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0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多株名贵兰花，其中包都有远近驰名的新加坡国花卓锦万黛兰，该园曾成功地引进和培植原产于巴西的三叶橡胶树，从而改变了东南亚经济，使马来西亚、印度尼西亚等国成为主要的橡胶生产地。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2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起，新加坡植物园就致力于观赏植物的杂交育种工作，特别是对胡姬花及其杂交品种的研究工作取得出重大成果，使新加坡胡姬花出口居世界领先地位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2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4392360" cy="4968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NO.6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新加坡乌节路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乌节路是新加坡的百货商圈，各大购物中心沿着道路两侧排列开来，热闹景象让人无法想象。长长的乌节路设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座地铁站，无论从哪一站下车，都将陷入丛林般的购物商场与汹涌人潮，更过名牌精品竞相争艳。逛累了，小型酒吧，露天咖啡及三明治简餐无所不在，仿佛置身巴黎香榭里大道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5" name="" descr=""/>
          <p:cNvPicPr/>
          <p:nvPr/>
        </p:nvPicPr>
        <p:blipFill>
          <a:blip r:embed="rId1"/>
          <a:stretch/>
        </p:blipFill>
        <p:spPr>
          <a:xfrm>
            <a:off x="5033880" y="1627200"/>
            <a:ext cx="3259080" cy="2190600"/>
          </a:xfrm>
          <a:prstGeom prst="rect">
            <a:avLst/>
          </a:prstGeom>
          <a:ln w="0">
            <a:noFill/>
          </a:ln>
        </p:spPr>
      </p:pic>
      <p:pic>
        <p:nvPicPr>
          <p:cNvPr id="956" name="" descr=""/>
          <p:cNvPicPr/>
          <p:nvPr/>
        </p:nvPicPr>
        <p:blipFill>
          <a:blip r:embed="rId2"/>
          <a:stretch/>
        </p:blipFill>
        <p:spPr>
          <a:xfrm>
            <a:off x="5084640" y="3940200"/>
            <a:ext cx="3165480" cy="21906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86920" y="404640"/>
            <a:ext cx="85201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.7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克拉码头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87440" y="1585800"/>
            <a:ext cx="4038480" cy="56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克拉码头是位于新加坡河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ver Vally Rd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角的旅游名胜地。这里有餐厅、购物城、娱乐设施，当地人和外国游客都很多。只是这里白天店铺开门的很少，要想充分享受，还是傍晚以后前往最佳。每到周末，举家出游来此的人络绎不绝。整条河滨街道充满浪漫气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9" name="Rectangle 3" descr=""/>
          <p:cNvPicPr/>
          <p:nvPr/>
        </p:nvPicPr>
        <p:blipFill>
          <a:blip r:embed="rId2"/>
          <a:stretch/>
        </p:blipFill>
        <p:spPr>
          <a:xfrm>
            <a:off x="4635360" y="1566720"/>
            <a:ext cx="4184640" cy="3544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-4354560" y="620640"/>
            <a:ext cx="8226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.8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新加坡动物园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55592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新加坡动物园位于新加坡北部的万里湖路，占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83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公顷，采用全开放式的模式，是世界十大动物园之一。园内以天然屏障代替栅栏，为各种动物创造天然的生活环境，有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72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个品种约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700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多只动物在没有人为屏障的舒适环境下过着自由自在的生活，与游客和平共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2" name="" descr=""/>
          <p:cNvPicPr/>
          <p:nvPr/>
        </p:nvPicPr>
        <p:blipFill>
          <a:blip r:embed="rId2"/>
          <a:stretch/>
        </p:blipFill>
        <p:spPr>
          <a:xfrm>
            <a:off x="4648320" y="1635120"/>
            <a:ext cx="4038480" cy="355428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4T16:47:09Z</dcterms:created>
  <dc:creator/>
  <dc:description/>
  <dc:language>en-US</dc:language>
  <cp:lastModifiedBy>u</cp:lastModifiedBy>
  <cp:lastPrinted>1899-12-30T00:00:00Z</cp:lastPrinted>
  <dcterms:modified xsi:type="dcterms:W3CDTF">2012-10-01T03:58:15Z</dcterms:modified>
  <cp:revision>6</cp:revision>
  <dc:subject/>
  <dc:title>新加坡旅游景点十大不得不去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05</vt:lpwstr>
  </property>
</Properties>
</file>