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44CF5-EA0D-4D7A-ADAB-1319A8CBA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DEE0-5CD7-4974-9028-06A635694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37CC3-6476-4EBB-BF1B-BC699A81A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9A934-93ED-4795-89E8-2FF6DF813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7BED-69CF-4FA0-9969-F4A0FC514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DE801-32A3-464B-8F65-082E04C3C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C9606-CB29-4304-94B9-921489576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D6C09-877C-4ACB-97A0-E7CA1B0F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AC10-8426-4DF3-96F5-C05984D42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5188-4200-4F14-A460-AF6747D66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5C8B-D1E7-416C-836E-C74D5DD7A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32AB1-22E3-4274-A8C1-5AA91BD6A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A3E3-817D-4B57-A01B-3395B43DD0C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鸡蛋哥哥故事简介：</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书讲述的蛋宝宝一点也不想长大，他想一直待在蛋壳里，让妈妈抱着入睡……可爱管闲事的乌鸦先生可不这么认为，他想用自己尖尖的嘴，帮鸡蛋哥哥把蛋壳啄开。鸡蛋哥哥拼命逃跑，可蛋壳还是撞碎了！从蛋壳里出来的鸡蛋哥哥感觉怎么样呢？其实也挺不错的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故事分析：</a:t>
            </a:r>
            <a:endParaRPr b="0" lang="en-US" sz="4400" spc="-1" strike="noStrike">
              <a:solidFill>
                <a:srgbClr val="000000"/>
              </a:solidFill>
              <a:latin typeface="Arial"/>
            </a:endParaRPr>
          </a:p>
        </p:txBody>
      </p:sp>
      <p:sp>
        <p:nvSpPr>
          <p:cNvPr id="58"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秋山匡创作这本《鸡蛋哥哥》的灵感，是来自于对儿子拒绝长大的经历和过程的观察、思考与情感表达。过度依赖社会、家庭所提供的一个“安全”的环境，现代儿童的可塑性和好奇心逐渐退化。当他们在做一件事时，并没有抱着明确的目标，对于眼前的小世界，也只能用较小的格局去思考，而书中不想长大的鸡蛋哥哥正巧妙地表达出现代儿童成长中的普遍心理现象。早就应该从蛋壳里蹦出来的小鸡，因为力气有点小、自尊心有点强，一直背着蛋壳跑来跑去。弟弟妹妹们都长得比他高了，他还是个鸡蛋，而且，觉得做个蛋宝宝也挺不错的。一次阴差阳错，这个蛋壳里的哥哥还成了保护弟弟们的大英雄。</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鸡蛋宝宝本来执意要自己打开蛋壳，但因为一场小“事故”，一下子变成了鸡蛋哥哥。即使一开始很有决心，但还是会选择走轻松的路，这就是儿童的心理吧。大人可能会说：“知道做不到，就说‘做不到’不就行了吗？” 虽然鸡蛋哥哥执意要自己努力，但一开始还是很满足于蛋的状态。这个时候，妈妈并没有责怪他在“绕远路”，而是温存地守护着他。</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r>
              <a:rPr b="0" lang="zh-CN" sz="2000" spc="-1" strike="noStrike">
                <a:solidFill>
                  <a:srgbClr val="000000"/>
                </a:solidFill>
                <a:latin typeface="Arial"/>
              </a:rPr>
              <a:t>长大是无法避免的，成长的过程必须经历一连串的试炼。秋山匡想借由绘本的力量找回孩子应有的朝气与生命力，在成长中认识自己，就像最后破壳而出的鸡蛋哥哥满意自己变成小鸡的模样。  </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者简介：</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秋山匡，出生于日本东京。毕业于东京艺术大学设计系。作品《快睡吧》获得了</a:t>
            </a:r>
            <a:r>
              <a:rPr b="0" lang="zh-CN" sz="3200" spc="-1" strike="noStrike">
                <a:solidFill>
                  <a:srgbClr val="000000"/>
                </a:solidFill>
                <a:latin typeface="Arial"/>
              </a:rPr>
              <a:t>1995</a:t>
            </a:r>
            <a:r>
              <a:rPr b="0" lang="zh-CN" sz="3200" spc="-1" strike="noStrike">
                <a:solidFill>
                  <a:srgbClr val="000000"/>
                </a:solidFill>
                <a:latin typeface="Arial"/>
              </a:rPr>
              <a:t>年日本绘本大奖。其他的作品有“鸡蛋哥哥”系列、《小宝宝的邮局》等。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你好鸡蛋哥哥故事简介：</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早就应该从蛋壳里蹦出来的小鸡，因为力气有点小、自尊心有点强，一直背着蛋壳跑来跑去。弟弟妹妹们都长得比他高了，他还是个鸡蛋，而且，觉得做个蛋宝宝也挺不错的。一次阴差阳错，这个蛋壳里的哥哥还成了保护弟弟们的大英雄……</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 User</cp:lastModifiedBy>
  <dcterms:modified xsi:type="dcterms:W3CDTF">2008-05-06T13:44: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