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167E-C968-4EA5-9C70-7CF8F482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9F7-9C1F-48F1-9D13-A563FC08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EF1-8E8D-4A7C-BA8D-60BF6422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9AE-EAEF-49DA-814D-EBD7BEA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5C2B-3B51-4B6B-BC5C-EFB98F7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5D9-E848-4F6A-B592-1F8A4FB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057-E120-4B89-9A3D-15B43B7A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777-086D-44A8-A7A1-8B490A8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06C-DF78-4CCF-9FE5-B6C967D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398-F1C6-4535-B37D-A26BA0DB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090-72C8-4D13-B024-3E593920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AFE-3A33-4617-9B96-BA26E9E3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404-5374-4663-B6C4-4C138D8A37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sucai/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01"/>
          <p:cNvPicPr/>
          <p:nvPr/>
        </p:nvPicPr>
        <p:blipFill>
          <a:blip r:embed="rId1"/>
          <a:stretch/>
        </p:blipFill>
        <p:spPr>
          <a:xfrm>
            <a:off x="4968720" y="479520"/>
            <a:ext cx="1141560" cy="70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image7"/>
          <p:cNvPicPr/>
          <p:nvPr/>
        </p:nvPicPr>
        <p:blipFill>
          <a:blip r:embed="rId2"/>
          <a:stretch/>
        </p:blipFill>
        <p:spPr>
          <a:xfrm>
            <a:off x="360360" y="117360"/>
            <a:ext cx="1652760" cy="143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image13"/>
          <p:cNvPicPr/>
          <p:nvPr/>
        </p:nvPicPr>
        <p:blipFill>
          <a:blip r:embed="rId3"/>
          <a:stretch/>
        </p:blipFill>
        <p:spPr>
          <a:xfrm>
            <a:off x="5402160" y="984240"/>
            <a:ext cx="225360" cy="19044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-71280" y="6378480"/>
            <a:ext cx="309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0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04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08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1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14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26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1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2340000" y="60228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eeppt.com/suca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5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9:02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11-11T09:03:24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