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9.png" ContentType="image/png"/>
  <Override PartName="/ppt/media/image3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1.jpeg" ContentType="image/jpeg"/>
  <Override PartName="/ppt/media/image4.jpeg" ContentType="image/jpeg"/>
  <Override PartName="/ppt/media/image6.wmf" ContentType="image/x-wmf"/>
  <Override PartName="/ppt/media/image13.jpeg" ContentType="image/jpeg"/>
  <Override PartName="/ppt/media/image18.gif" ContentType="image/gif"/>
  <Override PartName="/ppt/media/image20.gif" ContentType="image/gi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2FF-1A9D-4922-911C-F80D4F93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C2D-C5C2-473C-8119-0BC18D5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1D5-DB79-4BF3-83FA-D7AF0BAD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8C3-9DAA-48F4-A90F-A4CD5872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E21B-D08D-44BB-80DA-80CD380A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BF79-1ED0-4173-B4A1-673367AB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13D9-C981-41D8-84DB-5B78133C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1B04-1B36-4B9D-9D29-2A0D905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79E9-EB76-4889-A94C-AFE87AE2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4BA0-44E6-4843-B17B-0CD482C7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CB03-FDFE-47FE-8C2B-BA2269D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833-49EE-4035-95B7-EDA83F68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84A0-9BB2-4E72-B970-2E137878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BA9B-2667-461A-B852-7D49EF6C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19CB-F4B8-4CC7-ABCE-B7406664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CF63-0ACF-4EAD-AD07-F32AB8F6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F8C5-9B77-4CD1-9C9D-482A5D1D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1F2-42AD-4EEF-B2AD-D7E4F685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16C-D492-4A70-89EB-4CCD4215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3E8-C22F-4282-95E4-6B2695BF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943-EBEE-438F-BA0B-37D2F43D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50A-9336-4289-81AC-D2332C65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ACE-3926-4CAE-81C1-045DDF0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6C3-68BF-4352-B529-B6FA05B5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BC5E-DF1D-466F-BA41-579761ECEF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F28-83D5-442F-A5A6-E998C2E283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99,10,&#24187;&#28783;&#29255; 10" TargetMode="External"/><Relationship Id="rId3" Type="http://schemas.openxmlformats.org/officeDocument/2006/relationships/hyperlink" Target="282,16,&#24187;&#28783;&#29255; 16" TargetMode="External"/><Relationship Id="rId4" Type="http://schemas.openxmlformats.org/officeDocument/2006/relationships/hyperlink" Target="309,16,&#24187;&#28783;&#29255; 16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时间管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12000" y="3500280"/>
            <a:ext cx="1868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第六讲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GT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9440" y="1339920"/>
            <a:ext cx="53989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GTD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流程图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Getting Things Done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的缩写。来自于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David Allen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戴维 艾伦 的一本畅销书《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Getting Things Done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》，国内的中文翻译本《尽管去做：无压工作的艺术》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主要原则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9800" y="1339920"/>
            <a:ext cx="54720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一个人需要通过记录的方式把头脑中的各种任务移出来，通过这样的方式，头脑可以不用塞满各种需要完成的事情，而集中精力在正在完成的事情，是一种消灭压力的高效工作方法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与众不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9440" y="1339920"/>
            <a:ext cx="53989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llen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并不把重点放在设置任务的优先级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他也建议任何两分钟之内就能完成的任务应该马上做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过人之处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7640" y="1339920"/>
            <a:ext cx="5473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我们的脑力上的“提醒系统”相当的低效，很少能够在恰当的时间和地点提醒我们需要做的事情。因此，把“下一步行动”根据场景分类存放在“可信的系统”当中，是一个能使我们在正确的时间得到正确的提醒的手段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TD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的核心原则如下：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8000" y="1339920"/>
            <a:ext cx="6778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搜集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处理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 Rounded MT Bold"/>
                <a:hlinkClick r:id="rId4"/>
              </a:rPr>
              <a:t>组织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检查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9" name="箭头 314"/>
          <p:cNvSpPr/>
          <p:nvPr/>
        </p:nvSpPr>
        <p:spPr>
          <a:xfrm flipH="1">
            <a:off x="4932360" y="1844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8000" y="1701720"/>
            <a:ext cx="18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记得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箭头 317"/>
          <p:cNvSpPr/>
          <p:nvPr/>
        </p:nvSpPr>
        <p:spPr>
          <a:xfrm flipH="1">
            <a:off x="5363640" y="328464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3068640"/>
            <a:ext cx="15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遗忘的承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76360" y="44280"/>
            <a:ext cx="5940360" cy="6181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48360" y="1173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以为你忘了，其实你还记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7440" y="357336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追求意识和实现的一致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43920"/>
            <a:ext cx="6697800" cy="66963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“ </a:t>
            </a: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把杂事放在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7c80"/>
                </a:solidFill>
                <a:latin typeface="Arial Rounded MT Bold"/>
              </a:rPr>
              <a:t>头脑以外</a:t>
            </a: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的</a:t>
            </a:r>
            <a:r>
              <a:rPr b="0" lang="zh-CN" sz="6000" spc="-1" strike="noStrike">
                <a:solidFill>
                  <a:srgbClr val="ff7c80"/>
                </a:solidFill>
                <a:latin typeface="Arial Rounded MT Bold"/>
              </a:rPr>
              <a:t>收件箱</a:t>
            </a: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0000" y="1701720"/>
            <a:ext cx="2565360" cy="246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 rot="20340000">
            <a:off x="3780000" y="1701000"/>
            <a:ext cx="1800000" cy="503280"/>
          </a:xfrm>
          <a:prstGeom prst="rightArrow">
            <a:avLst>
              <a:gd name="adj1" fmla="val 50000"/>
              <a:gd name="adj2" fmla="val 8941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">
            <a:off x="3779640" y="3068640"/>
            <a:ext cx="1800000" cy="504720"/>
          </a:xfrm>
          <a:prstGeom prst="rightArrow">
            <a:avLst>
              <a:gd name="adj1" fmla="val 50000"/>
              <a:gd name="adj2" fmla="val 89158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2762280" cy="200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651640" y="2708280"/>
            <a:ext cx="232704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361200" cy="480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 rot="21539400">
            <a:off x="7596000" y="5589360"/>
            <a:ext cx="6537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8000" y="692280"/>
            <a:ext cx="9144000" cy="541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4920" y="692280"/>
            <a:ext cx="9242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6720" y="117360"/>
            <a:ext cx="84013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两分钟原则：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9440" y="1339920"/>
            <a:ext cx="53989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任何事情如果花的时间少于</a:t>
            </a:r>
            <a:r>
              <a:rPr b="0" lang="zh-CN" sz="3200" spc="-1" strike="noStrike">
                <a:solidFill>
                  <a:srgbClr val="cc0000"/>
                </a:solidFill>
                <a:latin typeface="Arial Rounded MT Bold"/>
              </a:rPr>
              <a:t>两分钟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，那么马上就去做。两分钟是一个分水岭，这样的时间和正式地推迟一个动作所花的时间差不多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47520"/>
            <a:ext cx="6913800" cy="66963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Arial Rounded MT Bold"/>
              </a:rPr>
              <a:t>决定下一步行动只要</a:t>
            </a:r>
            <a:r>
              <a:rPr b="0" lang="zh-CN" sz="5400" spc="-1" strike="noStrike">
                <a:solidFill>
                  <a:srgbClr val="ff7c80"/>
                </a:solidFill>
                <a:latin typeface="Arial Rounded MT Bold"/>
              </a:rPr>
              <a:t>十秒钟</a:t>
            </a:r>
            <a:r>
              <a:rPr b="0" lang="zh-CN" sz="5400" spc="-1" strike="noStrike">
                <a:solidFill>
                  <a:srgbClr val="000000"/>
                </a:solidFill>
                <a:latin typeface="Arial Rounded MT Bold"/>
              </a:rPr>
              <a:t>，大部分人却</a:t>
            </a:r>
            <a:r>
              <a:rPr b="0" lang="zh-CN" sz="5400" spc="-1" strike="noStrike">
                <a:solidFill>
                  <a:srgbClr val="ff7c80"/>
                </a:solidFill>
                <a:latin typeface="Arial Rounded MT Bold"/>
              </a:rPr>
              <a:t>做不到</a:t>
            </a: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  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9440" y="1339920"/>
            <a:ext cx="53989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Arial Rounded MT Bold"/>
              </a:rPr>
              <a:t>快 </a:t>
            </a:r>
            <a:r>
              <a:rPr b="0" lang="zh-CN" sz="6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zh-CN" sz="6600" spc="-1" strike="noStrike">
                <a:solidFill>
                  <a:srgbClr val="cc0000"/>
                </a:solidFill>
                <a:latin typeface="Arial Rounded MT Bold"/>
              </a:rPr>
              <a:t> 乐</a:t>
            </a:r>
            <a:endParaRPr b="0" lang="en-US" sz="6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"/>
          <p:cNvSpPr/>
          <p:nvPr/>
        </p:nvSpPr>
        <p:spPr>
          <a:xfrm>
            <a:off x="2989440" y="3141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3141720"/>
            <a:ext cx="15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96360" y="5084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28720" y="692280"/>
            <a:ext cx="792000" cy="793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647640" cy="645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900000" y="3718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453440" y="260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524720" y="134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7451640" y="270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7380360" y="3645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92360" y="189000"/>
            <a:ext cx="1728720" cy="57600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怎么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940360" y="981000"/>
            <a:ext cx="1657440" cy="5032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胎扎破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076720" y="1988280"/>
            <a:ext cx="2810160" cy="5763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的，我要了解怎么修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26920" y="2996640"/>
            <a:ext cx="2881080" cy="5029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己打车回去，让朋友帮我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3429000"/>
            <a:ext cx="1871640" cy="36036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你有他电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1054080"/>
            <a:ext cx="2449440" cy="64764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需要你自己采取行动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2276640"/>
            <a:ext cx="2232000" cy="43164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步你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1044720" y="4797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7308720" y="4797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 flipV="1">
            <a:off x="6084000" y="5517360"/>
            <a:ext cx="1513080" cy="3589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7308720" y="3789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79640" y="4653000"/>
            <a:ext cx="1871640" cy="36036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那你就等等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7435800" y="39164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 flipV="1">
            <a:off x="5218920" y="4149720"/>
            <a:ext cx="2303640" cy="5047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，我现在给他打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4"/>
          <a:stretch/>
        </p:blipFill>
        <p:spPr>
          <a:xfrm>
            <a:off x="468360" y="5805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260280"/>
            <a:ext cx="3529080" cy="64944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注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4391280" y="-711720"/>
            <a:ext cx="720720" cy="4249800"/>
          </a:xfrm>
          <a:custGeom>
            <a:avLst/>
            <a:gdLst>
              <a:gd name="textAreaLeft" fmla="*/ 460440 w 720720"/>
              <a:gd name="textAreaRight" fmla="*/ 721080 w 720720"/>
              <a:gd name="textAreaTop" fmla="*/ 332280 h 4249800"/>
              <a:gd name="textAreaBottom" fmla="*/ 391752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2720" y="1917720"/>
            <a:ext cx="865080" cy="280656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806560"/>
              <a:gd name="textAreaBottom" fmla="*/ 2764440 h 2806560"/>
            </a:gdLst>
            <a:ahLst/>
            <a:rect l="textAreaLeft" t="textAreaTop" r="textAreaRight" b="textAreaBottom"/>
            <a:pathLst>
              <a:path w="21600" h="70056">
                <a:moveTo>
                  <a:pt x="3600" y="0"/>
                </a:moveTo>
                <a:arcTo wR="3600" hR="3600" stAng="16200000" swAng="-5400000"/>
                <a:lnTo>
                  <a:pt x="0" y="66456"/>
                </a:lnTo>
                <a:arcTo wR="3600" hR="3600" stAng="10800000" swAng="-5400000"/>
                <a:lnTo>
                  <a:pt x="18000" y="700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1440" y="1917720"/>
            <a:ext cx="863640" cy="2879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2879640"/>
              <a:gd name="textAreaBottom" fmla="*/ 2837520 h 2879640"/>
            </a:gdLst>
            <a:ahLst/>
            <a:rect l="textAreaLeft" t="textAreaTop" r="textAreaRight" b="textAreaBottom"/>
            <a:pathLst>
              <a:path w="21600" h="72000">
                <a:moveTo>
                  <a:pt x="3600" y="0"/>
                </a:moveTo>
                <a:arcTo wR="3600" hR="3600" stAng="16200000" swAng="-5400000"/>
                <a:lnTo>
                  <a:pt x="0" y="68400"/>
                </a:lnTo>
                <a:arcTo wR="3600" hR="3600" stAng="10800000" swAng="-5400000"/>
                <a:lnTo>
                  <a:pt x="18000" y="72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9800" y="1917720"/>
            <a:ext cx="863640" cy="295272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2952720"/>
              <a:gd name="textAreaBottom" fmla="*/ 2910600 h 2952720"/>
            </a:gdLst>
            <a:ahLst/>
            <a:rect l="textAreaLeft" t="textAreaTop" r="textAreaRight" b="textAreaBottom"/>
            <a:pathLst>
              <a:path w="21600" h="73827">
                <a:moveTo>
                  <a:pt x="3600" y="0"/>
                </a:moveTo>
                <a:arcTo wR="3600" hR="3600" stAng="16200000" swAng="-5400000"/>
                <a:lnTo>
                  <a:pt x="0" y="70227"/>
                </a:lnTo>
                <a:arcTo wR="3600" hR="3600" stAng="10800000" swAng="-5400000"/>
                <a:lnTo>
                  <a:pt x="18000" y="738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1989000"/>
            <a:ext cx="793800" cy="2880000"/>
          </a:xfrm>
          <a:custGeom>
            <a:avLst/>
            <a:gdLst>
              <a:gd name="textAreaLeft" fmla="*/ 38520 w 793800"/>
              <a:gd name="textAreaRight" fmla="*/ 755280 w 793800"/>
              <a:gd name="textAreaTop" fmla="*/ 38520 h 2880000"/>
              <a:gd name="textAreaBottom" fmla="*/ 2841480 h 2880000"/>
            </a:gdLst>
            <a:ahLst/>
            <a:rect l="textAreaLeft" t="textAreaTop" r="textAreaRight" b="textAreaBottom"/>
            <a:pathLst>
              <a:path w="21600" h="78342">
                <a:moveTo>
                  <a:pt x="3600" y="0"/>
                </a:moveTo>
                <a:arcTo wR="3600" hR="3600" stAng="16200000" swAng="-5400000"/>
                <a:lnTo>
                  <a:pt x="0" y="74742"/>
                </a:lnTo>
                <a:arcTo wR="3600" hR="3600" stAng="10800000" swAng="-5400000"/>
                <a:lnTo>
                  <a:pt x="18000" y="78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最终目标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5440" y="1339920"/>
            <a:ext cx="56880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把所有事情都从你的脑袋里弄出来。在事情出现，而不是在事情爆发的时候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就做好相关行动的一系列决定。以合适的类别组织好你的项目的各种提醒以及下一步的行动。保持你的系统更新和完整，充分地检查，使你在任何时候都能信任你的对于你正在做（或者不做）的事情直觉的选择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32590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7640" y="1339920"/>
            <a:ext cx="5473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是你生命中的最后一年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77080" y="429264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价值表：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8184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时间价值表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7090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1773360"/>
            <a:ext cx="54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功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价值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S=V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E=MC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能量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质量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最有价值的事（提升你做事的值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单位时间内做最多的高价值的事（提升你做事的效益和速度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程表时间管理法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7640" y="1339920"/>
            <a:ext cx="5473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a)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要得到什么样的结果？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b)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这件事是否可以不干？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)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这件事是否可以交给别人去干？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d)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是否还有更好的方法？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理节奏法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36360" y="1339920"/>
            <a:ext cx="55450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研究你精力最充沛、脑子最清楚的时段，在此时段做最有价值的事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研究你注意力集中的时间有多长，在此时间内解决问题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休息的时候一定要休息，在你感到疲倦之前就休息，这样你每天清醒的时间，就多增加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柯维时间管理法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36360" y="1339920"/>
            <a:ext cx="55450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效个人管理的四个步骤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确定角色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你认为重要的角色；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选择目标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为每个角色确定未来一周要达成的目标；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安排进度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这些目标确定完成时间；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逐日调整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日清晨依据行事历，安排一天做事的顺序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3-12-06T15:08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