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1F09-AB63-41A4-AE40-FE78D69B2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AB3E-7A87-44DC-A67B-DEEBDB90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5E98-85A0-4396-8A20-1D459EC30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99F9-04CF-4CF8-9840-606887DF1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6BD0-5058-4A0B-9F5F-34F0DDB7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28AA-B189-4DB5-8927-D78E1881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6B4D-F4CB-4C8A-92C7-B6CF78C9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8927-D75A-4A8C-A0FE-89C8708C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F71B-08BD-447F-BFC6-0923A358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4CAB-8F18-401A-AE56-390DB766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B476-C942-4F67-85B3-ADE0F2A2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3D3D-E37B-480B-9E8D-DCCDC395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Book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Franklin Gothic Book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Book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65CB-6A26-4098-BF36-89276CF4E075}" type="slidenum">
              <a:rPr b="0" lang="zh-CN" sz="1200" spc="-1" strike="noStrike">
                <a:solidFill>
                  <a:srgbClr val="898989"/>
                </a:solidFill>
                <a:latin typeface="Franklin Gothic Book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椭圆 1"/>
          <p:cNvGrpSpPr/>
          <p:nvPr/>
        </p:nvGrpSpPr>
        <p:grpSpPr>
          <a:xfrm>
            <a:off x="249120" y="3535200"/>
            <a:ext cx="762120" cy="762120"/>
            <a:chOff x="249120" y="3535200"/>
            <a:chExt cx="762120" cy="762120"/>
          </a:xfrm>
        </p:grpSpPr>
        <p:pic>
          <p:nvPicPr>
            <p:cNvPr id="42" name="椭圆 1" descr=""/>
            <p:cNvPicPr/>
            <p:nvPr/>
          </p:nvPicPr>
          <p:blipFill>
            <a:blip r:embed="rId1"/>
            <a:stretch/>
          </p:blipFill>
          <p:spPr>
            <a:xfrm>
              <a:off x="249120" y="353520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363600" y="3649680"/>
              <a:ext cx="5382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椭圆 21"/>
          <p:cNvGrpSpPr/>
          <p:nvPr/>
        </p:nvGrpSpPr>
        <p:grpSpPr>
          <a:xfrm>
            <a:off x="401760" y="3687840"/>
            <a:ext cx="761760" cy="761760"/>
            <a:chOff x="401760" y="3687840"/>
            <a:chExt cx="761760" cy="761760"/>
          </a:xfrm>
        </p:grpSpPr>
        <p:pic>
          <p:nvPicPr>
            <p:cNvPr id="45" name="椭圆 21" descr=""/>
            <p:cNvPicPr/>
            <p:nvPr/>
          </p:nvPicPr>
          <p:blipFill>
            <a:blip r:embed="rId2"/>
            <a:stretch/>
          </p:blipFill>
          <p:spPr>
            <a:xfrm>
              <a:off x="401760" y="368784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515880" y="3801960"/>
              <a:ext cx="5382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椭圆 22"/>
          <p:cNvGrpSpPr/>
          <p:nvPr/>
        </p:nvGrpSpPr>
        <p:grpSpPr>
          <a:xfrm>
            <a:off x="3133800" y="1274760"/>
            <a:ext cx="761760" cy="762120"/>
            <a:chOff x="3133800" y="1274760"/>
            <a:chExt cx="761760" cy="762120"/>
          </a:xfrm>
        </p:grpSpPr>
        <p:pic>
          <p:nvPicPr>
            <p:cNvPr id="48" name="椭圆 22" descr=""/>
            <p:cNvPicPr/>
            <p:nvPr/>
          </p:nvPicPr>
          <p:blipFill>
            <a:blip r:embed="rId3"/>
            <a:stretch/>
          </p:blipFill>
          <p:spPr>
            <a:xfrm>
              <a:off x="3133800" y="127476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3243240" y="1387440"/>
              <a:ext cx="53964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11" dur="1500" fill="hold"/>
                                        <p:tgtEl>
                                          <p:spTgt spid="41"/>
                                        </p:tgtEl>
                                      </p:cBhvr>
                                      <p:to x="-0" y="-0"/>
                                    </p:animScale>
                                  </p:childTnLst>
                                </p:cTn>
                              </p:par>
                              <p:par>
                                <p:cTn id="12" autoRev="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299 0.00123 0.06615 0.00247 0.09306 -0.02963 C 0.11997 -0.06173 0.12969 -0.15803 0.16112 -0.1926 C 0.19254 -0.22716 0.25886 -0.2571 0.28195 -0.23704 C 0.30504 -0.21698 0.31511 -0.09661 0.3 -0.07161 C 0.2849 -0.04661 0.22778 -0.03581 0.19167 -0.08642 C 0.15556 -0.13704 0.1007 -0.30525 0.08334 -0.37531 C 0.06598 -0.44537 0.06737 -0.48642 0.0875 -0.50618 C 0.10764 -0.52593 0.16025 -0.52871 0.20417 -0.49383 C 0.24809 -0.45895 0.31042 -0.33056 0.35139 -0.2963 C 0.39237 -0.26204 0.41858 -0.28735 0.44983 -0.28889 C 0.48143 -0.29044 0.52032 -0.29383 0.54028 -0.30618 C 0.56007 -0.31852 0.55417 -0.33735 0.56945 -0.36297 C 0.58473 -0.38858 0.60903 -0.43612 0.63195 -0.45926 C 0.65487 -0.48241 0.68264 -0.49136 0.70695 -0.50124 C 0.73125 -0.51112 0.75973 -0.51328 0.77778 -0.51852 C 0.79584 -0.52377 0.79914 -0.52593 0.81528 -0.53334 C 0.83143 -0.54074 0.85313 -0.55186 0.875 -0.56297 E">
                                      <p:cBhvr>
                                        <p:cTn id="13" dur="7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20" dur="1500" fill="hold"/>
                                        <p:tgtEl>
                                          <p:spTgt spid="44"/>
                                        </p:tgtEl>
                                      </p:cBhvr>
                                      <p:to x="-0" y="-0"/>
                                    </p:animScale>
                                  </p:childTnLst>
                                </p:cTn>
                              </p:par>
                              <p:par>
                                <p:cTn id="21" autoRev="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299 0.00123 0.06615 0.00247 0.09306 -0.02963 C 0.11997 -0.06173 0.12969 -0.15803 0.16112 -0.1926 C 0.19254 -0.22716 0.25886 -0.2571 0.28195 -0.23704 C 0.30504 -0.21698 0.31511 -0.09661 0.3 -0.07161 C 0.2849 -0.04661 0.22778 -0.03581 0.19167 -0.08642 C 0.15556 -0.13704 0.1007 -0.30525 0.08334 -0.37531 C 0.06598 -0.44537 0.06737 -0.48642 0.0875 -0.50618 C 0.10764 -0.52593 0.16025 -0.52871 0.20417 -0.49383 C 0.24809 -0.45895 0.31042 -0.33056 0.35139 -0.2963 C 0.39237 -0.26204 0.41858 -0.28735 0.44983 -0.28889 C 0.48143 -0.29044 0.52032 -0.29383 0.54028 -0.30618 C 0.56007 -0.31852 0.55417 -0.33735 0.56945 -0.36297 C 0.58473 -0.38858 0.60903 -0.43612 0.63195 -0.45926 C 0.65487 -0.48241 0.68264 -0.49136 0.70695 -0.50124 C 0.73125 -0.51112 0.75973 -0.51328 0.77778 -0.51852 C 0.79584 -0.52377 0.79914 -0.52593 0.81528 -0.53334 C 0.83143 -0.54074 0.85313 -0.55186 0.875 -0.56297 E">
                                      <p:cBhvr>
                                        <p:cTn id="22" dur="73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2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29" dur="1500" fill="hold"/>
                                        <p:tgtEl>
                                          <p:spTgt spid="47"/>
                                        </p:tgtEl>
                                      </p:cBhvr>
                                      <p:to x="-0" y="-0"/>
                                    </p:animScale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719 0.18087 C -0.2842 0.1821 -0.25104 0.18334 -0.22413 0.15124 C -0.19722 0.11914 -0.1875 0.02284 -0.15608 -0.01173 C -0.12465 -0.04629 -0.05833 -0.07623 -0.03524 -0.05617 C -0.01215 -0.03611 -0.00208 0.08426 -0.01719 0.10926 C -0.03229 0.13426 -0.08941 0.14506 -0.12552 0.09445 C -0.16163 0.04383 -0.21649 -0.12438 -0.23385 -0.19444 C -0.25121 -0.2645 -0.24983 -0.30555 -0.22969 -0.32531 C -0.20955 -0.34506 -0.15694 -0.34784 -0.11302 -0.31296 C -0.0691 -0.27808 -0.00677 -0.14969 0.0342 -0.11543 C 0.07517 -0.08117 0.10139 -0.10648 0.13247 -0.10802 C 0.16424 -0.10957 0.20313 -0.11296 0.22309 -0.12531 C 0.24288 -0.13765 0.23698 -0.15648 0.25226 -0.1821 C 0.26754 -0.20771 0.29184 -0.25524 0.31476 -0.27839 C 0.33767 -0.30154 0.36545 -0.31049 0.38976 -0.32037 C 0.41406 -0.33024 0.44254 -0.33241 0.46059 -0.33765 C 0.47865 -0.3429 0.48194 -0.34506 0.49809 -0.35247 C 0.51424 -0.35987 0.53594 -0.37099 0.55781 -0.3821 E">
                                      <p:cBhvr>
                                        <p:cTn id="31" dur="7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文本框 1"/>
          <p:cNvSpPr/>
          <p:nvPr/>
        </p:nvSpPr>
        <p:spPr>
          <a:xfrm>
            <a:off x="3035160" y="1635120"/>
            <a:ext cx="45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网 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51pptmoban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整理发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7T13:26:40Z</dcterms:created>
  <dc:creator>wostou</dc:creator>
  <dc:description/>
  <dc:language>en-US</dc:language>
  <cp:lastModifiedBy>YANGS-PC</cp:lastModifiedBy>
  <dcterms:modified xsi:type="dcterms:W3CDTF">2015-11-09T13:57:18Z</dcterms:modified>
  <cp:revision>4</cp:revision>
  <dc:subject/>
  <dc:title>幻灯片 1</dc:title>
</cp:coreProperties>
</file>