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4FE6D-0CC0-4A0E-9813-1CF0F1501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4E41C-D467-4222-B9B8-41A8231E2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4299F-9CC2-424D-893A-867E67A55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3B12E-9BBD-4E43-B39A-E2DCFCAEE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9576D-F201-4862-AB5C-C55BCCD73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4EA83-9CE9-44F5-A103-7FAA58FC2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713A5-D784-4AAA-8ADF-A9436534C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7C77E-546C-4DF0-84B6-44112693C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F401E-85ED-42A3-AF9D-8E568427B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0773E-4E72-4564-9937-017AE9CA9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3907D-6D73-44FD-A937-046949A90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27835-7A6E-4332-959A-31EA6DA2B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A2F03-2481-4CB3-A77D-68CAA04D861B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EC41C-B92F-45FF-A019-6BB56377F551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f1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椭圆 3"/>
          <p:cNvSpPr/>
          <p:nvPr/>
        </p:nvSpPr>
        <p:spPr>
          <a:xfrm>
            <a:off x="1433520" y="2862360"/>
            <a:ext cx="1133640" cy="113328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  <a:ea typeface="Calibri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椭圆 5"/>
          <p:cNvSpPr/>
          <p:nvPr/>
        </p:nvSpPr>
        <p:spPr>
          <a:xfrm>
            <a:off x="1370160" y="2798640"/>
            <a:ext cx="1260360" cy="126072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Calibri"/>
              </a:rPr>
              <a:t>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椭圆 6"/>
          <p:cNvSpPr/>
          <p:nvPr/>
        </p:nvSpPr>
        <p:spPr>
          <a:xfrm>
            <a:off x="3138480" y="2862360"/>
            <a:ext cx="1133640" cy="113328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  <a:ea typeface="Calibri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椭圆 7"/>
          <p:cNvSpPr/>
          <p:nvPr/>
        </p:nvSpPr>
        <p:spPr>
          <a:xfrm>
            <a:off x="3075120" y="2798640"/>
            <a:ext cx="1260360" cy="126072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Calibri"/>
              </a:rPr>
              <a:t>tw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椭圆 8"/>
          <p:cNvSpPr/>
          <p:nvPr/>
        </p:nvSpPr>
        <p:spPr>
          <a:xfrm>
            <a:off x="4834080" y="2862360"/>
            <a:ext cx="1133280" cy="1133280"/>
          </a:xfrm>
          <a:prstGeom prst="ellipse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  <a:ea typeface="Calibri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椭圆 9"/>
          <p:cNvSpPr/>
          <p:nvPr/>
        </p:nvSpPr>
        <p:spPr>
          <a:xfrm>
            <a:off x="4770360" y="2798640"/>
            <a:ext cx="1260720" cy="1260720"/>
          </a:xfrm>
          <a:prstGeom prst="ellipse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th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椭圆 10"/>
          <p:cNvSpPr/>
          <p:nvPr/>
        </p:nvSpPr>
        <p:spPr>
          <a:xfrm>
            <a:off x="6529320" y="2862360"/>
            <a:ext cx="1133640" cy="113328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  <a:ea typeface="Calibri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椭圆 11"/>
          <p:cNvSpPr/>
          <p:nvPr/>
        </p:nvSpPr>
        <p:spPr>
          <a:xfrm>
            <a:off x="6465960" y="2798640"/>
            <a:ext cx="1260360" cy="126072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Calibri"/>
              </a:rPr>
              <a:t>fo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3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dur="indefinite" nodeType="withEffect" fill="hold" presetClass="entr" presetID="4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3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3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3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dur="indefinite" nodeType="withEffect" fill="hold" presetClass="entr" presetID="4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3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3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3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dur="indefinite" nodeType="withEffect" fill="hold" presetClass="entr" presetID="4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3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45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8" dur="3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3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3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dur="indefinite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3" dur="300" fill="hold"/>
                                        <p:tgtEl>
                                          <p:spTgt spid="41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34" dur="indefinite" nodeType="withEffect" fill="hold" presetClass="entr" presetID="45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3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3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3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dur="indefinite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40" dur="300" fill="hold"/>
                                        <p:tgtEl>
                                          <p:spTgt spid="42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41" dur="indefinite" nodeType="withEffect" fill="hold" presetClass="exit" presetID="45">
                                  <p:stCondLst>
                                    <p:cond delay="2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2" dur="3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3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3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dur="indefinite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47" dur="300" fill="hold"/>
                                        <p:tgtEl>
                                          <p:spTgt spid="43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48" dur="indefinite" nodeType="withEffect" fill="hold" presetClass="entr" presetID="4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3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3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3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dur="indefinite" nodeType="withEffect" fill="hold" presetClass="emph" presetID="6">
                                  <p:stCondLst>
                                    <p:cond delay="500"/>
                                  </p:stCondLst>
                                  <p:childTnLst>
                                    <p:animScale>
                                      <p:cBhvr>
                                        <p:cTn id="54" dur="300" fill="hold"/>
                                        <p:tgtEl>
                                          <p:spTgt spid="44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55" dur="indefinite" nodeType="withEffect" fill="hold" presetClass="exit" presetID="45">
                                  <p:stCondLst>
                                    <p:cond delay="4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6" dur="3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3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3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dur="indefinite" nodeType="withEffect" fill="hold" presetClass="emph" presetID="6">
                                  <p:stCondLst>
                                    <p:cond delay="400"/>
                                  </p:stCondLst>
                                  <p:childTnLst>
                                    <p:animScale>
                                      <p:cBhvr>
                                        <p:cTn id="61" dur="300" fill="hold"/>
                                        <p:tgtEl>
                                          <p:spTgt spid="45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62" dur="indefinite" nodeType="withEffect" fill="hold" presetClass="entr" presetID="45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" dur="3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3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3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dur="indefinite" nodeType="withEffect" fill="hold" presetClass="emph" presetID="6">
                                  <p:stCondLst>
                                    <p:cond delay="700"/>
                                  </p:stCondLst>
                                  <p:childTnLst>
                                    <p:animScale>
                                      <p:cBhvr>
                                        <p:cTn id="68" dur="300" fill="hold"/>
                                        <p:tgtEl>
                                          <p:spTgt spid="46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69" dur="indefinite" nodeType="withEffect" fill="hold" presetClass="exit" presetID="45">
                                  <p:stCondLst>
                                    <p:cond delay="6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0" dur="3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3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3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dur="indefinite" nodeType="withEffect" fill="hold" presetClass="emph" presetID="6">
                                  <p:stCondLst>
                                    <p:cond delay="600"/>
                                  </p:stCondLst>
                                  <p:childTnLst>
                                    <p:animScale>
                                      <p:cBhvr>
                                        <p:cTn id="75" dur="300" fill="hold"/>
                                        <p:tgtEl>
                                          <p:spTgt spid="47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76" dur="indefinite" nodeType="withEffect" fill="hold" presetClass="entr" presetID="45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" dur="3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3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3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dur="indefinite" nodeType="withEffect" fill="hold" presetClass="emph" presetID="6">
                                  <p:stCondLst>
                                    <p:cond delay="900"/>
                                  </p:stCondLst>
                                  <p:childTnLst>
                                    <p:animScale>
                                      <p:cBhvr>
                                        <p:cTn id="82" dur="300" fill="hold"/>
                                        <p:tgtEl>
                                          <p:spTgt spid="48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83" dur="indefinite" nodeType="withEffect" fill="hold" presetClass="emph" presetID="6">
                                  <p:stCondLst>
                                    <p:cond delay="1500"/>
                                  </p:stCondLst>
                                  <p:childTnLst>
                                    <p:animScale>
                                      <p:cBhvr>
                                        <p:cTn id="84" dur="100" fill="hold"/>
                                        <p:tgtEl>
                                          <p:spTgt spid="42"/>
                                        </p:tgtEl>
                                      </p:cBhvr>
                                      <p:to x="80000" y="80000"/>
                                    </p:animScale>
                                  </p:childTnLst>
                                </p:cTn>
                              </p:par>
                              <p:par>
                                <p:cTn id="85" dur="indefinite" nodeType="withEffect" fill="hold" presetClass="emph" presetID="6">
                                  <p:stCondLst>
                                    <p:cond delay="1600"/>
                                  </p:stCondLst>
                                  <p:childTnLst>
                                    <p:animScale>
                                      <p:cBhvr>
                                        <p:cTn id="86" dur="100" fill="hold"/>
                                        <p:tgtEl>
                                          <p:spTgt spid="44"/>
                                        </p:tgtEl>
                                      </p:cBhvr>
                                      <p:to x="80000" y="80000"/>
                                    </p:animScale>
                                  </p:childTnLst>
                                </p:cTn>
                              </p:par>
                              <p:par>
                                <p:cTn id="87" dur="indefinite" nodeType="withEffect" fill="hold" presetClass="emph" presetID="6">
                                  <p:stCondLst>
                                    <p:cond delay="1700"/>
                                  </p:stCondLst>
                                  <p:childTnLst>
                                    <p:animScale>
                                      <p:cBhvr>
                                        <p:cTn id="88" dur="100" fill="hold"/>
                                        <p:tgtEl>
                                          <p:spTgt spid="46"/>
                                        </p:tgtEl>
                                      </p:cBhvr>
                                      <p:to x="80000" y="80000"/>
                                    </p:animScale>
                                  </p:childTnLst>
                                </p:cTn>
                              </p:par>
                              <p:par>
                                <p:cTn id="89" dur="indefinite" nodeType="withEffect" fill="hold" presetClass="emph" presetID="6">
                                  <p:stCondLst>
                                    <p:cond delay="1800"/>
                                  </p:stCondLst>
                                  <p:childTnLst>
                                    <p:animScale>
                                      <p:cBhvr>
                                        <p:cTn id="90" dur="100" fill="hold"/>
                                        <p:tgtEl>
                                          <p:spTgt spid="48"/>
                                        </p:tgtEl>
                                      </p:cBhvr>
                                      <p:to x="80000" y="8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13T06:12:00Z</dcterms:created>
  <dc:creator>张静波</dc:creator>
  <dc:description/>
  <dc:language>en-US</dc:language>
  <cp:lastModifiedBy>YANGS-PC</cp:lastModifiedBy>
  <dcterms:modified xsi:type="dcterms:W3CDTF">2015-11-12T07:33:58Z</dcterms:modified>
  <cp:revision>24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218</vt:lpwstr>
  </property>
</Properties>
</file>