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E3E-2BE6-41D6-AD84-9BAEC549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68D-359B-4AB0-B422-83103D1D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D89-5272-4397-9646-97026503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AEF-2AED-47B5-AEF2-BBD9F14B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2EF-9A9B-426B-B207-0A6A82F2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097-08A6-4AC4-84BB-71BC2BB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83A-3E89-45C2-A508-CFB9B107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E38-D787-4BAD-81B8-0A3A5FF6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F82-B8CD-48FF-B958-B0F57EF1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C25-0263-4F52-B9E6-8609F64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39A-7A45-4D08-94EE-3BC20F9D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7CC-E9ED-4977-8FC0-5E3DD429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A47E-B0DD-4F5A-90D1-92AE31B63FE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461-056B-42D3-A2D5-6C55C075F6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 Light"/>
              </a:rPr>
              <a:t>主题编辑器教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文件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838080" y="170352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4"/>
          <p:cNvSpPr/>
          <p:nvPr/>
        </p:nvSpPr>
        <p:spPr>
          <a:xfrm>
            <a:off x="7623000" y="1784520"/>
            <a:ext cx="27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文件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这个需要做点九图，稍微有点麻烦，本次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里面就不细讲了。稍后有时间再整理一份使用点九图工具的教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保存主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内容占位符 3" descr=""/>
          <p:cNvPicPr/>
          <p:nvPr/>
        </p:nvPicPr>
        <p:blipFill>
          <a:blip r:embed="rId1"/>
          <a:stretch/>
        </p:blipFill>
        <p:spPr>
          <a:xfrm>
            <a:off x="838080" y="170352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4"/>
          <p:cNvSpPr/>
          <p:nvPr/>
        </p:nvSpPr>
        <p:spPr>
          <a:xfrm>
            <a:off x="7623000" y="1784520"/>
            <a:ext cx="2799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存之前，请先完善一下主题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主题图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直接传桌面图标里面的「手机主题」那个图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主题作者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即设计师名称，你懂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主题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注意，不要写介绍，这里是个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UG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，主题介绍实际上是主题的名称，请大家填写主题名称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最后点「保存」，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OK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修改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更新主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838080" y="170352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7623000" y="1784520"/>
            <a:ext cx="279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想对之前做好的主题进行完善或者修改，点击「打开」，选择之前保存好的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.them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文件，主题便会进行加载，然后就可以对想修改的地方进行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修改完以后，如果想覆盖掉之前的主题，请点「保存」，如果想保留成一份新的主题，请点「另存为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内容占位符 3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4"/>
          <p:cNvSpPr/>
          <p:nvPr/>
        </p:nvSpPr>
        <p:spPr>
          <a:xfrm>
            <a:off x="7961040" y="1784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“新建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壁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文本框 6"/>
          <p:cNvSpPr/>
          <p:nvPr/>
        </p:nvSpPr>
        <p:spPr>
          <a:xfrm>
            <a:off x="7623000" y="1784520"/>
            <a:ext cx="279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壁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请提供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Calibri"/>
              </a:rPr>
              <a:t>个尺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规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160x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960 x  8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内容占位符 8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6408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图标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7623000" y="1784520"/>
            <a:ext cx="279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桌面图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3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个，其中「说明书」和「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Ulik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丽人」无需编辑。点击对应图标即可选择本地文件进行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尺寸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80x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格式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内容占位符 8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6408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第三方图标及文件夹图标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文本框 6"/>
          <p:cNvSpPr/>
          <p:nvPr/>
        </p:nvSpPr>
        <p:spPr>
          <a:xfrm>
            <a:off x="7623000" y="1784520"/>
            <a:ext cx="279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第三方图标及文件夹图标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分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四部分讲，对蒙板已经很了解的同学，请直接跳过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第三方图标包含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个部分，蒙板、背景和高光。他们的层次一次是底图在最底层，底图之上为蒙板形状的图标，图标之上即顶层为高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背景和高光无需多说，主要讲下蒙板。蒙板的目的是规范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或者说裁剪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图标的形状，举个例子：有一张底图②，一张蒙板③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蒙板填充成任意颜色都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K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，不能是透明的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，和一张高光④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可以把②③④保存到电脑上，用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或其它工具查看详细设计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，比如微博图标，最终的显示效果就会是下图①所示效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3" descr=""/>
          <p:cNvPicPr/>
          <p:nvPr/>
        </p:nvPicPr>
        <p:blipFill>
          <a:blip r:embed="rId1"/>
          <a:stretch/>
        </p:blipFill>
        <p:spPr>
          <a:xfrm>
            <a:off x="838080" y="1692360"/>
            <a:ext cx="6408720" cy="4351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7" descr=""/>
          <p:cNvPicPr/>
          <p:nvPr/>
        </p:nvPicPr>
        <p:blipFill>
          <a:blip r:embed="rId2"/>
          <a:stretch/>
        </p:blipFill>
        <p:spPr>
          <a:xfrm>
            <a:off x="7716960" y="5238720"/>
            <a:ext cx="898560" cy="8938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9"/>
          <p:cNvSpPr/>
          <p:nvPr/>
        </p:nvSpPr>
        <p:spPr>
          <a:xfrm>
            <a:off x="7986600" y="61754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3"/>
          <a:stretch/>
        </p:blipFill>
        <p:spPr>
          <a:xfrm>
            <a:off x="8854920" y="5238720"/>
            <a:ext cx="935280" cy="93672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2"/>
          <p:cNvSpPr/>
          <p:nvPr/>
        </p:nvSpPr>
        <p:spPr>
          <a:xfrm>
            <a:off x="9163080" y="6175440"/>
            <a:ext cx="3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3" descr=""/>
          <p:cNvPicPr/>
          <p:nvPr/>
        </p:nvPicPr>
        <p:blipFill>
          <a:blip r:embed="rId4"/>
          <a:stretch/>
        </p:blipFill>
        <p:spPr>
          <a:xfrm>
            <a:off x="9790200" y="5187960"/>
            <a:ext cx="1030320" cy="102852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4"/>
          <p:cNvSpPr/>
          <p:nvPr/>
        </p:nvSpPr>
        <p:spPr>
          <a:xfrm>
            <a:off x="10156680" y="61833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5" descr=""/>
          <p:cNvPicPr/>
          <p:nvPr/>
        </p:nvPicPr>
        <p:blipFill>
          <a:blip r:embed="rId5"/>
          <a:stretch/>
        </p:blipFill>
        <p:spPr>
          <a:xfrm>
            <a:off x="10772640" y="5172120"/>
            <a:ext cx="1057320" cy="105732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6"/>
          <p:cNvSpPr/>
          <p:nvPr/>
        </p:nvSpPr>
        <p:spPr>
          <a:xfrm>
            <a:off x="11109240" y="61754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第三方图标及文件夹图标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560"/>
            <a:ext cx="105156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他人作品解析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多看几个，想象一下效果，便于理解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8"/>
          <p:cNvSpPr/>
          <p:nvPr/>
        </p:nvSpPr>
        <p:spPr>
          <a:xfrm>
            <a:off x="2835360" y="2835360"/>
            <a:ext cx="5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9" descr=""/>
          <p:cNvPicPr/>
          <p:nvPr/>
        </p:nvPicPr>
        <p:blipFill>
          <a:blip r:embed="rId1"/>
          <a:stretch/>
        </p:blipFill>
        <p:spPr>
          <a:xfrm>
            <a:off x="3483000" y="2460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0" descr=""/>
          <p:cNvPicPr/>
          <p:nvPr/>
        </p:nvPicPr>
        <p:blipFill>
          <a:blip r:embed="rId2"/>
          <a:stretch/>
        </p:blipFill>
        <p:spPr>
          <a:xfrm>
            <a:off x="880920" y="246060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1"/>
          <p:cNvSpPr/>
          <p:nvPr/>
        </p:nvSpPr>
        <p:spPr>
          <a:xfrm>
            <a:off x="5491080" y="283536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2" descr=""/>
          <p:cNvPicPr/>
          <p:nvPr/>
        </p:nvPicPr>
        <p:blipFill>
          <a:blip r:embed="rId3"/>
          <a:stretch/>
        </p:blipFill>
        <p:spPr>
          <a:xfrm>
            <a:off x="6291360" y="24210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"/>
          <p:cNvPicPr/>
          <p:nvPr/>
        </p:nvPicPr>
        <p:blipFill>
          <a:blip r:embed="rId4"/>
          <a:stretch/>
        </p:blipFill>
        <p:spPr>
          <a:xfrm>
            <a:off x="9139320" y="448776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4"/>
          <p:cNvSpPr/>
          <p:nvPr/>
        </p:nvSpPr>
        <p:spPr>
          <a:xfrm>
            <a:off x="2835360" y="5084640"/>
            <a:ext cx="5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5"/>
          <p:cNvSpPr/>
          <p:nvPr/>
        </p:nvSpPr>
        <p:spPr>
          <a:xfrm>
            <a:off x="8427960" y="500868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16" descr=""/>
          <p:cNvPicPr/>
          <p:nvPr/>
        </p:nvPicPr>
        <p:blipFill>
          <a:blip r:embed="rId5"/>
          <a:stretch/>
        </p:blipFill>
        <p:spPr>
          <a:xfrm>
            <a:off x="3205080" y="4202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7" descr=""/>
          <p:cNvPicPr/>
          <p:nvPr/>
        </p:nvPicPr>
        <p:blipFill>
          <a:blip r:embed="rId6"/>
          <a:stretch/>
        </p:blipFill>
        <p:spPr>
          <a:xfrm>
            <a:off x="649440" y="4295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8" descr=""/>
          <p:cNvPicPr/>
          <p:nvPr/>
        </p:nvPicPr>
        <p:blipFill>
          <a:blip r:embed="rId7"/>
          <a:stretch/>
        </p:blipFill>
        <p:spPr>
          <a:xfrm>
            <a:off x="6022800" y="42624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21"/>
          <p:cNvSpPr/>
          <p:nvPr/>
        </p:nvSpPr>
        <p:spPr>
          <a:xfrm>
            <a:off x="5513400" y="500868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第三方图标及文件夹图标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内容占位符 3" descr=""/>
          <p:cNvPicPr/>
          <p:nvPr/>
        </p:nvPicPr>
        <p:blipFill>
          <a:blip r:embed="rId1"/>
          <a:stretch/>
        </p:blipFill>
        <p:spPr>
          <a:xfrm>
            <a:off x="838080" y="169236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8"/>
          <p:cNvSpPr/>
          <p:nvPr/>
        </p:nvSpPr>
        <p:spPr>
          <a:xfrm>
            <a:off x="7623000" y="1784520"/>
            <a:ext cx="279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上传顺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蒙板→背景→高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上传背景的时候可以看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请看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下一页详细介绍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如果设计的主题没有高光，请上传一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80x180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的透明图即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第三方图标及文件夹图标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1"/>
          <a:stretch/>
        </p:blipFill>
        <p:spPr>
          <a:xfrm>
            <a:off x="838080" y="1503360"/>
            <a:ext cx="645804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6"/>
          <p:cNvSpPr/>
          <p:nvPr/>
        </p:nvSpPr>
        <p:spPr>
          <a:xfrm>
            <a:off x="7623000" y="1784520"/>
            <a:ext cx="279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第一张图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上传完背景以后，会弹出此编辑框，可以发现图标是需要向上移动的，那么将垂直偏移向上调即可调整好。调整后得到第二张图的效果。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请点击鼠标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向上偏移，参数为负数，向下偏移为正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缩放比例是针对类似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QQ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这种不规则的形状而言，对于微博、淘宝等规则的形状无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一般建议缩放比例在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70%-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调整好以后，点「确认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请再回到上上一页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" descr=""/>
          <p:cNvPicPr/>
          <p:nvPr/>
        </p:nvPicPr>
        <p:blipFill>
          <a:blip r:embed="rId2"/>
          <a:stretch/>
        </p:blipFill>
        <p:spPr>
          <a:xfrm>
            <a:off x="838080" y="1503360"/>
            <a:ext cx="6458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新建主题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桌面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-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其它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(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分页符</a:t>
            </a: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内容占位符 3" descr=""/>
          <p:cNvPicPr/>
          <p:nvPr/>
        </p:nvPicPr>
        <p:blipFill>
          <a:blip r:embed="rId1"/>
          <a:stretch/>
        </p:blipFill>
        <p:spPr>
          <a:xfrm>
            <a:off x="838080" y="1692360"/>
            <a:ext cx="6408720" cy="43513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8"/>
          <p:cNvSpPr/>
          <p:nvPr/>
        </p:nvSpPr>
        <p:spPr>
          <a:xfrm>
            <a:off x="7623000" y="1784520"/>
            <a:ext cx="279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分页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当前和非当前两个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图标文本颜色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指图标下面文字的颜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23:39:00Z</dcterms:created>
  <dc:creator>吕天</dc:creator>
  <dc:description/>
  <cp:keywords/>
  <dc:language>en-US</dc:language>
  <cp:lastModifiedBy>微软用户</cp:lastModifiedBy>
  <dcterms:modified xsi:type="dcterms:W3CDTF">2014-02-20T08:18:41Z</dcterms:modified>
  <cp:revision>25</cp:revision>
  <dc:subject/>
  <dc:title>主题编辑器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