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827-3CA8-4C87-A391-8950DD20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D56-882D-4A06-9FCB-CA0022DC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97D-E633-4FD1-ADBC-6A7C33D7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C56-A466-48D6-ABBD-A52B232A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6533-3B03-407A-84B7-FD029475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7BE8-7EC9-4D9D-A268-9925EFD6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3CB5-5A7D-4D93-840F-980B1A35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F9EB-B8EB-4B21-9FD2-F0B81438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A7C1-B04A-49B2-914F-9C96E233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0253-9C0C-4A06-9980-4A8D2253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97EC-CAEE-42AC-BB0E-16614B3F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ACC-BCED-4DA9-8E8D-A202822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8D98-B621-4C69-B0B1-941A8A2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47BB-041B-47BE-9E83-6A6128C6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69F9-4B8B-4263-9812-9E819620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812E-62DB-4277-A20C-9A8E18CD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D906-7CAD-4275-AAAB-2958A580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E99-81AF-4729-8AF1-70276BE3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D27-A72C-4803-9ECD-8959DE9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3F1-4D0D-4E84-8670-2A6B9351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0E2-734B-4B0A-AEEA-06B78472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509-B3AF-4471-8EC4-75F47F39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D70-8752-442F-943E-F7FC2A62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058-082E-4748-AE72-3264FAD3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421D-8515-4C0A-9F2A-2D2DF8B925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200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288-AC61-44E0-B791-C596297BDA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90200" y="358092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-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06200" y="836640"/>
            <a:ext cx="974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77120" y="5638680"/>
            <a:ext cx="21589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4:43:55Z</dcterms:created>
  <dc:creator>User</dc:creator>
  <dc:description/>
  <dc:language>en-US</dc:language>
  <cp:lastModifiedBy>keke</cp:lastModifiedBy>
  <dcterms:modified xsi:type="dcterms:W3CDTF">2013-05-24T07:16:36Z</dcterms:modified>
  <cp:revision>2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