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DC7-3007-4A0B-B0FE-3725D33F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7E6-6A46-4717-88CC-383E71D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837-D6FC-47F3-B0E0-1F65E2A8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C90-1093-42AB-A7E5-C7781DF3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00E-686C-4B1A-B9C1-033FECF1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878-7E09-48E4-BE6D-C2CAF114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F91-0D52-4596-8983-BD935BC7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3EB-DB94-4335-97B6-17CB0EC7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E98-F35A-45E2-8138-46C9653F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913-B6B8-48F2-89EA-5E91B644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769-8B05-45C6-9086-7B5A0D2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E20-A5A4-4F46-ADFF-68EAFD75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24E-4082-4A9C-BA3B-292594647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623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47640" y="436572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开学第一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03640" y="333360"/>
            <a:ext cx="3889440" cy="97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Arial"/>
              </a:rPr>
              <a:t>　　这只青蛙选中位置就往树上跳了，其他所有的青蛙都鼓着眼睛拭目以待。可是，这只青蛙大多是还没抱着树干就掉了下来；即使少数几次抱住了，又不知下一步怎么办，风一起，整个身子晃晃悠悠，一会又掉了下来，但是，这只青蛙还是一次又一次地向自己的目标冲刺着。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92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24360" y="0"/>
            <a:ext cx="431964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蟋蟀看见这只鼻青脸肿的青蛙，惊奇地问道：“青蛙兄弟，你怎么老是往树上爬呀？”青蛙看了蟋蟀一眼，回答道：“我要看夏天美丽的风景，我要改变青蛙不会爬树的命运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92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4360" y="0"/>
            <a:ext cx="43196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燕子飞过来，对青蛙说：“这树是你们青蛙能爬的吗？”青蛙上气不接下气地说：“我想我们能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920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11280" y="692280"/>
            <a:ext cx="61930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摔得快死的时候，这只青蛙口里还不停地叫着：“爬树！爬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920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189000"/>
            <a:ext cx="619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　　所有的青蛙都被这只青蛙的话和坚持不懈的精神深深地感染着，情绪一下子高涨起来；为了实现那只优秀青蛙的遗愿，许多青蛙陆续向河边的柳树跳去，跳去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9685440" cy="7605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19280" y="333360"/>
            <a:ext cx="6192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于是，后来地球上有了一个新物种—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树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92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125360"/>
            <a:ext cx="741672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梦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人，可以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梦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做得高些。虽然开始时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梦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但只要不停地做，不轻易放弃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梦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也能成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1628640"/>
            <a:ext cx="813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Arial"/>
                <a:ea typeface="黑体"/>
              </a:rPr>
              <a:t>我的荣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756720" cy="813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20720" y="1268280"/>
            <a:ext cx="136872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世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佳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赵雯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亚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梁佳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贾博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陈美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俊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陈星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1268280"/>
            <a:ext cx="136872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赵子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梁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涵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金昊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周佳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永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钰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5080" y="1268280"/>
            <a:ext cx="136836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周靖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罗越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祯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王振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王骞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孙一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思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露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高正昊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1268280"/>
            <a:ext cx="1368360" cy="395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森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苏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郑丽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越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梁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仕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756720" cy="813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341360"/>
            <a:ext cx="136836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世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佳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赵雯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亚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梁佳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贾博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陈美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俊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陈星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1341360"/>
            <a:ext cx="136836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赵子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梁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涵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金昊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周佳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永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钰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1341360"/>
            <a:ext cx="136836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宋佳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茜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周靖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罗越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祯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王振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王骞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卓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孙一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1341360"/>
            <a:ext cx="136836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思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谭宗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露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高正昊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许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森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袁艺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亢艳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苏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1341360"/>
            <a:ext cx="136836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郑丽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越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胡悦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孙浩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蒋炳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孙裔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栾茹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04000" y="1341360"/>
            <a:ext cx="1368360" cy="510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梁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磐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李雪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王首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许航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仕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龙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仲世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王贝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6720" y="1341360"/>
            <a:ext cx="1368360" cy="279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郑宇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张智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刘宇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杨天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贾航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1844640"/>
            <a:ext cx="7417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时光匆匆，看似漫长的寒假，终于还是结束了或许每一位同学都还带着依依不舍的心情，怀念着假期里那些让你快乐的日子：没有老师的唠叨，没有考不完的试，不用数着分秒盼望着下课，不用一大早就起床到教室早读。可以一觉睡到自然醒，或者约上伙伴玩个不亦乐乎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756720" cy="813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773360"/>
            <a:ext cx="1942920" cy="280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涵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刘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正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773360"/>
            <a:ext cx="1942920" cy="382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李世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李佳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刘亚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张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1773360"/>
            <a:ext cx="1942920" cy="280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李永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李祯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振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1484280"/>
            <a:ext cx="1942920" cy="6036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亢艳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梁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刘磐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李雪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王首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许航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龙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张智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刘宇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杨天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徐德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贾航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1557360"/>
            <a:ext cx="860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我想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自己说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95640" y="836640"/>
            <a:ext cx="5688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方正粗圆简体"/>
                <a:ea typeface="方正粗圆简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916280"/>
            <a:ext cx="5040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微软简中圆"/>
              </a:rPr>
              <a:t>祝福全体同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微软简中圆"/>
              <a:ea typeface="微软简中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微软简中圆"/>
              </a:rPr>
              <a:t>新学期新成绩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微软简中圆"/>
              <a:ea typeface="微软简中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微软简中圆"/>
              </a:rPr>
              <a:t>  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微软简中圆"/>
              </a:rPr>
              <a:t>祝福四（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微软简中圆"/>
              </a:rPr>
              <a:t>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微软简中圆"/>
              </a:rPr>
              <a:t>）班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微软简中圆"/>
              <a:ea typeface="微软简中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微软简中圆"/>
              </a:rPr>
              <a:t>越来越棒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微软简中圆"/>
              <a:ea typeface="微软简中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0360" y="1628640"/>
            <a:ext cx="44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Arial"/>
                <a:ea typeface="黑体"/>
              </a:rPr>
              <a:t>成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413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成长——就是你对待学习的每一次努力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421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成长——就是失败后你伤心的眼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35772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成长——就是你们每天让我们的教室变得干净整洁！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484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成长——就是你们和小伙伴们友好的相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长——就是爸爸妈妈那句骄傲的夸奖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429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成长——就是你们每天让教室变得干净整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060640"/>
            <a:ext cx="8207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长就像一条河流，在我们的生命旅程中掀起了一朵朵浪花，成长就是一棵郁郁葱葱的大树，年轮里记载着我们成长的足迹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00360" y="1628640"/>
            <a:ext cx="44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Arial"/>
                <a:ea typeface="黑体"/>
              </a:rPr>
              <a:t>故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13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69228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阳光明媚的夏天，一只胸怀大志的青蛙蹲在河边上，做了一个十分重要的决定：要爬上河边那棵最高的柳树，看看夏天最美丽的风景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3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692280"/>
            <a:ext cx="626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　　知道了这只青蛙爬树的志向后，所有的青蛙都向它投来了羡慕和尊敬的目光，因为它们知道这是一只多么优秀的青蛙，而它们又是多么地信任它。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05:41:58Z</dcterms:created>
  <dc:creator>flychen</dc:creator>
  <dc:description/>
  <dc:language>en-US</dc:language>
  <cp:lastModifiedBy>未知用户</cp:lastModifiedBy>
  <dcterms:modified xsi:type="dcterms:W3CDTF">2015-03-07T12:00:52Z</dcterms:modified>
  <cp:revision>150</cp:revision>
  <dc:subject/>
  <dc:title>怎样学习高中语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14000000000001024120</vt:lpwstr>
  </property>
</Properties>
</file>