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02E-D34E-4DDB-A7A6-57F9936A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8AED-398C-43BF-95B6-DD5703F3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F3BA-D8BC-4FCA-9E46-22ACF78E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EA7-1AC8-4FB4-A6BC-E9EBA328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1E87-A117-4D70-ADBD-BB76C26B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7B8E-6D2D-46AA-9AF2-9171D9BE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99DD-F313-485D-9C4D-F3F301F3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B5CF-4800-42EB-9475-8EED7A06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60EF-06EE-44E4-9469-7534FD34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46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42F4-BB7A-40FA-B2DF-CA3807AC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EC11-C9FB-420C-B052-761949FC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132-7A6B-4DE3-9D8F-14AFAF53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C6BC-F597-442A-9F66-EC1FACE2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5390-1692-4527-956D-B270C836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E386-A2EA-4EB9-8665-9E55F000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083A-AEE8-4102-B3C3-C9203980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C591-19DA-45D6-84BA-51C24B0A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57830-F6FC-4FDF-AE17-E48F42B8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1A413-5CE3-4096-8F75-A8973521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D81AA-1B96-4454-8415-BC0F0246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85162-DA88-4A8B-B8CA-19F4DB72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257A3-899C-40DF-AB8E-1D21196C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35F2-9716-4478-ACDA-2E58FA06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5346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64E5D-88B1-4959-B766-8736253C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A7456-8CF5-4DF0-8CAD-8B756AAD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C9A0C-3D99-4AC9-B488-70578A2D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8FE96-5011-497D-9C80-4D589466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632F3-2C89-41CB-B36F-C7C9B13A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C6446-CB4C-4EFB-9B10-3BD59BFC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FBEB0-A86A-4F93-8421-206FB1BF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552-9C87-44A0-9A8D-1E4239C2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745-16D4-4F65-BDF0-F9519998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46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5E2-B41C-4039-9742-4E24A524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D76-EB0A-44D7-B651-4355E214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34CC-E688-47DF-A5A0-903BF2B5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356B-0602-4C17-A4FF-90F1C4A8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4A88-BAC0-4BB2-8773-2F7ACE5DCA5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48360" y="692280"/>
            <a:ext cx="15098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B2D4-8D79-473B-88E2-8DDF6DBF42D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4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6FB0-BFDE-41EF-84D3-69C2DA3EEC0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948360" y="692280"/>
            <a:ext cx="1509840" cy="417672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题班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5360760"/>
            <a:ext cx="64008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ecff"/>
                </a:solidFill>
                <a:latin typeface="Calibri"/>
              </a:rPr>
              <a:t>xxx</a:t>
            </a:r>
            <a:r>
              <a:rPr b="0" lang="zh-CN" sz="1400" spc="-1" strike="noStrike">
                <a:solidFill>
                  <a:srgbClr val="d6ecff"/>
                </a:solidFill>
                <a:latin typeface="Calibri"/>
              </a:rPr>
              <a:t>班级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ecff"/>
                </a:solidFill>
                <a:latin typeface="Calibri"/>
              </a:rPr>
              <a:t>xxxx</a:t>
            </a:r>
            <a:r>
              <a:rPr b="0" lang="zh-CN" sz="1400" spc="-1" strike="noStrike">
                <a:solidFill>
                  <a:srgbClr val="d6ecff"/>
                </a:solidFill>
                <a:latin typeface="Calibri"/>
              </a:rPr>
              <a:t>年</a:t>
            </a:r>
            <a:r>
              <a:rPr b="0" lang="en-US" sz="1400" spc="-1" strike="noStrike">
                <a:solidFill>
                  <a:srgbClr val="d6ecff"/>
                </a:solidFill>
                <a:latin typeface="Calibri"/>
              </a:rPr>
              <a:t>xx</a:t>
            </a:r>
            <a:r>
              <a:rPr b="0" lang="zh-CN" sz="1400" spc="-1" strike="noStrike">
                <a:solidFill>
                  <a:srgbClr val="d6ecff"/>
                </a:solidFill>
                <a:latin typeface="Calibri"/>
              </a:rPr>
              <a:t>月</a:t>
            </a:r>
            <a:r>
              <a:rPr b="0" lang="en-US" sz="1400" spc="-1" strike="noStrike">
                <a:solidFill>
                  <a:srgbClr val="d6ecff"/>
                </a:solidFill>
                <a:latin typeface="Calibri"/>
              </a:rPr>
              <a:t>xx</a:t>
            </a:r>
            <a:r>
              <a:rPr b="0" lang="zh-CN" sz="1400" spc="-1" strike="noStrike">
                <a:solidFill>
                  <a:srgbClr val="d6ecff"/>
                </a:solidFill>
                <a:latin typeface="Calibri"/>
              </a:rPr>
              <a:t>日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设计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此模板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中完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颜色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字体：</a:t>
            </a:r>
            <a:r>
              <a:rPr b="0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标题</a:t>
            </a:r>
            <a:r>
              <a:rPr b="0" lang="en-US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汉仪菱心体</a:t>
            </a:r>
            <a:r>
              <a:rPr b="0" lang="en-US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文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幼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1892160" y="2270160"/>
            <a:ext cx="261936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03200" y="5492520"/>
            <a:ext cx="653760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37:23Z</dcterms:created>
  <dc:creator>wostou</dc:creator>
  <dc:description/>
  <dc:language>en-US</dc:language>
  <cp:lastModifiedBy>李烈敏</cp:lastModifiedBy>
  <dcterms:modified xsi:type="dcterms:W3CDTF">2010-05-11T11:52:20Z</dcterms:modified>
  <cp:revision>7</cp:revision>
  <dc:subject/>
  <dc:title>主题班会</dc:title>
</cp:coreProperties>
</file>