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894E-9E97-428D-BF70-F3765A77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466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CA41-B5E5-42A8-ADBE-9D807BE1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466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466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BB2B-0717-4B88-AF15-0B77A350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466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466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466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02CE-517D-4473-A952-3B96C55B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6321-61B6-4942-B3B3-7B1023A0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5B8A-66D6-48DD-A797-6A5F9C5D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0BE0-95EC-4C47-85E8-B2060542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5270-8671-4C79-B591-1479278B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7293-CD71-44A3-894A-A6108BC4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2A2D-F6E5-4A29-9E58-F03C5CD2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66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9BD1-5504-4703-A452-FB5C43EB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2344-B098-4A9C-AA4B-00165270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466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DC44-7507-4897-AE9E-C540556C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66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9BB3-75D3-4B1A-94F6-0C33FD89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466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C85B-CEAE-4C18-929B-95037FD7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466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466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F779-C466-440D-A4B7-BE51DA5C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466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466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466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305E-658D-485C-89E5-BAF2877A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BC4F-0352-484C-B596-77F7CDD4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D25E-FF26-4286-B6CE-85577357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3189-F36E-4D11-BFF6-5A6C9FB0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C3A9-DD8F-439B-B886-8EAA17C3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466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8B04-A90A-4028-A762-CF6067D9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466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AF4B-B17D-4780-A20E-40109135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66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8D0F-6B24-4571-8A8E-95963BFC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587B-4A35-4D3E-9B94-7F49B30321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80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000080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936720" cy="8856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500720" y="6165720"/>
            <a:ext cx="41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市场中心全国直控商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649520" y="6308640"/>
            <a:ext cx="1910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Copyright TOP Electric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0" y="155736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611280" y="2565360"/>
            <a:ext cx="813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市场中心直控商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201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年营销工作规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258920" y="4076640"/>
            <a:ext cx="7273800" cy="0"/>
          </a:xfrm>
          <a:prstGeom prst="line">
            <a:avLst/>
          </a:prstGeom>
          <a:ln w="41400">
            <a:solidFill>
              <a:srgbClr val="7777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4067280" y="4325760"/>
            <a:ext cx="47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th December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979640" y="206064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守护责任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守护增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19DB-B4A4-4C26-9559-64497F7D024C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315200" y="0"/>
            <a:ext cx="116532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57200" y="45720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20304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597120" y="1801800"/>
            <a:ext cx="4824720" cy="550800"/>
            <a:chOff x="3597120" y="1801800"/>
            <a:chExt cx="4824720" cy="550800"/>
          </a:xfrm>
        </p:grpSpPr>
        <p:sp>
          <p:nvSpPr>
            <p:cNvPr id="97" name=""/>
            <p:cNvSpPr/>
            <p:nvPr/>
          </p:nvSpPr>
          <p:spPr>
            <a:xfrm>
              <a:off x="3597120" y="1801800"/>
              <a:ext cx="4824720" cy="550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8d8f">
                    <a:alpha val="52156"/>
                  </a:srgbClr>
                </a:gs>
                <a:gs pos="50000">
                  <a:srgbClr val="bbe0e3">
                    <a:alpha val="62352"/>
                  </a:srgbClr>
                </a:gs>
                <a:gs pos="100000">
                  <a:srgbClr val="768d8f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97120" y="1801800"/>
              <a:ext cx="4824720" cy="550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1a1a1">
                    <a:alpha val="52156"/>
                  </a:srgbClr>
                </a:gs>
                <a:gs pos="50000">
                  <a:srgbClr val="ffffff">
                    <a:alpha val="55294"/>
                  </a:srgbClr>
                </a:gs>
                <a:gs pos="100000">
                  <a:srgbClr val="a1a1a1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100400" y="2522520"/>
            <a:ext cx="4824360" cy="550800"/>
            <a:chOff x="4100400" y="2522520"/>
            <a:chExt cx="4824360" cy="550800"/>
          </a:xfrm>
        </p:grpSpPr>
        <p:sp>
          <p:nvSpPr>
            <p:cNvPr id="100" name=""/>
            <p:cNvSpPr/>
            <p:nvPr/>
          </p:nvSpPr>
          <p:spPr>
            <a:xfrm>
              <a:off x="4100400" y="2522520"/>
              <a:ext cx="4824360" cy="550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8d8f">
                    <a:alpha val="52156"/>
                  </a:srgbClr>
                </a:gs>
                <a:gs pos="50000">
                  <a:srgbClr val="bbe0e3">
                    <a:alpha val="62352"/>
                  </a:srgbClr>
                </a:gs>
                <a:gs pos="100000">
                  <a:srgbClr val="768d8f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00400" y="2522520"/>
              <a:ext cx="4824360" cy="550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1a1a1">
                    <a:alpha val="52156"/>
                  </a:srgbClr>
                </a:gs>
                <a:gs pos="50000">
                  <a:srgbClr val="ffffff">
                    <a:alpha val="55294"/>
                  </a:srgbClr>
                </a:gs>
                <a:gs pos="100000">
                  <a:srgbClr val="a1a1a1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319640" y="3241800"/>
            <a:ext cx="4824360" cy="550800"/>
            <a:chOff x="4319640" y="3241800"/>
            <a:chExt cx="4824360" cy="550800"/>
          </a:xfrm>
        </p:grpSpPr>
        <p:sp>
          <p:nvSpPr>
            <p:cNvPr id="103" name=""/>
            <p:cNvSpPr/>
            <p:nvPr/>
          </p:nvSpPr>
          <p:spPr>
            <a:xfrm>
              <a:off x="4319640" y="3241800"/>
              <a:ext cx="4824360" cy="550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8d8f">
                    <a:alpha val="52156"/>
                  </a:srgbClr>
                </a:gs>
                <a:gs pos="50000">
                  <a:srgbClr val="bbe0e3">
                    <a:alpha val="62352"/>
                  </a:srgbClr>
                </a:gs>
                <a:gs pos="100000">
                  <a:srgbClr val="768d8f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19640" y="3241800"/>
              <a:ext cx="4824360" cy="550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1a1a1">
                    <a:alpha val="52156"/>
                  </a:srgbClr>
                </a:gs>
                <a:gs pos="50000">
                  <a:srgbClr val="ffffff">
                    <a:alpha val="55294"/>
                  </a:srgbClr>
                </a:gs>
                <a:gs pos="100000">
                  <a:srgbClr val="a1a1a1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073400" y="3936960"/>
            <a:ext cx="4824360" cy="550800"/>
            <a:chOff x="4073400" y="3936960"/>
            <a:chExt cx="4824360" cy="550800"/>
          </a:xfrm>
        </p:grpSpPr>
        <p:sp>
          <p:nvSpPr>
            <p:cNvPr id="106" name=""/>
            <p:cNvSpPr/>
            <p:nvPr/>
          </p:nvSpPr>
          <p:spPr>
            <a:xfrm>
              <a:off x="4073400" y="3936960"/>
              <a:ext cx="4824360" cy="550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8d8f">
                    <a:alpha val="52156"/>
                  </a:srgbClr>
                </a:gs>
                <a:gs pos="50000">
                  <a:srgbClr val="bbe0e3">
                    <a:alpha val="62352"/>
                  </a:srgbClr>
                </a:gs>
                <a:gs pos="100000">
                  <a:srgbClr val="768d8f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73400" y="3936960"/>
              <a:ext cx="4824360" cy="550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1a1a1">
                    <a:alpha val="52156"/>
                  </a:srgbClr>
                </a:gs>
                <a:gs pos="50000">
                  <a:srgbClr val="ffffff">
                    <a:alpha val="55294"/>
                  </a:srgbClr>
                </a:gs>
                <a:gs pos="100000">
                  <a:srgbClr val="a1a1a1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419640" y="4581360"/>
            <a:ext cx="4824360" cy="550800"/>
            <a:chOff x="3419640" y="4581360"/>
            <a:chExt cx="4824360" cy="550800"/>
          </a:xfrm>
        </p:grpSpPr>
        <p:sp>
          <p:nvSpPr>
            <p:cNvPr id="109" name=""/>
            <p:cNvSpPr/>
            <p:nvPr/>
          </p:nvSpPr>
          <p:spPr>
            <a:xfrm>
              <a:off x="3419640" y="4581360"/>
              <a:ext cx="4824360" cy="550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8d8f">
                    <a:alpha val="52156"/>
                  </a:srgbClr>
                </a:gs>
                <a:gs pos="50000">
                  <a:srgbClr val="bbe0e3">
                    <a:alpha val="62352"/>
                  </a:srgbClr>
                </a:gs>
                <a:gs pos="100000">
                  <a:srgbClr val="768d8f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19640" y="4581360"/>
              <a:ext cx="4824360" cy="550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1a1a1">
                    <a:alpha val="52156"/>
                  </a:srgbClr>
                </a:gs>
                <a:gs pos="50000">
                  <a:srgbClr val="ffffff">
                    <a:alpha val="55294"/>
                  </a:srgbClr>
                </a:gs>
                <a:gs pos="100000">
                  <a:srgbClr val="a1a1a1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560760" y="1925640"/>
            <a:ext cx="314280" cy="3301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006565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91040" y="2611440"/>
            <a:ext cx="314280" cy="3301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6587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4960" y="3349800"/>
            <a:ext cx="314280" cy="3301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212165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59360" y="4040280"/>
            <a:ext cx="314280" cy="3301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006565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4800600"/>
            <a:ext cx="314280" cy="33012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212187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90480" y="2065320"/>
            <a:ext cx="2832120" cy="2832120"/>
            <a:chOff x="690480" y="2065320"/>
            <a:chExt cx="2832120" cy="2832120"/>
          </a:xfrm>
        </p:grpSpPr>
        <p:grpSp>
          <p:nvGrpSpPr>
            <p:cNvPr id="117" name=""/>
            <p:cNvGrpSpPr/>
            <p:nvPr/>
          </p:nvGrpSpPr>
          <p:grpSpPr>
            <a:xfrm>
              <a:off x="690480" y="2065320"/>
              <a:ext cx="2832120" cy="2832120"/>
              <a:chOff x="690480" y="2065320"/>
              <a:chExt cx="2832120" cy="2832120"/>
            </a:xfrm>
          </p:grpSpPr>
          <p:sp>
            <p:nvSpPr>
              <p:cNvPr id="118" name=""/>
              <p:cNvSpPr/>
              <p:nvPr/>
            </p:nvSpPr>
            <p:spPr>
              <a:xfrm>
                <a:off x="1949400" y="3316320"/>
                <a:ext cx="314280" cy="3301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658700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90480" y="2065320"/>
                <a:ext cx="2832120" cy="2832120"/>
              </a:xfrm>
              <a:prstGeom prst="ellipse">
                <a:avLst/>
              </a:prstGeom>
              <a:blipFill rotWithShape="0">
                <a:blip r:embed="rId2">
                  <a:alphaModFix amt="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954000" y="2330640"/>
                <a:ext cx="2303280" cy="2303280"/>
              </a:xfrm>
              <a:prstGeom prst="ellipse">
                <a:avLst/>
              </a:prstGeom>
              <a:solidFill>
                <a:srgbClr val="fffff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1098360" y="2473560"/>
                <a:ext cx="2016000" cy="2016000"/>
              </a:xfrm>
              <a:prstGeom prst="ellipse">
                <a:avLst/>
              </a:prstGeom>
              <a:gradFill rotWithShape="0">
                <a:gsLst>
                  <a:gs pos="0">
                    <a:srgbClr val="4cb74c"/>
                  </a:gs>
                  <a:gs pos="100000">
                    <a:srgbClr val="0099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1103040" y="2484360"/>
                <a:ext cx="2015280" cy="2176920"/>
                <a:chOff x="1103040" y="2484360"/>
                <a:chExt cx="2015280" cy="2176920"/>
              </a:xfrm>
            </p:grpSpPr>
            <p:grpSp>
              <p:nvGrpSpPr>
                <p:cNvPr id="123" name=""/>
                <p:cNvGrpSpPr/>
                <p:nvPr/>
              </p:nvGrpSpPr>
              <p:grpSpPr>
                <a:xfrm>
                  <a:off x="1103040" y="2484360"/>
                  <a:ext cx="2015280" cy="2176920"/>
                  <a:chOff x="1103040" y="2484360"/>
                  <a:chExt cx="2015280" cy="2176920"/>
                </a:xfrm>
              </p:grpSpPr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4200" y="4191120"/>
                    <a:ext cx="16596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3040" y="2484360"/>
                    <a:ext cx="2015280" cy="200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6" name=""/>
                  <p:cNvSpPr/>
                  <p:nvPr/>
                </p:nvSpPr>
                <p:spPr>
                  <a:xfrm>
                    <a:off x="1103040" y="2484360"/>
                    <a:ext cx="2001960" cy="2013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be0e3">
                          <a:alpha val="55294"/>
                        </a:srgbClr>
                      </a:gs>
                      <a:gs pos="50000">
                        <a:srgbClr val="566768">
                          <a:alpha val="90196"/>
                        </a:srgbClr>
                      </a:gs>
                      <a:gs pos="100000">
                        <a:srgbClr val="bbe0e3">
                          <a:alpha val="55294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02120" y="2505240"/>
                  <a:ext cx="1593720" cy="710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8" name=""/>
              <p:cNvSpPr/>
              <p:nvPr/>
            </p:nvSpPr>
            <p:spPr>
              <a:xfrm>
                <a:off x="1114200" y="2113200"/>
                <a:ext cx="1862280" cy="2257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205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200" spc="-1" strike="noStrike">
                    <a:solidFill>
                      <a:srgbClr val="3333cc"/>
                    </a:solidFill>
                    <a:latin typeface="Times New Roman"/>
                  </a:rPr>
                  <a:t>@</a:t>
                </a:r>
                <a:endParaRPr b="0" lang="en-US" sz="1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 flipH="1">
              <a:off x="906480" y="2330640"/>
              <a:ext cx="2342880" cy="2327040"/>
            </a:xfrm>
            <a:prstGeom prst="ellipse">
              <a:avLst/>
            </a:prstGeom>
            <a:solidFill>
              <a:srgbClr val="333333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905200" y="2093760"/>
            <a:ext cx="666360" cy="206280"/>
            <a:chOff x="2905200" y="2093760"/>
            <a:chExt cx="666360" cy="206280"/>
          </a:xfrm>
        </p:grpSpPr>
        <p:sp>
          <p:nvSpPr>
            <p:cNvPr id="131" name=""/>
            <p:cNvSpPr/>
            <p:nvPr/>
          </p:nvSpPr>
          <p:spPr>
            <a:xfrm flipV="1">
              <a:off x="2905200" y="2107800"/>
              <a:ext cx="150840" cy="19224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049920" y="2093760"/>
              <a:ext cx="521640" cy="115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425760" y="2784600"/>
            <a:ext cx="666360" cy="205560"/>
            <a:chOff x="3425760" y="2784600"/>
            <a:chExt cx="666360" cy="205560"/>
          </a:xfrm>
        </p:grpSpPr>
        <p:sp>
          <p:nvSpPr>
            <p:cNvPr id="134" name=""/>
            <p:cNvSpPr/>
            <p:nvPr/>
          </p:nvSpPr>
          <p:spPr>
            <a:xfrm flipV="1">
              <a:off x="3425760" y="2798280"/>
              <a:ext cx="150840" cy="1918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570480" y="2784600"/>
              <a:ext cx="521640" cy="115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395520" y="4083480"/>
            <a:ext cx="666360" cy="143640"/>
            <a:chOff x="3395520" y="4083480"/>
            <a:chExt cx="666360" cy="143640"/>
          </a:xfrm>
        </p:grpSpPr>
        <p:sp>
          <p:nvSpPr>
            <p:cNvPr id="137" name=""/>
            <p:cNvSpPr/>
            <p:nvPr/>
          </p:nvSpPr>
          <p:spPr>
            <a:xfrm>
              <a:off x="3395520" y="4083480"/>
              <a:ext cx="150840" cy="1342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40240" y="4219200"/>
              <a:ext cx="521640" cy="79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706840" y="4800960"/>
            <a:ext cx="666360" cy="216000"/>
            <a:chOff x="2706840" y="4800960"/>
            <a:chExt cx="666360" cy="216000"/>
          </a:xfrm>
        </p:grpSpPr>
        <p:sp>
          <p:nvSpPr>
            <p:cNvPr id="140" name=""/>
            <p:cNvSpPr/>
            <p:nvPr/>
          </p:nvSpPr>
          <p:spPr>
            <a:xfrm>
              <a:off x="2706840" y="4800960"/>
              <a:ext cx="150840" cy="2008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51560" y="5005080"/>
              <a:ext cx="521640" cy="118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498840" y="3514680"/>
            <a:ext cx="819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843280" y="5300640"/>
            <a:ext cx="4824360" cy="550800"/>
            <a:chOff x="2843280" y="5300640"/>
            <a:chExt cx="4824360" cy="550800"/>
          </a:xfrm>
        </p:grpSpPr>
        <p:sp>
          <p:nvSpPr>
            <p:cNvPr id="144" name=""/>
            <p:cNvSpPr/>
            <p:nvPr/>
          </p:nvSpPr>
          <p:spPr>
            <a:xfrm>
              <a:off x="2843280" y="5300640"/>
              <a:ext cx="4824360" cy="550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8d8f">
                    <a:alpha val="52156"/>
                  </a:srgbClr>
                </a:gs>
                <a:gs pos="50000">
                  <a:srgbClr val="bbe0e3">
                    <a:alpha val="62352"/>
                  </a:srgbClr>
                </a:gs>
                <a:gs pos="100000">
                  <a:srgbClr val="768d8f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3280" y="5300640"/>
              <a:ext cx="4824360" cy="550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1a1a1">
                    <a:alpha val="52156"/>
                  </a:srgbClr>
                </a:gs>
                <a:gs pos="50000">
                  <a:srgbClr val="ffffff">
                    <a:alpha val="55294"/>
                  </a:srgbClr>
                </a:gs>
                <a:gs pos="100000">
                  <a:srgbClr val="a1a1a1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843280" y="5373720"/>
            <a:ext cx="314280" cy="3301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979640" y="4942440"/>
            <a:ext cx="863280" cy="574200"/>
            <a:chOff x="1979640" y="4942440"/>
            <a:chExt cx="863280" cy="574200"/>
          </a:xfrm>
        </p:grpSpPr>
        <p:sp>
          <p:nvSpPr>
            <p:cNvPr id="148" name=""/>
            <p:cNvSpPr/>
            <p:nvPr/>
          </p:nvSpPr>
          <p:spPr>
            <a:xfrm>
              <a:off x="1979640" y="4942440"/>
              <a:ext cx="195480" cy="5346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67200" y="5484600"/>
              <a:ext cx="675720" cy="3204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900000" y="2276640"/>
            <a:ext cx="2448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4000" y="5373720"/>
            <a:ext cx="4969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任重道远，勇往直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7092720" cy="3600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971640" y="4437000"/>
            <a:ext cx="720720" cy="6415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 </a:t>
            </a:r>
            <a:r>
              <a:rPr b="1" lang="zh-CN" sz="1200" spc="-1" strike="noStrike">
                <a:solidFill>
                  <a:srgbClr val="bbe0e3"/>
                </a:solidFill>
                <a:latin typeface="宋体"/>
              </a:rPr>
              <a:t>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19640" y="4869000"/>
            <a:ext cx="2808360" cy="215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 </a:t>
            </a:r>
            <a:r>
              <a:rPr b="1" lang="zh-CN" sz="800" spc="-1" strike="noStrike">
                <a:solidFill>
                  <a:srgbClr val="bbe0e3"/>
                </a:solidFill>
                <a:latin typeface="宋体"/>
              </a:rPr>
              <a:t>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172200" y="59720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仿宋_GB2312"/>
              </a:rPr>
              <a:t>扎硬营，打死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7315200" y="0"/>
            <a:ext cx="11653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8T08:28:58Z</dcterms:created>
  <dc:creator>刘剑锋</dc:creator>
  <dc:description/>
  <dc:language>en-US</dc:language>
  <cp:lastModifiedBy>MC SYSTEM</cp:lastModifiedBy>
  <dcterms:modified xsi:type="dcterms:W3CDTF">2010-12-12T05:41:37Z</dcterms:modified>
  <cp:revision>282</cp:revision>
  <dc:subject/>
  <dc:title>工作总结</dc:title>
</cp:coreProperties>
</file>