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B01-9014-4582-85F7-D6849973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B90-D16C-421D-A1C3-28C292A8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699-9805-4BDC-B4AD-C1448AD6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283-724B-4331-A6C3-77C02221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D4E-4793-48A6-AE75-5C7932C3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4B6-ADDD-4307-B0EE-537166DD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1B1-CCA3-414B-A398-838FD222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D634-704D-4B2D-8B5A-C8A52DCC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FF9-22AC-42F4-8C3B-718C29A2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C24-BE75-4633-9BE4-193DC893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25F-DC9C-44EF-A43E-2ED300CB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FA6-D442-4207-B93E-A6C96016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164B-2ECD-41AA-A6CD-79045AEE4F5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多特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素材 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www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duote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alibri"/>
              </a:rPr>
              <a:t>Company N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85688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6:48:38Z</dcterms:created>
  <dc:creator>Admin</dc:creator>
  <dc:description/>
  <dc:language>en-US</dc:language>
  <cp:lastModifiedBy>雨林木风</cp:lastModifiedBy>
  <dcterms:modified xsi:type="dcterms:W3CDTF">2011-04-19T08:03:53Z</dcterms:modified>
  <cp:revision>6</cp:revision>
  <dc:subject/>
  <dc:title>PRESENTATION  NAME</dc:title>
</cp:coreProperties>
</file>