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CAD-19DC-46A7-9756-6F9F1A33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C3F-904B-41FF-B4D2-6F0BAF2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A33-DF15-450D-B0CC-7D201A70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EDA-52B2-4657-93E2-A7664F21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CD1-EC5E-4E99-B38B-5584F2FF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9F77-AD94-4C5C-9439-58649145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816C-E1CE-4489-B69A-815EDB2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F8DB-DAB3-47E3-A183-E23408E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0356-00D3-4A0C-9AEF-4405E98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ACFB-5CEC-4896-B159-970A4D4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816-F63D-42F7-9A45-E0340F24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42A7-9994-4380-97D7-0E6950A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D89B-E8F1-4FE8-90F3-194AE8B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5C9-0E07-44CE-95DF-D99C1F7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D03-CE0D-4550-BA0D-7D888A8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0793-A132-4C35-8301-B9190B0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7A7F-8D71-44BE-B885-17B8B63E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A57-E50A-4271-8B6C-5C687874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7CB-56C2-4D54-9B35-5BBB8704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92E-8D55-458D-83C7-685AAC8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2C8-F48E-442E-AD1B-B73CAF3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F58-ACB7-4A65-A3DB-8CAAF89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CA9-7966-4107-B552-1CD141A4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5D2-6B6F-4332-BDAA-2ACEAD3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6680" y="6330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47C-C27E-478D-9183-DD981A3E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131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029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559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5435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7577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37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2642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784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078080" y="262728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"/>
          <p:cNvPicPr/>
          <p:nvPr/>
        </p:nvPicPr>
        <p:blipFill>
          <a:blip r:embed="rId2"/>
          <a:stretch/>
        </p:blipFill>
        <p:spPr>
          <a:xfrm>
            <a:off x="3116160" y="2133720"/>
            <a:ext cx="782640" cy="73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0477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BC2-7E27-4656-9CC8-F0BDFBDE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203640" y="2592360"/>
            <a:ext cx="51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500800" y="330660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Unbenannt-2"/>
          <p:cNvPicPr/>
          <p:nvPr/>
        </p:nvPicPr>
        <p:blipFill>
          <a:blip r:embed="rId1"/>
          <a:stretch/>
        </p:blipFill>
        <p:spPr>
          <a:xfrm>
            <a:off x="5724360" y="3378240"/>
            <a:ext cx="2797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0" y="3244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PB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模板组：</a:t>
            </a: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z_63</a:t>
            </a: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老鬼作品</a:t>
            </a: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2178000" y="3699000"/>
            <a:ext cx="4680000" cy="521640"/>
            <a:chOff x="2178000" y="3699000"/>
            <a:chExt cx="4680000" cy="521640"/>
          </a:xfrm>
        </p:grpSpPr>
        <p:sp>
          <p:nvSpPr>
            <p:cNvPr id="138" name="Text Box 5"/>
            <p:cNvSpPr/>
            <p:nvPr/>
          </p:nvSpPr>
          <p:spPr>
            <a:xfrm>
              <a:off x="2249280" y="3743280"/>
              <a:ext cx="450864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本模板作品由</a:t>
              </a:r>
              <a:r>
                <a:rPr b="0" lang="en-US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PowerBar</a:t>
              </a: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模板组成员创作，部分图片素材来源于互联网，如有侵犯您的权利请即通知，立刻处理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您可以自由：复制、发行、展览、表演、放映、广播或通过信息网络传播本作品 </a:t>
              </a:r>
              <a:r>
                <a:rPr b="0" lang="en-US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;</a:t>
              </a: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创作演绎作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惟须遵守下列条件：您必须按照作者或者许可人指定的方式对作品进行署名</a:t>
              </a:r>
              <a:r>
                <a:rPr b="0" lang="en-US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;</a:t>
              </a:r>
              <a:r>
                <a:rPr b="0" lang="zh-CN" sz="7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不得以盈利为目的对本模板进行出售、收费下载或者做非实质性改动之后进行类似的行为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2178000" y="3699000"/>
              <a:ext cx="46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66412353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467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z_63【老鬼作品】</dc:creator>
  <dc:description>http://www.nordridesign.cn</dc:description>
  <dc:language>en-US</dc:language>
  <cp:lastModifiedBy>Microsoft China</cp:lastModifiedBy>
  <dcterms:modified xsi:type="dcterms:W3CDTF">2011-10-21T08:14:00Z</dcterms:modified>
  <cp:revision>33</cp:revision>
  <dc:subject>蓝色畅想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