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gif" ContentType="image/gif"/>
  <Override PartName="/ppt/media/image9.wmf" ContentType="image/x-wmf"/>
  <Override PartName="/ppt/media/image7.png" ContentType="image/png"/>
  <Override PartName="/ppt/media/image8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97234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4720" y="1576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7280" y="3893760"/>
            <a:ext cx="640080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187280" y="4433760"/>
            <a:ext cx="640080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4720" y="1576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7280" y="3893760"/>
            <a:ext cx="312336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67240" y="3893760"/>
            <a:ext cx="312336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7280" y="4433760"/>
            <a:ext cx="312336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467240" y="4433760"/>
            <a:ext cx="312336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4720" y="1576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7280" y="3893760"/>
            <a:ext cx="206064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51240" y="3893760"/>
            <a:ext cx="206064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15560" y="3893760"/>
            <a:ext cx="206064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187280" y="4433760"/>
            <a:ext cx="206064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351240" y="4433760"/>
            <a:ext cx="206064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515560" y="4433760"/>
            <a:ext cx="206064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4720" y="1576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87280" y="389376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4720" y="1576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389376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4720" y="1576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7280" y="3893760"/>
            <a:ext cx="312336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467240" y="3893760"/>
            <a:ext cx="312336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74720" y="1576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74720" y="157608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74720" y="1576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7280" y="3893760"/>
            <a:ext cx="312336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67240" y="3893760"/>
            <a:ext cx="312336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7280" y="4433760"/>
            <a:ext cx="312336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4720" y="1576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187280" y="389376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4720" y="1576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7280" y="3893760"/>
            <a:ext cx="312336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467240" y="3893760"/>
            <a:ext cx="312336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467240" y="4433760"/>
            <a:ext cx="312336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4720" y="1576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7280" y="3893760"/>
            <a:ext cx="312336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67240" y="3893760"/>
            <a:ext cx="312336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7280" y="4433760"/>
            <a:ext cx="640080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4720" y="1576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7280" y="3893760"/>
            <a:ext cx="640080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87280" y="4433760"/>
            <a:ext cx="640080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4720" y="1576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7280" y="3893760"/>
            <a:ext cx="312336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467240" y="3893760"/>
            <a:ext cx="312336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7280" y="4433760"/>
            <a:ext cx="312336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467240" y="4433760"/>
            <a:ext cx="312336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4720" y="1576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7280" y="3893760"/>
            <a:ext cx="206064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1240" y="3893760"/>
            <a:ext cx="206064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515560" y="3893760"/>
            <a:ext cx="206064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87280" y="4433760"/>
            <a:ext cx="206064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1240" y="4433760"/>
            <a:ext cx="206064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515560" y="4433760"/>
            <a:ext cx="206064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4720" y="1576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7280" y="389376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4720" y="1576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7280" y="3893760"/>
            <a:ext cx="312336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467240" y="3893760"/>
            <a:ext cx="312336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74720" y="1576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774720" y="157608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4720" y="1576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7280" y="3893760"/>
            <a:ext cx="312336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67240" y="3893760"/>
            <a:ext cx="312336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87280" y="4433760"/>
            <a:ext cx="312336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4720" y="1576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7280" y="3893760"/>
            <a:ext cx="312336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67240" y="3893760"/>
            <a:ext cx="312336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467240" y="4433760"/>
            <a:ext cx="312336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4720" y="1576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7280" y="3893760"/>
            <a:ext cx="312336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240" y="3893760"/>
            <a:ext cx="312336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87280" y="4433760"/>
            <a:ext cx="640080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3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2f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2fbb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2fbb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2fbb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2fbb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2fbb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2fbb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2fbb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9360" y="-9360"/>
            <a:ext cx="9172440" cy="896760"/>
          </a:xfrm>
          <a:custGeom>
            <a:avLst/>
            <a:gdLst/>
            <a:ahLst/>
            <a:rect l="l" t="t" r="r" b="b"/>
            <a:pathLst>
              <a:path w="5778" h="565">
                <a:moveTo>
                  <a:pt x="0" y="565"/>
                </a:moveTo>
                <a:lnTo>
                  <a:pt x="0" y="0"/>
                </a:lnTo>
                <a:lnTo>
                  <a:pt x="5766" y="0"/>
                </a:lnTo>
                <a:lnTo>
                  <a:pt x="5778" y="565"/>
                </a:lnTo>
                <a:lnTo>
                  <a:pt x="0" y="565"/>
                </a:lnTo>
                <a:close/>
              </a:path>
            </a:pathLst>
          </a:custGeom>
          <a:gradFill rotWithShape="0">
            <a:gsLst>
              <a:gs pos="0">
                <a:srgbClr val="9a2fbb"/>
              </a:gs>
              <a:gs pos="100000">
                <a:srgbClr val="0091d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764240" y="5418000"/>
            <a:ext cx="4387680" cy="1517760"/>
            <a:chOff x="4764240" y="5418000"/>
            <a:chExt cx="4387680" cy="1517760"/>
          </a:xfrm>
        </p:grpSpPr>
        <p:sp>
          <p:nvSpPr>
            <p:cNvPr id="6" name=""/>
            <p:cNvSpPr/>
            <p:nvPr/>
          </p:nvSpPr>
          <p:spPr>
            <a:xfrm flipH="1" flipV="1">
              <a:off x="4848480" y="5516280"/>
              <a:ext cx="4295160" cy="1403280"/>
            </a:xfrm>
            <a:custGeom>
              <a:avLst/>
              <a:gdLst/>
              <a:ahLst/>
              <a:rect l="l" t="t" r="r" b="b"/>
              <a:pathLst>
                <a:path w="3682" h="1203">
                  <a:moveTo>
                    <a:pt x="0" y="1203"/>
                  </a:moveTo>
                  <a:lnTo>
                    <a:pt x="0" y="51"/>
                  </a:lnTo>
                  <a:cubicBezTo>
                    <a:pt x="0" y="51"/>
                    <a:pt x="3475" y="0"/>
                    <a:pt x="3682" y="51"/>
                  </a:cubicBezTo>
                  <a:cubicBezTo>
                    <a:pt x="2491" y="76"/>
                    <a:pt x="2161" y="90"/>
                    <a:pt x="1242" y="355"/>
                  </a:cubicBezTo>
                  <a:cubicBezTo>
                    <a:pt x="323" y="620"/>
                    <a:pt x="0" y="1203"/>
                    <a:pt x="0" y="1203"/>
                  </a:cubicBezTo>
                  <a:close/>
                </a:path>
              </a:pathLst>
            </a:custGeom>
            <a:gradFill rotWithShape="0">
              <a:gsLst>
                <a:gs pos="0">
                  <a:srgbClr val="9a2fbb"/>
                </a:gs>
                <a:gs pos="100000">
                  <a:srgbClr val="0091d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flipV="1">
              <a:off x="4764240" y="5418000"/>
              <a:ext cx="4387680" cy="1517760"/>
            </a:xfrm>
            <a:custGeom>
              <a:avLst/>
              <a:gdLst/>
              <a:ahLst/>
              <a:rect l="l" t="t" r="r" b="b"/>
              <a:pathLst>
                <a:path w="3761" h="1301">
                  <a:moveTo>
                    <a:pt x="0" y="1301"/>
                  </a:moveTo>
                  <a:cubicBezTo>
                    <a:pt x="537" y="615"/>
                    <a:pt x="887" y="532"/>
                    <a:pt x="1514" y="330"/>
                  </a:cubicBezTo>
                  <a:cubicBezTo>
                    <a:pt x="2141" y="128"/>
                    <a:pt x="3761" y="80"/>
                    <a:pt x="3747" y="65"/>
                  </a:cubicBezTo>
                  <a:cubicBezTo>
                    <a:pt x="2738" y="0"/>
                    <a:pt x="2001" y="110"/>
                    <a:pt x="1469" y="246"/>
                  </a:cubicBezTo>
                  <a:cubicBezTo>
                    <a:pt x="939" y="382"/>
                    <a:pt x="395" y="615"/>
                    <a:pt x="7" y="1081"/>
                  </a:cubicBezTo>
                  <a:lnTo>
                    <a:pt x="0" y="1301"/>
                  </a:lnTo>
                  <a:close/>
                </a:path>
              </a:pathLst>
            </a:custGeom>
            <a:solidFill>
              <a:srgbClr val="1c1c1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0" y="822240"/>
            <a:ext cx="9144000" cy="128520"/>
          </a:xfrm>
          <a:prstGeom prst="rect">
            <a:avLst/>
          </a:prstGeom>
          <a:solidFill>
            <a:srgbClr val="1c1c1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-42480" y="76320"/>
            <a:ext cx="1820160" cy="834480"/>
            <a:chOff x="-42480" y="76320"/>
            <a:chExt cx="1820160" cy="834480"/>
          </a:xfrm>
        </p:grpSpPr>
        <p:sp>
          <p:nvSpPr>
            <p:cNvPr id="10" name=""/>
            <p:cNvSpPr/>
            <p:nvPr/>
          </p:nvSpPr>
          <p:spPr>
            <a:xfrm flipH="1">
              <a:off x="1185120" y="76320"/>
              <a:ext cx="592200" cy="832680"/>
            </a:xfrm>
            <a:custGeom>
              <a:avLst/>
              <a:gdLst/>
              <a:ahLst/>
              <a:rect l="l" t="t" r="r" b="b"/>
              <a:pathLst>
                <a:path w="2214" h="3107">
                  <a:moveTo>
                    <a:pt x="727" y="296"/>
                  </a:moveTo>
                  <a:lnTo>
                    <a:pt x="692" y="238"/>
                  </a:lnTo>
                  <a:cubicBezTo>
                    <a:pt x="697" y="223"/>
                    <a:pt x="705" y="209"/>
                    <a:pt x="705" y="194"/>
                  </a:cubicBezTo>
                  <a:cubicBezTo>
                    <a:pt x="705" y="165"/>
                    <a:pt x="671" y="140"/>
                    <a:pt x="671" y="109"/>
                  </a:cubicBezTo>
                  <a:lnTo>
                    <a:pt x="663" y="54"/>
                  </a:lnTo>
                  <a:lnTo>
                    <a:pt x="620" y="8"/>
                  </a:lnTo>
                  <a:lnTo>
                    <a:pt x="559" y="0"/>
                  </a:lnTo>
                  <a:lnTo>
                    <a:pt x="457" y="25"/>
                  </a:lnTo>
                  <a:lnTo>
                    <a:pt x="391" y="56"/>
                  </a:lnTo>
                  <a:lnTo>
                    <a:pt x="354" y="138"/>
                  </a:lnTo>
                  <a:lnTo>
                    <a:pt x="359" y="206"/>
                  </a:lnTo>
                  <a:lnTo>
                    <a:pt x="359" y="260"/>
                  </a:lnTo>
                  <a:lnTo>
                    <a:pt x="371" y="296"/>
                  </a:lnTo>
                  <a:lnTo>
                    <a:pt x="367" y="344"/>
                  </a:lnTo>
                  <a:cubicBezTo>
                    <a:pt x="346" y="391"/>
                    <a:pt x="369" y="354"/>
                    <a:pt x="329" y="371"/>
                  </a:cubicBezTo>
                  <a:cubicBezTo>
                    <a:pt x="319" y="376"/>
                    <a:pt x="316" y="405"/>
                    <a:pt x="307" y="413"/>
                  </a:cubicBezTo>
                  <a:cubicBezTo>
                    <a:pt x="301" y="437"/>
                    <a:pt x="274" y="451"/>
                    <a:pt x="250" y="456"/>
                  </a:cubicBezTo>
                  <a:cubicBezTo>
                    <a:pt x="236" y="464"/>
                    <a:pt x="228" y="476"/>
                    <a:pt x="214" y="485"/>
                  </a:cubicBezTo>
                  <a:lnTo>
                    <a:pt x="141" y="512"/>
                  </a:lnTo>
                  <a:lnTo>
                    <a:pt x="56" y="548"/>
                  </a:lnTo>
                  <a:lnTo>
                    <a:pt x="12" y="598"/>
                  </a:lnTo>
                  <a:lnTo>
                    <a:pt x="5" y="668"/>
                  </a:lnTo>
                  <a:lnTo>
                    <a:pt x="5" y="759"/>
                  </a:lnTo>
                  <a:lnTo>
                    <a:pt x="0" y="959"/>
                  </a:lnTo>
                  <a:lnTo>
                    <a:pt x="5" y="1092"/>
                  </a:lnTo>
                  <a:lnTo>
                    <a:pt x="32" y="1277"/>
                  </a:lnTo>
                  <a:lnTo>
                    <a:pt x="68" y="1453"/>
                  </a:lnTo>
                  <a:cubicBezTo>
                    <a:pt x="85" y="1541"/>
                    <a:pt x="59" y="1556"/>
                    <a:pt x="117" y="1563"/>
                  </a:cubicBezTo>
                  <a:cubicBezTo>
                    <a:pt x="129" y="1585"/>
                    <a:pt x="117" y="1558"/>
                    <a:pt x="117" y="1604"/>
                  </a:cubicBezTo>
                  <a:cubicBezTo>
                    <a:pt x="117" y="1631"/>
                    <a:pt x="129" y="1660"/>
                    <a:pt x="136" y="1684"/>
                  </a:cubicBezTo>
                  <a:cubicBezTo>
                    <a:pt x="143" y="1703"/>
                    <a:pt x="163" y="1716"/>
                    <a:pt x="178" y="1730"/>
                  </a:cubicBezTo>
                  <a:cubicBezTo>
                    <a:pt x="185" y="1738"/>
                    <a:pt x="195" y="1750"/>
                    <a:pt x="195" y="1750"/>
                  </a:cubicBezTo>
                  <a:lnTo>
                    <a:pt x="198" y="1866"/>
                  </a:lnTo>
                  <a:lnTo>
                    <a:pt x="182" y="2158"/>
                  </a:lnTo>
                  <a:lnTo>
                    <a:pt x="182" y="2383"/>
                  </a:lnTo>
                  <a:lnTo>
                    <a:pt x="174" y="2812"/>
                  </a:lnTo>
                  <a:cubicBezTo>
                    <a:pt x="166" y="2950"/>
                    <a:pt x="169" y="2956"/>
                    <a:pt x="229" y="2955"/>
                  </a:cubicBezTo>
                  <a:cubicBezTo>
                    <a:pt x="253" y="2959"/>
                    <a:pt x="234" y="2986"/>
                    <a:pt x="231" y="3019"/>
                  </a:cubicBezTo>
                  <a:cubicBezTo>
                    <a:pt x="226" y="3047"/>
                    <a:pt x="214" y="3077"/>
                    <a:pt x="228" y="3085"/>
                  </a:cubicBezTo>
                  <a:cubicBezTo>
                    <a:pt x="258" y="3107"/>
                    <a:pt x="310" y="3098"/>
                    <a:pt x="340" y="3090"/>
                  </a:cubicBezTo>
                  <a:cubicBezTo>
                    <a:pt x="344" y="3060"/>
                    <a:pt x="338" y="3041"/>
                    <a:pt x="337" y="3018"/>
                  </a:cubicBezTo>
                  <a:cubicBezTo>
                    <a:pt x="334" y="2997"/>
                    <a:pt x="337" y="2973"/>
                    <a:pt x="346" y="2962"/>
                  </a:cubicBezTo>
                  <a:lnTo>
                    <a:pt x="387" y="2953"/>
                  </a:lnTo>
                  <a:lnTo>
                    <a:pt x="388" y="2849"/>
                  </a:lnTo>
                  <a:lnTo>
                    <a:pt x="388" y="2698"/>
                  </a:lnTo>
                  <a:lnTo>
                    <a:pt x="388" y="2505"/>
                  </a:lnTo>
                  <a:lnTo>
                    <a:pt x="401" y="2310"/>
                  </a:lnTo>
                  <a:lnTo>
                    <a:pt x="404" y="2121"/>
                  </a:lnTo>
                  <a:lnTo>
                    <a:pt x="445" y="1935"/>
                  </a:lnTo>
                  <a:lnTo>
                    <a:pt x="469" y="1828"/>
                  </a:lnTo>
                  <a:cubicBezTo>
                    <a:pt x="479" y="1821"/>
                    <a:pt x="485" y="1803"/>
                    <a:pt x="498" y="1806"/>
                  </a:cubicBezTo>
                  <a:cubicBezTo>
                    <a:pt x="501" y="1806"/>
                    <a:pt x="510" y="1847"/>
                    <a:pt x="513" y="1851"/>
                  </a:cubicBezTo>
                  <a:cubicBezTo>
                    <a:pt x="530" y="1893"/>
                    <a:pt x="547" y="1932"/>
                    <a:pt x="559" y="1976"/>
                  </a:cubicBezTo>
                  <a:cubicBezTo>
                    <a:pt x="561" y="2002"/>
                    <a:pt x="561" y="2007"/>
                    <a:pt x="571" y="2029"/>
                  </a:cubicBezTo>
                  <a:cubicBezTo>
                    <a:pt x="578" y="2078"/>
                    <a:pt x="578" y="2125"/>
                    <a:pt x="571" y="2177"/>
                  </a:cubicBezTo>
                  <a:cubicBezTo>
                    <a:pt x="571" y="2189"/>
                    <a:pt x="574" y="2214"/>
                    <a:pt x="574" y="2214"/>
                  </a:cubicBezTo>
                  <a:lnTo>
                    <a:pt x="549" y="2395"/>
                  </a:lnTo>
                  <a:lnTo>
                    <a:pt x="537" y="2718"/>
                  </a:lnTo>
                  <a:cubicBezTo>
                    <a:pt x="535" y="2923"/>
                    <a:pt x="496" y="2922"/>
                    <a:pt x="591" y="2925"/>
                  </a:cubicBezTo>
                  <a:cubicBezTo>
                    <a:pt x="583" y="2983"/>
                    <a:pt x="573" y="3051"/>
                    <a:pt x="592" y="3076"/>
                  </a:cubicBezTo>
                  <a:lnTo>
                    <a:pt x="700" y="3076"/>
                  </a:lnTo>
                  <a:lnTo>
                    <a:pt x="704" y="3040"/>
                  </a:lnTo>
                  <a:lnTo>
                    <a:pt x="763" y="3076"/>
                  </a:lnTo>
                  <a:cubicBezTo>
                    <a:pt x="840" y="3078"/>
                    <a:pt x="947" y="3082"/>
                    <a:pt x="1026" y="3075"/>
                  </a:cubicBezTo>
                  <a:cubicBezTo>
                    <a:pt x="1042" y="3072"/>
                    <a:pt x="1013" y="3048"/>
                    <a:pt x="1012" y="3046"/>
                  </a:cubicBezTo>
                  <a:cubicBezTo>
                    <a:pt x="982" y="3014"/>
                    <a:pt x="948" y="3000"/>
                    <a:pt x="906" y="2995"/>
                  </a:cubicBezTo>
                  <a:cubicBezTo>
                    <a:pt x="878" y="2983"/>
                    <a:pt x="892" y="2988"/>
                    <a:pt x="865" y="2983"/>
                  </a:cubicBezTo>
                  <a:cubicBezTo>
                    <a:pt x="831" y="2968"/>
                    <a:pt x="814" y="2944"/>
                    <a:pt x="787" y="2922"/>
                  </a:cubicBezTo>
                  <a:cubicBezTo>
                    <a:pt x="785" y="2908"/>
                    <a:pt x="772" y="2898"/>
                    <a:pt x="763" y="2886"/>
                  </a:cubicBezTo>
                  <a:lnTo>
                    <a:pt x="800" y="2864"/>
                  </a:lnTo>
                  <a:lnTo>
                    <a:pt x="780" y="2614"/>
                  </a:lnTo>
                  <a:lnTo>
                    <a:pt x="761" y="2267"/>
                  </a:lnTo>
                  <a:lnTo>
                    <a:pt x="772" y="2102"/>
                  </a:lnTo>
                  <a:lnTo>
                    <a:pt x="792" y="1935"/>
                  </a:lnTo>
                  <a:lnTo>
                    <a:pt x="780" y="1660"/>
                  </a:lnTo>
                  <a:lnTo>
                    <a:pt x="817" y="1646"/>
                  </a:lnTo>
                  <a:lnTo>
                    <a:pt x="767" y="1289"/>
                  </a:lnTo>
                  <a:lnTo>
                    <a:pt x="756" y="1179"/>
                  </a:lnTo>
                  <a:cubicBezTo>
                    <a:pt x="780" y="1182"/>
                    <a:pt x="804" y="1182"/>
                    <a:pt x="829" y="1187"/>
                  </a:cubicBezTo>
                  <a:cubicBezTo>
                    <a:pt x="846" y="1189"/>
                    <a:pt x="861" y="1213"/>
                    <a:pt x="878" y="1221"/>
                  </a:cubicBezTo>
                  <a:cubicBezTo>
                    <a:pt x="895" y="1228"/>
                    <a:pt x="916" y="1230"/>
                    <a:pt x="933" y="1236"/>
                  </a:cubicBezTo>
                  <a:cubicBezTo>
                    <a:pt x="955" y="1242"/>
                    <a:pt x="960" y="1258"/>
                    <a:pt x="974" y="1270"/>
                  </a:cubicBezTo>
                  <a:cubicBezTo>
                    <a:pt x="982" y="1277"/>
                    <a:pt x="999" y="1284"/>
                    <a:pt x="999" y="1284"/>
                  </a:cubicBezTo>
                  <a:cubicBezTo>
                    <a:pt x="1018" y="1310"/>
                    <a:pt x="1071" y="1315"/>
                    <a:pt x="1101" y="1333"/>
                  </a:cubicBezTo>
                  <a:cubicBezTo>
                    <a:pt x="1113" y="1347"/>
                    <a:pt x="1126" y="1352"/>
                    <a:pt x="1145" y="1356"/>
                  </a:cubicBezTo>
                  <a:cubicBezTo>
                    <a:pt x="1178" y="1352"/>
                    <a:pt x="1172" y="1334"/>
                    <a:pt x="1205" y="1330"/>
                  </a:cubicBezTo>
                  <a:cubicBezTo>
                    <a:pt x="1215" y="1317"/>
                    <a:pt x="1213" y="1308"/>
                    <a:pt x="1230" y="1305"/>
                  </a:cubicBezTo>
                  <a:cubicBezTo>
                    <a:pt x="1259" y="1267"/>
                    <a:pt x="1244" y="1267"/>
                    <a:pt x="1298" y="1258"/>
                  </a:cubicBezTo>
                  <a:cubicBezTo>
                    <a:pt x="1305" y="1255"/>
                    <a:pt x="1332" y="1236"/>
                    <a:pt x="1332" y="1236"/>
                  </a:cubicBezTo>
                  <a:lnTo>
                    <a:pt x="1427" y="1174"/>
                  </a:lnTo>
                  <a:cubicBezTo>
                    <a:pt x="1437" y="1162"/>
                    <a:pt x="1444" y="1146"/>
                    <a:pt x="1455" y="1136"/>
                  </a:cubicBezTo>
                  <a:cubicBezTo>
                    <a:pt x="1465" y="1127"/>
                    <a:pt x="1492" y="1116"/>
                    <a:pt x="1492" y="1116"/>
                  </a:cubicBezTo>
                  <a:cubicBezTo>
                    <a:pt x="1519" y="1121"/>
                    <a:pt x="1502" y="1187"/>
                    <a:pt x="1492" y="1208"/>
                  </a:cubicBezTo>
                  <a:cubicBezTo>
                    <a:pt x="1487" y="1253"/>
                    <a:pt x="1480" y="1292"/>
                    <a:pt x="1463" y="1333"/>
                  </a:cubicBezTo>
                  <a:cubicBezTo>
                    <a:pt x="1458" y="1362"/>
                    <a:pt x="1449" y="1389"/>
                    <a:pt x="1439" y="1418"/>
                  </a:cubicBezTo>
                  <a:cubicBezTo>
                    <a:pt x="1437" y="1470"/>
                    <a:pt x="1422" y="1522"/>
                    <a:pt x="1408" y="1573"/>
                  </a:cubicBezTo>
                  <a:cubicBezTo>
                    <a:pt x="1405" y="1594"/>
                    <a:pt x="1397" y="1614"/>
                    <a:pt x="1395" y="1636"/>
                  </a:cubicBezTo>
                  <a:cubicBezTo>
                    <a:pt x="1392" y="1663"/>
                    <a:pt x="1388" y="1695"/>
                    <a:pt x="1388" y="1720"/>
                  </a:cubicBezTo>
                  <a:lnTo>
                    <a:pt x="1460" y="1730"/>
                  </a:lnTo>
                  <a:lnTo>
                    <a:pt x="1485" y="1697"/>
                  </a:lnTo>
                  <a:lnTo>
                    <a:pt x="1553" y="1713"/>
                  </a:lnTo>
                  <a:lnTo>
                    <a:pt x="1561" y="1878"/>
                  </a:lnTo>
                  <a:lnTo>
                    <a:pt x="1601" y="2261"/>
                  </a:lnTo>
                  <a:lnTo>
                    <a:pt x="1655" y="2526"/>
                  </a:lnTo>
                  <a:lnTo>
                    <a:pt x="1675" y="2820"/>
                  </a:lnTo>
                  <a:lnTo>
                    <a:pt x="1699" y="2837"/>
                  </a:lnTo>
                  <a:lnTo>
                    <a:pt x="1679" y="2893"/>
                  </a:lnTo>
                  <a:lnTo>
                    <a:pt x="1643" y="2922"/>
                  </a:lnTo>
                  <a:lnTo>
                    <a:pt x="1529" y="2966"/>
                  </a:lnTo>
                  <a:lnTo>
                    <a:pt x="1460" y="2987"/>
                  </a:lnTo>
                  <a:lnTo>
                    <a:pt x="1455" y="3014"/>
                  </a:lnTo>
                  <a:lnTo>
                    <a:pt x="1550" y="3020"/>
                  </a:lnTo>
                  <a:lnTo>
                    <a:pt x="1481" y="3053"/>
                  </a:lnTo>
                  <a:lnTo>
                    <a:pt x="1473" y="3076"/>
                  </a:lnTo>
                  <a:lnTo>
                    <a:pt x="1606" y="3076"/>
                  </a:lnTo>
                  <a:lnTo>
                    <a:pt x="1707" y="3078"/>
                  </a:lnTo>
                  <a:lnTo>
                    <a:pt x="1818" y="3041"/>
                  </a:lnTo>
                  <a:lnTo>
                    <a:pt x="1819" y="3076"/>
                  </a:lnTo>
                  <a:lnTo>
                    <a:pt x="1947" y="3078"/>
                  </a:lnTo>
                  <a:lnTo>
                    <a:pt x="1946" y="2996"/>
                  </a:lnTo>
                  <a:lnTo>
                    <a:pt x="1930" y="2922"/>
                  </a:lnTo>
                  <a:lnTo>
                    <a:pt x="1954" y="2905"/>
                  </a:lnTo>
                  <a:lnTo>
                    <a:pt x="1959" y="2767"/>
                  </a:lnTo>
                  <a:lnTo>
                    <a:pt x="1966" y="2521"/>
                  </a:lnTo>
                  <a:lnTo>
                    <a:pt x="1954" y="2150"/>
                  </a:lnTo>
                  <a:lnTo>
                    <a:pt x="1961" y="2029"/>
                  </a:lnTo>
                  <a:lnTo>
                    <a:pt x="1974" y="1750"/>
                  </a:lnTo>
                  <a:lnTo>
                    <a:pt x="1966" y="1624"/>
                  </a:lnTo>
                  <a:lnTo>
                    <a:pt x="2039" y="1596"/>
                  </a:lnTo>
                  <a:lnTo>
                    <a:pt x="2027" y="1488"/>
                  </a:lnTo>
                  <a:lnTo>
                    <a:pt x="2019" y="1463"/>
                  </a:lnTo>
                  <a:lnTo>
                    <a:pt x="2068" y="1415"/>
                  </a:lnTo>
                  <a:lnTo>
                    <a:pt x="2139" y="1362"/>
                  </a:lnTo>
                  <a:cubicBezTo>
                    <a:pt x="2153" y="1337"/>
                    <a:pt x="2175" y="1315"/>
                    <a:pt x="2185" y="1289"/>
                  </a:cubicBezTo>
                  <a:cubicBezTo>
                    <a:pt x="2187" y="1236"/>
                    <a:pt x="2185" y="1201"/>
                    <a:pt x="2205" y="1156"/>
                  </a:cubicBezTo>
                  <a:cubicBezTo>
                    <a:pt x="2202" y="1099"/>
                    <a:pt x="2187" y="1023"/>
                    <a:pt x="2209" y="971"/>
                  </a:cubicBezTo>
                  <a:cubicBezTo>
                    <a:pt x="2206" y="942"/>
                    <a:pt x="2214" y="914"/>
                    <a:pt x="2187" y="900"/>
                  </a:cubicBezTo>
                  <a:cubicBezTo>
                    <a:pt x="2192" y="884"/>
                    <a:pt x="2194" y="872"/>
                    <a:pt x="2205" y="857"/>
                  </a:cubicBezTo>
                  <a:cubicBezTo>
                    <a:pt x="2200" y="845"/>
                    <a:pt x="2192" y="820"/>
                    <a:pt x="2192" y="820"/>
                  </a:cubicBezTo>
                  <a:cubicBezTo>
                    <a:pt x="2189" y="782"/>
                    <a:pt x="2185" y="731"/>
                    <a:pt x="2185" y="687"/>
                  </a:cubicBezTo>
                  <a:lnTo>
                    <a:pt x="2160" y="668"/>
                  </a:lnTo>
                  <a:lnTo>
                    <a:pt x="2034" y="561"/>
                  </a:lnTo>
                  <a:lnTo>
                    <a:pt x="1996" y="522"/>
                  </a:lnTo>
                  <a:cubicBezTo>
                    <a:pt x="1988" y="502"/>
                    <a:pt x="1976" y="469"/>
                    <a:pt x="1961" y="456"/>
                  </a:cubicBezTo>
                  <a:cubicBezTo>
                    <a:pt x="1957" y="437"/>
                    <a:pt x="1966" y="439"/>
                    <a:pt x="1983" y="433"/>
                  </a:cubicBezTo>
                  <a:cubicBezTo>
                    <a:pt x="1986" y="417"/>
                    <a:pt x="1996" y="403"/>
                    <a:pt x="2003" y="388"/>
                  </a:cubicBezTo>
                  <a:cubicBezTo>
                    <a:pt x="2005" y="369"/>
                    <a:pt x="2003" y="349"/>
                    <a:pt x="2019" y="341"/>
                  </a:cubicBezTo>
                  <a:cubicBezTo>
                    <a:pt x="2036" y="313"/>
                    <a:pt x="2032" y="306"/>
                    <a:pt x="2034" y="267"/>
                  </a:cubicBezTo>
                  <a:cubicBezTo>
                    <a:pt x="2032" y="240"/>
                    <a:pt x="2036" y="248"/>
                    <a:pt x="2021" y="230"/>
                  </a:cubicBezTo>
                  <a:cubicBezTo>
                    <a:pt x="2016" y="226"/>
                    <a:pt x="2010" y="218"/>
                    <a:pt x="2010" y="218"/>
                  </a:cubicBezTo>
                  <a:lnTo>
                    <a:pt x="1971" y="165"/>
                  </a:lnTo>
                  <a:lnTo>
                    <a:pt x="1924" y="146"/>
                  </a:lnTo>
                  <a:lnTo>
                    <a:pt x="1852" y="146"/>
                  </a:lnTo>
                  <a:lnTo>
                    <a:pt x="1821" y="146"/>
                  </a:lnTo>
                  <a:lnTo>
                    <a:pt x="1801" y="129"/>
                  </a:lnTo>
                  <a:lnTo>
                    <a:pt x="1747" y="158"/>
                  </a:lnTo>
                  <a:cubicBezTo>
                    <a:pt x="1732" y="187"/>
                    <a:pt x="1750" y="230"/>
                    <a:pt x="1718" y="238"/>
                  </a:cubicBezTo>
                  <a:cubicBezTo>
                    <a:pt x="1716" y="255"/>
                    <a:pt x="1709" y="269"/>
                    <a:pt x="1694" y="279"/>
                  </a:cubicBezTo>
                  <a:cubicBezTo>
                    <a:pt x="1677" y="308"/>
                    <a:pt x="1696" y="338"/>
                    <a:pt x="1682" y="369"/>
                  </a:cubicBezTo>
                  <a:cubicBezTo>
                    <a:pt x="1679" y="383"/>
                    <a:pt x="1666" y="397"/>
                    <a:pt x="1659" y="409"/>
                  </a:cubicBezTo>
                  <a:cubicBezTo>
                    <a:pt x="1661" y="423"/>
                    <a:pt x="1675" y="427"/>
                    <a:pt x="1682" y="442"/>
                  </a:cubicBezTo>
                  <a:cubicBezTo>
                    <a:pt x="1677" y="467"/>
                    <a:pt x="1687" y="461"/>
                    <a:pt x="1672" y="484"/>
                  </a:cubicBezTo>
                  <a:cubicBezTo>
                    <a:pt x="1679" y="511"/>
                    <a:pt x="1678" y="496"/>
                    <a:pt x="1707" y="514"/>
                  </a:cubicBezTo>
                  <a:cubicBezTo>
                    <a:pt x="1712" y="516"/>
                    <a:pt x="1746" y="524"/>
                    <a:pt x="1735" y="527"/>
                  </a:cubicBezTo>
                  <a:lnTo>
                    <a:pt x="1637" y="546"/>
                  </a:lnTo>
                  <a:lnTo>
                    <a:pt x="1561" y="585"/>
                  </a:lnTo>
                  <a:lnTo>
                    <a:pt x="1509" y="633"/>
                  </a:lnTo>
                  <a:lnTo>
                    <a:pt x="1500" y="674"/>
                  </a:lnTo>
                  <a:lnTo>
                    <a:pt x="1460" y="754"/>
                  </a:lnTo>
                  <a:lnTo>
                    <a:pt x="1425" y="869"/>
                  </a:lnTo>
                  <a:lnTo>
                    <a:pt x="1395" y="922"/>
                  </a:lnTo>
                  <a:lnTo>
                    <a:pt x="1344" y="971"/>
                  </a:lnTo>
                  <a:cubicBezTo>
                    <a:pt x="1333" y="971"/>
                    <a:pt x="1324" y="971"/>
                    <a:pt x="1315" y="973"/>
                  </a:cubicBezTo>
                  <a:cubicBezTo>
                    <a:pt x="1300" y="978"/>
                    <a:pt x="1313" y="1026"/>
                    <a:pt x="1278" y="1034"/>
                  </a:cubicBezTo>
                  <a:cubicBezTo>
                    <a:pt x="1269" y="1053"/>
                    <a:pt x="1274" y="1077"/>
                    <a:pt x="1249" y="1082"/>
                  </a:cubicBezTo>
                  <a:cubicBezTo>
                    <a:pt x="1242" y="1092"/>
                    <a:pt x="1218" y="1107"/>
                    <a:pt x="1218" y="1107"/>
                  </a:cubicBezTo>
                  <a:cubicBezTo>
                    <a:pt x="1210" y="1121"/>
                    <a:pt x="1207" y="1129"/>
                    <a:pt x="1193" y="1136"/>
                  </a:cubicBezTo>
                  <a:cubicBezTo>
                    <a:pt x="1183" y="1150"/>
                    <a:pt x="1181" y="1156"/>
                    <a:pt x="1164" y="1149"/>
                  </a:cubicBezTo>
                  <a:cubicBezTo>
                    <a:pt x="1155" y="1133"/>
                    <a:pt x="1147" y="1132"/>
                    <a:pt x="1133" y="1124"/>
                  </a:cubicBezTo>
                  <a:cubicBezTo>
                    <a:pt x="1084" y="1136"/>
                    <a:pt x="1104" y="1112"/>
                    <a:pt x="1076" y="1107"/>
                  </a:cubicBezTo>
                  <a:cubicBezTo>
                    <a:pt x="1059" y="1104"/>
                    <a:pt x="1045" y="1104"/>
                    <a:pt x="1029" y="1104"/>
                  </a:cubicBezTo>
                  <a:lnTo>
                    <a:pt x="950" y="1034"/>
                  </a:lnTo>
                  <a:lnTo>
                    <a:pt x="846" y="971"/>
                  </a:lnTo>
                  <a:lnTo>
                    <a:pt x="800" y="910"/>
                  </a:lnTo>
                  <a:lnTo>
                    <a:pt x="780" y="881"/>
                  </a:lnTo>
                  <a:lnTo>
                    <a:pt x="761" y="850"/>
                  </a:lnTo>
                  <a:lnTo>
                    <a:pt x="727" y="743"/>
                  </a:lnTo>
                  <a:lnTo>
                    <a:pt x="683" y="655"/>
                  </a:lnTo>
                  <a:lnTo>
                    <a:pt x="632" y="585"/>
                  </a:lnTo>
                  <a:lnTo>
                    <a:pt x="608" y="561"/>
                  </a:lnTo>
                  <a:lnTo>
                    <a:pt x="596" y="509"/>
                  </a:lnTo>
                  <a:lnTo>
                    <a:pt x="522" y="442"/>
                  </a:lnTo>
                  <a:lnTo>
                    <a:pt x="608" y="450"/>
                  </a:lnTo>
                  <a:cubicBezTo>
                    <a:pt x="649" y="445"/>
                    <a:pt x="666" y="447"/>
                    <a:pt x="651" y="408"/>
                  </a:cubicBezTo>
                  <a:cubicBezTo>
                    <a:pt x="658" y="393"/>
                    <a:pt x="673" y="393"/>
                    <a:pt x="671" y="381"/>
                  </a:cubicBezTo>
                  <a:cubicBezTo>
                    <a:pt x="649" y="371"/>
                    <a:pt x="658" y="366"/>
                    <a:pt x="683" y="358"/>
                  </a:cubicBezTo>
                  <a:cubicBezTo>
                    <a:pt x="680" y="330"/>
                    <a:pt x="673" y="323"/>
                    <a:pt x="705" y="321"/>
                  </a:cubicBezTo>
                  <a:cubicBezTo>
                    <a:pt x="712" y="319"/>
                    <a:pt x="747" y="306"/>
                    <a:pt x="727" y="2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080" y="80640"/>
              <a:ext cx="15840" cy="3996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0" y="20"/>
                  </a:moveTo>
                  <a:cubicBezTo>
                    <a:pt x="2" y="13"/>
                    <a:pt x="7" y="0"/>
                    <a:pt x="7" y="0"/>
                  </a:cubicBezTo>
                  <a:cubicBezTo>
                    <a:pt x="7" y="0"/>
                    <a:pt x="2" y="13"/>
                    <a:pt x="0" y="2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1d2"/>
                </a:gs>
                <a:gs pos="100000">
                  <a:srgbClr val="42ad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5760" bIns="-576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193680" y="205560"/>
              <a:ext cx="335160" cy="354600"/>
              <a:chOff x="193680" y="205560"/>
              <a:chExt cx="335160" cy="354600"/>
            </a:xfrm>
          </p:grpSpPr>
          <p:sp>
            <p:nvSpPr>
              <p:cNvPr id="13" name=""/>
              <p:cNvSpPr/>
              <p:nvPr/>
            </p:nvSpPr>
            <p:spPr>
              <a:xfrm rot="20961000">
                <a:off x="306360" y="209880"/>
                <a:ext cx="51840" cy="48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rot="20961000">
                <a:off x="256680" y="354600"/>
                <a:ext cx="73080" cy="6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rot="20961000">
                <a:off x="380880" y="278640"/>
                <a:ext cx="54360" cy="51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rot="20961000">
                <a:off x="306360" y="520560"/>
                <a:ext cx="38160" cy="3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00240" y="423360"/>
                <a:ext cx="18360" cy="98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V="1">
                <a:off x="315720" y="320040"/>
                <a:ext cx="75600" cy="3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 flipV="1">
                <a:off x="347400" y="247680"/>
                <a:ext cx="39600" cy="37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20961000">
                <a:off x="463320" y="228960"/>
                <a:ext cx="38160" cy="3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20961000">
                <a:off x="437400" y="375840"/>
                <a:ext cx="43920" cy="4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23720" y="328320"/>
                <a:ext cx="24840" cy="59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V="1">
                <a:off x="433080" y="247680"/>
                <a:ext cx="33480" cy="41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20961000">
                <a:off x="196560" y="312120"/>
                <a:ext cx="38160" cy="3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21400" y="343800"/>
                <a:ext cx="37800" cy="25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flipH="1">
                <a:off x="394560" y="407520"/>
                <a:ext cx="55440" cy="27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20961000">
                <a:off x="369000" y="420840"/>
                <a:ext cx="38160" cy="3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475200" y="410400"/>
                <a:ext cx="15840" cy="1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20961000">
                <a:off x="487440" y="425160"/>
                <a:ext cx="38160" cy="3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sp>
          <p:nvSpPr>
            <p:cNvPr id="30" name=""/>
            <p:cNvSpPr/>
            <p:nvPr/>
          </p:nvSpPr>
          <p:spPr>
            <a:xfrm>
              <a:off x="507240" y="469440"/>
              <a:ext cx="165960" cy="441360"/>
            </a:xfrm>
            <a:custGeom>
              <a:avLst/>
              <a:gdLst/>
              <a:ahLst/>
              <a:rect l="l" t="t" r="r" b="b"/>
              <a:pathLst>
                <a:path w="1241" h="3280">
                  <a:moveTo>
                    <a:pt x="606" y="43"/>
                  </a:moveTo>
                  <a:cubicBezTo>
                    <a:pt x="589" y="33"/>
                    <a:pt x="575" y="7"/>
                    <a:pt x="543" y="7"/>
                  </a:cubicBezTo>
                  <a:cubicBezTo>
                    <a:pt x="500" y="0"/>
                    <a:pt x="448" y="29"/>
                    <a:pt x="416" y="45"/>
                  </a:cubicBezTo>
                  <a:cubicBezTo>
                    <a:pt x="385" y="68"/>
                    <a:pt x="364" y="116"/>
                    <a:pt x="356" y="148"/>
                  </a:cubicBezTo>
                  <a:cubicBezTo>
                    <a:pt x="348" y="180"/>
                    <a:pt x="369" y="216"/>
                    <a:pt x="368" y="240"/>
                  </a:cubicBezTo>
                  <a:cubicBezTo>
                    <a:pt x="369" y="263"/>
                    <a:pt x="359" y="272"/>
                    <a:pt x="363" y="289"/>
                  </a:cubicBezTo>
                  <a:cubicBezTo>
                    <a:pt x="368" y="306"/>
                    <a:pt x="379" y="326"/>
                    <a:pt x="393" y="343"/>
                  </a:cubicBezTo>
                  <a:lnTo>
                    <a:pt x="414" y="355"/>
                  </a:lnTo>
                  <a:lnTo>
                    <a:pt x="435" y="397"/>
                  </a:lnTo>
                  <a:lnTo>
                    <a:pt x="443" y="418"/>
                  </a:lnTo>
                  <a:lnTo>
                    <a:pt x="446" y="448"/>
                  </a:lnTo>
                  <a:lnTo>
                    <a:pt x="393" y="496"/>
                  </a:lnTo>
                  <a:lnTo>
                    <a:pt x="261" y="565"/>
                  </a:lnTo>
                  <a:cubicBezTo>
                    <a:pt x="222" y="587"/>
                    <a:pt x="178" y="611"/>
                    <a:pt x="159" y="631"/>
                  </a:cubicBezTo>
                  <a:cubicBezTo>
                    <a:pt x="152" y="659"/>
                    <a:pt x="146" y="688"/>
                    <a:pt x="146" y="688"/>
                  </a:cubicBezTo>
                  <a:lnTo>
                    <a:pt x="134" y="750"/>
                  </a:lnTo>
                  <a:lnTo>
                    <a:pt x="111" y="823"/>
                  </a:lnTo>
                  <a:lnTo>
                    <a:pt x="110" y="865"/>
                  </a:lnTo>
                  <a:lnTo>
                    <a:pt x="59" y="930"/>
                  </a:lnTo>
                  <a:lnTo>
                    <a:pt x="42" y="1006"/>
                  </a:lnTo>
                  <a:cubicBezTo>
                    <a:pt x="24" y="1059"/>
                    <a:pt x="8" y="1154"/>
                    <a:pt x="0" y="1218"/>
                  </a:cubicBezTo>
                  <a:lnTo>
                    <a:pt x="15" y="1399"/>
                  </a:lnTo>
                  <a:lnTo>
                    <a:pt x="14" y="1531"/>
                  </a:lnTo>
                  <a:cubicBezTo>
                    <a:pt x="18" y="1567"/>
                    <a:pt x="26" y="1620"/>
                    <a:pt x="41" y="1617"/>
                  </a:cubicBezTo>
                  <a:cubicBezTo>
                    <a:pt x="56" y="1614"/>
                    <a:pt x="55" y="1564"/>
                    <a:pt x="62" y="1560"/>
                  </a:cubicBezTo>
                  <a:cubicBezTo>
                    <a:pt x="68" y="1557"/>
                    <a:pt x="69" y="1597"/>
                    <a:pt x="75" y="1599"/>
                  </a:cubicBezTo>
                  <a:cubicBezTo>
                    <a:pt x="83" y="1603"/>
                    <a:pt x="93" y="1572"/>
                    <a:pt x="98" y="1570"/>
                  </a:cubicBezTo>
                  <a:cubicBezTo>
                    <a:pt x="103" y="1568"/>
                    <a:pt x="103" y="1585"/>
                    <a:pt x="107" y="1585"/>
                  </a:cubicBezTo>
                  <a:cubicBezTo>
                    <a:pt x="111" y="1585"/>
                    <a:pt x="118" y="1583"/>
                    <a:pt x="125" y="1569"/>
                  </a:cubicBezTo>
                  <a:lnTo>
                    <a:pt x="147" y="1501"/>
                  </a:lnTo>
                  <a:lnTo>
                    <a:pt x="159" y="1399"/>
                  </a:lnTo>
                  <a:lnTo>
                    <a:pt x="207" y="1303"/>
                  </a:lnTo>
                  <a:lnTo>
                    <a:pt x="207" y="1207"/>
                  </a:lnTo>
                  <a:lnTo>
                    <a:pt x="260" y="1122"/>
                  </a:lnTo>
                  <a:lnTo>
                    <a:pt x="258" y="1041"/>
                  </a:lnTo>
                  <a:lnTo>
                    <a:pt x="284" y="997"/>
                  </a:lnTo>
                  <a:lnTo>
                    <a:pt x="314" y="1212"/>
                  </a:lnTo>
                  <a:lnTo>
                    <a:pt x="306" y="1332"/>
                  </a:lnTo>
                  <a:lnTo>
                    <a:pt x="269" y="1500"/>
                  </a:lnTo>
                  <a:lnTo>
                    <a:pt x="270" y="1558"/>
                  </a:lnTo>
                  <a:lnTo>
                    <a:pt x="225" y="1804"/>
                  </a:lnTo>
                  <a:lnTo>
                    <a:pt x="314" y="1815"/>
                  </a:lnTo>
                  <a:lnTo>
                    <a:pt x="320" y="1905"/>
                  </a:lnTo>
                  <a:lnTo>
                    <a:pt x="336" y="1932"/>
                  </a:lnTo>
                  <a:cubicBezTo>
                    <a:pt x="336" y="1932"/>
                    <a:pt x="350" y="2065"/>
                    <a:pt x="365" y="2199"/>
                  </a:cubicBezTo>
                  <a:cubicBezTo>
                    <a:pt x="393" y="2347"/>
                    <a:pt x="387" y="2329"/>
                    <a:pt x="423" y="2401"/>
                  </a:cubicBezTo>
                  <a:cubicBezTo>
                    <a:pt x="416" y="2451"/>
                    <a:pt x="425" y="2451"/>
                    <a:pt x="428" y="2523"/>
                  </a:cubicBezTo>
                  <a:cubicBezTo>
                    <a:pt x="437" y="2646"/>
                    <a:pt x="459" y="2717"/>
                    <a:pt x="462" y="2778"/>
                  </a:cubicBezTo>
                  <a:cubicBezTo>
                    <a:pt x="470" y="2844"/>
                    <a:pt x="467" y="2867"/>
                    <a:pt x="474" y="2920"/>
                  </a:cubicBezTo>
                  <a:cubicBezTo>
                    <a:pt x="488" y="3006"/>
                    <a:pt x="495" y="3062"/>
                    <a:pt x="501" y="3094"/>
                  </a:cubicBezTo>
                  <a:lnTo>
                    <a:pt x="521" y="3094"/>
                  </a:lnTo>
                  <a:lnTo>
                    <a:pt x="492" y="3127"/>
                  </a:lnTo>
                  <a:lnTo>
                    <a:pt x="467" y="3214"/>
                  </a:lnTo>
                  <a:cubicBezTo>
                    <a:pt x="473" y="3235"/>
                    <a:pt x="497" y="3253"/>
                    <a:pt x="530" y="3256"/>
                  </a:cubicBezTo>
                  <a:cubicBezTo>
                    <a:pt x="606" y="3256"/>
                    <a:pt x="647" y="3251"/>
                    <a:pt x="665" y="3229"/>
                  </a:cubicBezTo>
                  <a:lnTo>
                    <a:pt x="665" y="3141"/>
                  </a:lnTo>
                  <a:lnTo>
                    <a:pt x="696" y="3108"/>
                  </a:lnTo>
                  <a:lnTo>
                    <a:pt x="710" y="3049"/>
                  </a:lnTo>
                  <a:lnTo>
                    <a:pt x="648" y="2791"/>
                  </a:lnTo>
                  <a:lnTo>
                    <a:pt x="657" y="2688"/>
                  </a:lnTo>
                  <a:lnTo>
                    <a:pt x="675" y="2622"/>
                  </a:lnTo>
                  <a:lnTo>
                    <a:pt x="687" y="2455"/>
                  </a:lnTo>
                  <a:lnTo>
                    <a:pt x="687" y="2263"/>
                  </a:lnTo>
                  <a:lnTo>
                    <a:pt x="683" y="2068"/>
                  </a:lnTo>
                  <a:lnTo>
                    <a:pt x="675" y="1926"/>
                  </a:lnTo>
                  <a:lnTo>
                    <a:pt x="686" y="1854"/>
                  </a:lnTo>
                  <a:lnTo>
                    <a:pt x="713" y="2025"/>
                  </a:lnTo>
                  <a:lnTo>
                    <a:pt x="713" y="2164"/>
                  </a:lnTo>
                  <a:lnTo>
                    <a:pt x="735" y="2359"/>
                  </a:lnTo>
                  <a:lnTo>
                    <a:pt x="722" y="2548"/>
                  </a:lnTo>
                  <a:lnTo>
                    <a:pt x="725" y="2836"/>
                  </a:lnTo>
                  <a:lnTo>
                    <a:pt x="728" y="3078"/>
                  </a:lnTo>
                  <a:lnTo>
                    <a:pt x="737" y="3166"/>
                  </a:lnTo>
                  <a:lnTo>
                    <a:pt x="738" y="3207"/>
                  </a:lnTo>
                  <a:lnTo>
                    <a:pt x="749" y="3252"/>
                  </a:lnTo>
                  <a:lnTo>
                    <a:pt x="797" y="3255"/>
                  </a:lnTo>
                  <a:lnTo>
                    <a:pt x="804" y="3277"/>
                  </a:lnTo>
                  <a:cubicBezTo>
                    <a:pt x="834" y="3280"/>
                    <a:pt x="881" y="3277"/>
                    <a:pt x="978" y="3276"/>
                  </a:cubicBezTo>
                  <a:cubicBezTo>
                    <a:pt x="999" y="3264"/>
                    <a:pt x="995" y="3232"/>
                    <a:pt x="995" y="3232"/>
                  </a:cubicBezTo>
                  <a:lnTo>
                    <a:pt x="918" y="3151"/>
                  </a:lnTo>
                  <a:lnTo>
                    <a:pt x="899" y="3099"/>
                  </a:lnTo>
                  <a:lnTo>
                    <a:pt x="965" y="3108"/>
                  </a:lnTo>
                  <a:lnTo>
                    <a:pt x="989" y="2794"/>
                  </a:lnTo>
                  <a:lnTo>
                    <a:pt x="987" y="2605"/>
                  </a:lnTo>
                  <a:lnTo>
                    <a:pt x="978" y="2428"/>
                  </a:lnTo>
                  <a:lnTo>
                    <a:pt x="1037" y="2418"/>
                  </a:lnTo>
                  <a:lnTo>
                    <a:pt x="1149" y="2429"/>
                  </a:lnTo>
                  <a:lnTo>
                    <a:pt x="1209" y="2361"/>
                  </a:lnTo>
                  <a:lnTo>
                    <a:pt x="1229" y="2169"/>
                  </a:lnTo>
                  <a:lnTo>
                    <a:pt x="1241" y="2023"/>
                  </a:lnTo>
                  <a:lnTo>
                    <a:pt x="1217" y="1815"/>
                  </a:lnTo>
                  <a:lnTo>
                    <a:pt x="1147" y="1809"/>
                  </a:lnTo>
                  <a:cubicBezTo>
                    <a:pt x="1132" y="1804"/>
                    <a:pt x="1125" y="1791"/>
                    <a:pt x="1125" y="1783"/>
                  </a:cubicBezTo>
                  <a:cubicBezTo>
                    <a:pt x="1125" y="1774"/>
                    <a:pt x="1143" y="1769"/>
                    <a:pt x="1149" y="1762"/>
                  </a:cubicBezTo>
                  <a:cubicBezTo>
                    <a:pt x="1155" y="1755"/>
                    <a:pt x="1165" y="1769"/>
                    <a:pt x="1160" y="1741"/>
                  </a:cubicBezTo>
                  <a:cubicBezTo>
                    <a:pt x="1139" y="1666"/>
                    <a:pt x="1102" y="1687"/>
                    <a:pt x="1095" y="1630"/>
                  </a:cubicBezTo>
                  <a:lnTo>
                    <a:pt x="1122" y="1624"/>
                  </a:lnTo>
                  <a:lnTo>
                    <a:pt x="1118" y="1482"/>
                  </a:lnTo>
                  <a:cubicBezTo>
                    <a:pt x="1108" y="1353"/>
                    <a:pt x="1083" y="1003"/>
                    <a:pt x="1059" y="847"/>
                  </a:cubicBezTo>
                  <a:cubicBezTo>
                    <a:pt x="1035" y="727"/>
                    <a:pt x="1002" y="666"/>
                    <a:pt x="974" y="546"/>
                  </a:cubicBezTo>
                  <a:cubicBezTo>
                    <a:pt x="926" y="516"/>
                    <a:pt x="827" y="498"/>
                    <a:pt x="779" y="480"/>
                  </a:cubicBezTo>
                  <a:lnTo>
                    <a:pt x="698" y="459"/>
                  </a:lnTo>
                  <a:lnTo>
                    <a:pt x="642" y="409"/>
                  </a:lnTo>
                  <a:lnTo>
                    <a:pt x="642" y="343"/>
                  </a:lnTo>
                  <a:lnTo>
                    <a:pt x="656" y="316"/>
                  </a:lnTo>
                  <a:cubicBezTo>
                    <a:pt x="664" y="305"/>
                    <a:pt x="687" y="292"/>
                    <a:pt x="689" y="274"/>
                  </a:cubicBezTo>
                  <a:cubicBezTo>
                    <a:pt x="694" y="238"/>
                    <a:pt x="684" y="214"/>
                    <a:pt x="669" y="208"/>
                  </a:cubicBezTo>
                  <a:cubicBezTo>
                    <a:pt x="665" y="130"/>
                    <a:pt x="657" y="102"/>
                    <a:pt x="644" y="69"/>
                  </a:cubicBezTo>
                  <a:lnTo>
                    <a:pt x="606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5240" y="281520"/>
              <a:ext cx="630000" cy="628200"/>
            </a:xfrm>
            <a:custGeom>
              <a:avLst/>
              <a:gdLst/>
              <a:ahLst/>
              <a:rect l="l" t="t" r="r" b="b"/>
              <a:pathLst>
                <a:path w="1265" h="1108">
                  <a:moveTo>
                    <a:pt x="1040" y="4"/>
                  </a:moveTo>
                  <a:cubicBezTo>
                    <a:pt x="1037" y="0"/>
                    <a:pt x="1026" y="21"/>
                    <a:pt x="1020" y="21"/>
                  </a:cubicBezTo>
                  <a:lnTo>
                    <a:pt x="1004" y="4"/>
                  </a:lnTo>
                  <a:lnTo>
                    <a:pt x="978" y="12"/>
                  </a:lnTo>
                  <a:lnTo>
                    <a:pt x="960" y="12"/>
                  </a:lnTo>
                  <a:lnTo>
                    <a:pt x="949" y="4"/>
                  </a:lnTo>
                  <a:lnTo>
                    <a:pt x="914" y="6"/>
                  </a:lnTo>
                  <a:lnTo>
                    <a:pt x="868" y="12"/>
                  </a:lnTo>
                  <a:lnTo>
                    <a:pt x="852" y="28"/>
                  </a:lnTo>
                  <a:lnTo>
                    <a:pt x="813" y="54"/>
                  </a:lnTo>
                  <a:lnTo>
                    <a:pt x="820" y="67"/>
                  </a:lnTo>
                  <a:lnTo>
                    <a:pt x="818" y="80"/>
                  </a:lnTo>
                  <a:lnTo>
                    <a:pt x="827" y="113"/>
                  </a:lnTo>
                  <a:lnTo>
                    <a:pt x="827" y="141"/>
                  </a:lnTo>
                  <a:lnTo>
                    <a:pt x="834" y="170"/>
                  </a:lnTo>
                  <a:lnTo>
                    <a:pt x="848" y="204"/>
                  </a:lnTo>
                  <a:lnTo>
                    <a:pt x="850" y="220"/>
                  </a:lnTo>
                  <a:lnTo>
                    <a:pt x="857" y="242"/>
                  </a:lnTo>
                  <a:lnTo>
                    <a:pt x="859" y="255"/>
                  </a:lnTo>
                  <a:lnTo>
                    <a:pt x="845" y="270"/>
                  </a:lnTo>
                  <a:lnTo>
                    <a:pt x="788" y="287"/>
                  </a:lnTo>
                  <a:lnTo>
                    <a:pt x="751" y="303"/>
                  </a:lnTo>
                  <a:cubicBezTo>
                    <a:pt x="740" y="307"/>
                    <a:pt x="724" y="308"/>
                    <a:pt x="717" y="314"/>
                  </a:cubicBezTo>
                  <a:cubicBezTo>
                    <a:pt x="710" y="319"/>
                    <a:pt x="708" y="330"/>
                    <a:pt x="708" y="340"/>
                  </a:cubicBezTo>
                  <a:lnTo>
                    <a:pt x="712" y="377"/>
                  </a:lnTo>
                  <a:lnTo>
                    <a:pt x="694" y="410"/>
                  </a:lnTo>
                  <a:lnTo>
                    <a:pt x="692" y="425"/>
                  </a:lnTo>
                  <a:lnTo>
                    <a:pt x="676" y="438"/>
                  </a:lnTo>
                  <a:lnTo>
                    <a:pt x="664" y="460"/>
                  </a:lnTo>
                  <a:lnTo>
                    <a:pt x="630" y="486"/>
                  </a:lnTo>
                  <a:lnTo>
                    <a:pt x="618" y="508"/>
                  </a:lnTo>
                  <a:lnTo>
                    <a:pt x="595" y="508"/>
                  </a:lnTo>
                  <a:lnTo>
                    <a:pt x="549" y="495"/>
                  </a:lnTo>
                  <a:lnTo>
                    <a:pt x="524" y="482"/>
                  </a:lnTo>
                  <a:lnTo>
                    <a:pt x="504" y="466"/>
                  </a:lnTo>
                  <a:lnTo>
                    <a:pt x="485" y="455"/>
                  </a:lnTo>
                  <a:lnTo>
                    <a:pt x="465" y="429"/>
                  </a:lnTo>
                  <a:lnTo>
                    <a:pt x="442" y="414"/>
                  </a:lnTo>
                  <a:lnTo>
                    <a:pt x="400" y="414"/>
                  </a:lnTo>
                  <a:lnTo>
                    <a:pt x="357" y="423"/>
                  </a:lnTo>
                  <a:lnTo>
                    <a:pt x="293" y="407"/>
                  </a:lnTo>
                  <a:lnTo>
                    <a:pt x="0" y="291"/>
                  </a:lnTo>
                  <a:lnTo>
                    <a:pt x="0" y="271"/>
                  </a:lnTo>
                  <a:lnTo>
                    <a:pt x="345" y="445"/>
                  </a:lnTo>
                  <a:lnTo>
                    <a:pt x="352" y="464"/>
                  </a:lnTo>
                  <a:lnTo>
                    <a:pt x="380" y="495"/>
                  </a:lnTo>
                  <a:lnTo>
                    <a:pt x="449" y="521"/>
                  </a:lnTo>
                  <a:lnTo>
                    <a:pt x="439" y="532"/>
                  </a:lnTo>
                  <a:lnTo>
                    <a:pt x="444" y="547"/>
                  </a:lnTo>
                  <a:lnTo>
                    <a:pt x="460" y="578"/>
                  </a:lnTo>
                  <a:lnTo>
                    <a:pt x="465" y="599"/>
                  </a:lnTo>
                  <a:lnTo>
                    <a:pt x="488" y="602"/>
                  </a:lnTo>
                  <a:lnTo>
                    <a:pt x="568" y="645"/>
                  </a:lnTo>
                  <a:lnTo>
                    <a:pt x="607" y="654"/>
                  </a:lnTo>
                  <a:lnTo>
                    <a:pt x="641" y="643"/>
                  </a:lnTo>
                  <a:lnTo>
                    <a:pt x="680" y="621"/>
                  </a:lnTo>
                  <a:lnTo>
                    <a:pt x="701" y="610"/>
                  </a:lnTo>
                  <a:lnTo>
                    <a:pt x="726" y="602"/>
                  </a:lnTo>
                  <a:lnTo>
                    <a:pt x="726" y="582"/>
                  </a:lnTo>
                  <a:lnTo>
                    <a:pt x="747" y="569"/>
                  </a:lnTo>
                  <a:lnTo>
                    <a:pt x="754" y="556"/>
                  </a:lnTo>
                  <a:lnTo>
                    <a:pt x="772" y="534"/>
                  </a:lnTo>
                  <a:lnTo>
                    <a:pt x="788" y="538"/>
                  </a:lnTo>
                  <a:lnTo>
                    <a:pt x="790" y="551"/>
                  </a:lnTo>
                  <a:lnTo>
                    <a:pt x="763" y="551"/>
                  </a:lnTo>
                  <a:lnTo>
                    <a:pt x="751" y="560"/>
                  </a:lnTo>
                  <a:lnTo>
                    <a:pt x="790" y="571"/>
                  </a:lnTo>
                  <a:lnTo>
                    <a:pt x="793" y="591"/>
                  </a:lnTo>
                  <a:lnTo>
                    <a:pt x="793" y="613"/>
                  </a:lnTo>
                  <a:lnTo>
                    <a:pt x="779" y="632"/>
                  </a:lnTo>
                  <a:lnTo>
                    <a:pt x="772" y="665"/>
                  </a:lnTo>
                  <a:lnTo>
                    <a:pt x="770" y="689"/>
                  </a:lnTo>
                  <a:cubicBezTo>
                    <a:pt x="764" y="695"/>
                    <a:pt x="746" y="691"/>
                    <a:pt x="735" y="700"/>
                  </a:cubicBezTo>
                  <a:cubicBezTo>
                    <a:pt x="725" y="709"/>
                    <a:pt x="707" y="729"/>
                    <a:pt x="703" y="741"/>
                  </a:cubicBezTo>
                  <a:lnTo>
                    <a:pt x="712" y="774"/>
                  </a:lnTo>
                  <a:lnTo>
                    <a:pt x="694" y="820"/>
                  </a:lnTo>
                  <a:cubicBezTo>
                    <a:pt x="689" y="832"/>
                    <a:pt x="683" y="840"/>
                    <a:pt x="680" y="848"/>
                  </a:cubicBezTo>
                  <a:cubicBezTo>
                    <a:pt x="678" y="857"/>
                    <a:pt x="681" y="866"/>
                    <a:pt x="680" y="874"/>
                  </a:cubicBezTo>
                  <a:lnTo>
                    <a:pt x="676" y="896"/>
                  </a:lnTo>
                  <a:cubicBezTo>
                    <a:pt x="673" y="904"/>
                    <a:pt x="666" y="909"/>
                    <a:pt x="662" y="918"/>
                  </a:cubicBezTo>
                  <a:cubicBezTo>
                    <a:pt x="658" y="927"/>
                    <a:pt x="653" y="941"/>
                    <a:pt x="653" y="951"/>
                  </a:cubicBezTo>
                  <a:lnTo>
                    <a:pt x="657" y="977"/>
                  </a:lnTo>
                  <a:lnTo>
                    <a:pt x="653" y="1012"/>
                  </a:lnTo>
                  <a:cubicBezTo>
                    <a:pt x="650" y="1020"/>
                    <a:pt x="640" y="1018"/>
                    <a:pt x="639" y="1025"/>
                  </a:cubicBezTo>
                  <a:cubicBezTo>
                    <a:pt x="637" y="1032"/>
                    <a:pt x="647" y="1042"/>
                    <a:pt x="644" y="1056"/>
                  </a:cubicBezTo>
                  <a:lnTo>
                    <a:pt x="621" y="1108"/>
                  </a:lnTo>
                  <a:lnTo>
                    <a:pt x="866" y="1108"/>
                  </a:lnTo>
                  <a:lnTo>
                    <a:pt x="891" y="1023"/>
                  </a:lnTo>
                  <a:lnTo>
                    <a:pt x="930" y="990"/>
                  </a:lnTo>
                  <a:lnTo>
                    <a:pt x="974" y="1104"/>
                  </a:lnTo>
                  <a:lnTo>
                    <a:pt x="1217" y="1106"/>
                  </a:lnTo>
                  <a:lnTo>
                    <a:pt x="1201" y="938"/>
                  </a:lnTo>
                  <a:lnTo>
                    <a:pt x="1189" y="922"/>
                  </a:lnTo>
                  <a:lnTo>
                    <a:pt x="1169" y="787"/>
                  </a:lnTo>
                  <a:lnTo>
                    <a:pt x="1150" y="720"/>
                  </a:lnTo>
                  <a:lnTo>
                    <a:pt x="1157" y="700"/>
                  </a:lnTo>
                  <a:lnTo>
                    <a:pt x="1178" y="702"/>
                  </a:lnTo>
                  <a:lnTo>
                    <a:pt x="1212" y="696"/>
                  </a:lnTo>
                  <a:lnTo>
                    <a:pt x="1235" y="696"/>
                  </a:lnTo>
                  <a:cubicBezTo>
                    <a:pt x="1243" y="688"/>
                    <a:pt x="1257" y="662"/>
                    <a:pt x="1260" y="650"/>
                  </a:cubicBezTo>
                  <a:cubicBezTo>
                    <a:pt x="1264" y="637"/>
                    <a:pt x="1260" y="628"/>
                    <a:pt x="1260" y="621"/>
                  </a:cubicBezTo>
                  <a:lnTo>
                    <a:pt x="1265" y="608"/>
                  </a:lnTo>
                  <a:lnTo>
                    <a:pt x="1251" y="543"/>
                  </a:lnTo>
                  <a:lnTo>
                    <a:pt x="1254" y="503"/>
                  </a:lnTo>
                  <a:lnTo>
                    <a:pt x="1265" y="484"/>
                  </a:lnTo>
                  <a:lnTo>
                    <a:pt x="1260" y="466"/>
                  </a:lnTo>
                  <a:cubicBezTo>
                    <a:pt x="1257" y="438"/>
                    <a:pt x="1259" y="343"/>
                    <a:pt x="1247" y="314"/>
                  </a:cubicBezTo>
                  <a:cubicBezTo>
                    <a:pt x="1234" y="284"/>
                    <a:pt x="1205" y="294"/>
                    <a:pt x="1187" y="287"/>
                  </a:cubicBezTo>
                  <a:lnTo>
                    <a:pt x="1134" y="272"/>
                  </a:lnTo>
                  <a:lnTo>
                    <a:pt x="1084" y="255"/>
                  </a:lnTo>
                  <a:lnTo>
                    <a:pt x="1033" y="228"/>
                  </a:lnTo>
                  <a:lnTo>
                    <a:pt x="1045" y="213"/>
                  </a:lnTo>
                  <a:lnTo>
                    <a:pt x="1045" y="200"/>
                  </a:lnTo>
                  <a:lnTo>
                    <a:pt x="1061" y="196"/>
                  </a:lnTo>
                  <a:lnTo>
                    <a:pt x="1068" y="154"/>
                  </a:lnTo>
                  <a:lnTo>
                    <a:pt x="1061" y="119"/>
                  </a:lnTo>
                  <a:lnTo>
                    <a:pt x="1052" y="89"/>
                  </a:lnTo>
                  <a:lnTo>
                    <a:pt x="1052" y="63"/>
                  </a:lnTo>
                  <a:cubicBezTo>
                    <a:pt x="1053" y="55"/>
                    <a:pt x="1063" y="44"/>
                    <a:pt x="1061" y="41"/>
                  </a:cubicBezTo>
                  <a:cubicBezTo>
                    <a:pt x="1059" y="37"/>
                    <a:pt x="1041" y="47"/>
                    <a:pt x="1038" y="41"/>
                  </a:cubicBezTo>
                  <a:cubicBezTo>
                    <a:pt x="1035" y="35"/>
                    <a:pt x="1043" y="7"/>
                    <a:pt x="104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rot="9869400">
              <a:off x="0" y="483480"/>
              <a:ext cx="301320" cy="357840"/>
            </a:xfrm>
            <a:custGeom>
              <a:avLst/>
              <a:gdLst/>
              <a:ahLst/>
              <a:rect l="l" t="t" r="r" b="b"/>
              <a:pathLst>
                <a:path w="284" h="338">
                  <a:moveTo>
                    <a:pt x="196" y="40"/>
                  </a:moveTo>
                  <a:cubicBezTo>
                    <a:pt x="174" y="0"/>
                    <a:pt x="105" y="14"/>
                    <a:pt x="77" y="28"/>
                  </a:cubicBezTo>
                  <a:cubicBezTo>
                    <a:pt x="49" y="41"/>
                    <a:pt x="0" y="87"/>
                    <a:pt x="16" y="127"/>
                  </a:cubicBezTo>
                  <a:lnTo>
                    <a:pt x="29" y="156"/>
                  </a:lnTo>
                  <a:lnTo>
                    <a:pt x="95" y="122"/>
                  </a:lnTo>
                  <a:lnTo>
                    <a:pt x="71" y="6"/>
                  </a:lnTo>
                  <a:lnTo>
                    <a:pt x="125" y="104"/>
                  </a:lnTo>
                  <a:lnTo>
                    <a:pt x="207" y="60"/>
                  </a:lnTo>
                  <a:lnTo>
                    <a:pt x="221" y="80"/>
                  </a:lnTo>
                  <a:lnTo>
                    <a:pt x="39" y="176"/>
                  </a:lnTo>
                  <a:lnTo>
                    <a:pt x="43" y="190"/>
                  </a:lnTo>
                  <a:lnTo>
                    <a:pt x="85" y="263"/>
                  </a:lnTo>
                  <a:cubicBezTo>
                    <a:pt x="110" y="316"/>
                    <a:pt x="173" y="338"/>
                    <a:pt x="221" y="317"/>
                  </a:cubicBezTo>
                  <a:cubicBezTo>
                    <a:pt x="270" y="294"/>
                    <a:pt x="284" y="221"/>
                    <a:pt x="260" y="172"/>
                  </a:cubicBezTo>
                  <a:cubicBezTo>
                    <a:pt x="230" y="107"/>
                    <a:pt x="196" y="40"/>
                    <a:pt x="196" y="4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 flipV="1">
              <a:off x="189360" y="716040"/>
              <a:ext cx="53640" cy="61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26080" y="439920"/>
              <a:ext cx="272520" cy="393120"/>
            </a:xfrm>
            <a:custGeom>
              <a:avLst/>
              <a:gdLst/>
              <a:ahLst/>
              <a:rect l="l" t="t" r="r" b="b"/>
              <a:pathLst>
                <a:path w="481" h="694">
                  <a:moveTo>
                    <a:pt x="31" y="594"/>
                  </a:moveTo>
                  <a:cubicBezTo>
                    <a:pt x="66" y="687"/>
                    <a:pt x="352" y="694"/>
                    <a:pt x="393" y="664"/>
                  </a:cubicBezTo>
                  <a:cubicBezTo>
                    <a:pt x="477" y="532"/>
                    <a:pt x="0" y="345"/>
                    <a:pt x="230" y="264"/>
                  </a:cubicBezTo>
                  <a:cubicBezTo>
                    <a:pt x="460" y="183"/>
                    <a:pt x="433" y="19"/>
                    <a:pt x="481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rcRect l="0" t="0" r="0" b="-23"/>
          <a:stretch/>
        </p:blipFill>
        <p:spPr>
          <a:xfrm>
            <a:off x="0" y="0"/>
            <a:ext cx="6095880" cy="930240"/>
          </a:xfrm>
          <a:prstGeom prst="rect">
            <a:avLst/>
          </a:prstGeom>
          <a:ln w="0">
            <a:noFill/>
          </a:ln>
        </p:spPr>
      </p:pic>
      <p:sp>
        <p:nvSpPr>
          <p:cNvPr id="36" name="PlaceHolder 2"/>
          <p:cNvSpPr>
            <a:spLocks noGrp="1"/>
          </p:cNvSpPr>
          <p:nvPr>
            <p:ph type="title"/>
          </p:nvPr>
        </p:nvSpPr>
        <p:spPr>
          <a:xfrm>
            <a:off x="394920" y="17640"/>
            <a:ext cx="83358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7535880" y="6613560"/>
            <a:ext cx="16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8" name="" descr=""/>
          <p:cNvPicPr/>
          <p:nvPr/>
        </p:nvPicPr>
        <p:blipFill>
          <a:blip r:embed="rId3"/>
          <a:stretch/>
        </p:blipFill>
        <p:spPr>
          <a:xfrm>
            <a:off x="3048120" y="0"/>
            <a:ext cx="609588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2fbb"/>
            </a:gs>
            <a:gs pos="100000">
              <a:srgbClr val="0091d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-321480" y="-727200"/>
            <a:ext cx="9465480" cy="4225680"/>
            <a:chOff x="-321480" y="-727200"/>
            <a:chExt cx="9465480" cy="4225680"/>
          </a:xfrm>
        </p:grpSpPr>
        <p:pic>
          <p:nvPicPr>
            <p:cNvPr id="76" name="" descr=""/>
            <p:cNvPicPr/>
            <p:nvPr/>
          </p:nvPicPr>
          <p:blipFill>
            <a:blip r:embed="rId2"/>
            <a:srcRect l="0" t="8527" r="0" b="-23"/>
            <a:stretch/>
          </p:blipFill>
          <p:spPr>
            <a:xfrm rot="21391800">
              <a:off x="-37800" y="-177840"/>
              <a:ext cx="7632720" cy="33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"/>
            <a:srcRect l="0" t="8527" r="0" b="-23"/>
            <a:stretch/>
          </p:blipFill>
          <p:spPr>
            <a:xfrm>
              <a:off x="0" y="-714240"/>
              <a:ext cx="9144000" cy="398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4"/>
            <a:srcRect l="0" t="8527" r="0" b="-23"/>
            <a:stretch/>
          </p:blipFill>
          <p:spPr>
            <a:xfrm rot="406800">
              <a:off x="-152280" y="-277920"/>
              <a:ext cx="7805520" cy="332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" descr=""/>
          <p:cNvPicPr/>
          <p:nvPr/>
        </p:nvPicPr>
        <p:blipFill>
          <a:blip r:embed="rId5">
            <a:lum contrast="12000"/>
          </a:blip>
          <a:srcRect l="-420" t="0" r="0" b="0"/>
          <a:stretch/>
        </p:blipFill>
        <p:spPr>
          <a:xfrm rot="21236400">
            <a:off x="5337000" y="-244080"/>
            <a:ext cx="3802320" cy="5168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H="1">
            <a:off x="3201120" y="4527720"/>
            <a:ext cx="1660680" cy="2330280"/>
          </a:xfrm>
          <a:custGeom>
            <a:avLst/>
            <a:gdLst/>
            <a:ahLst/>
            <a:rect l="l" t="t" r="r" b="b"/>
            <a:pathLst>
              <a:path w="2214" h="3107">
                <a:moveTo>
                  <a:pt x="727" y="296"/>
                </a:moveTo>
                <a:lnTo>
                  <a:pt x="692" y="238"/>
                </a:lnTo>
                <a:cubicBezTo>
                  <a:pt x="697" y="223"/>
                  <a:pt x="705" y="209"/>
                  <a:pt x="705" y="194"/>
                </a:cubicBezTo>
                <a:cubicBezTo>
                  <a:pt x="705" y="165"/>
                  <a:pt x="671" y="140"/>
                  <a:pt x="671" y="109"/>
                </a:cubicBezTo>
                <a:lnTo>
                  <a:pt x="663" y="54"/>
                </a:lnTo>
                <a:lnTo>
                  <a:pt x="620" y="8"/>
                </a:lnTo>
                <a:lnTo>
                  <a:pt x="559" y="0"/>
                </a:lnTo>
                <a:lnTo>
                  <a:pt x="457" y="25"/>
                </a:lnTo>
                <a:lnTo>
                  <a:pt x="391" y="56"/>
                </a:lnTo>
                <a:lnTo>
                  <a:pt x="354" y="138"/>
                </a:lnTo>
                <a:lnTo>
                  <a:pt x="359" y="206"/>
                </a:lnTo>
                <a:lnTo>
                  <a:pt x="359" y="260"/>
                </a:lnTo>
                <a:lnTo>
                  <a:pt x="371" y="296"/>
                </a:lnTo>
                <a:lnTo>
                  <a:pt x="367" y="344"/>
                </a:lnTo>
                <a:cubicBezTo>
                  <a:pt x="346" y="391"/>
                  <a:pt x="369" y="354"/>
                  <a:pt x="329" y="371"/>
                </a:cubicBezTo>
                <a:cubicBezTo>
                  <a:pt x="319" y="376"/>
                  <a:pt x="316" y="405"/>
                  <a:pt x="307" y="413"/>
                </a:cubicBezTo>
                <a:cubicBezTo>
                  <a:pt x="301" y="437"/>
                  <a:pt x="274" y="451"/>
                  <a:pt x="250" y="456"/>
                </a:cubicBezTo>
                <a:cubicBezTo>
                  <a:pt x="236" y="464"/>
                  <a:pt x="228" y="476"/>
                  <a:pt x="214" y="485"/>
                </a:cubicBezTo>
                <a:lnTo>
                  <a:pt x="141" y="512"/>
                </a:lnTo>
                <a:lnTo>
                  <a:pt x="56" y="548"/>
                </a:lnTo>
                <a:lnTo>
                  <a:pt x="12" y="598"/>
                </a:lnTo>
                <a:lnTo>
                  <a:pt x="5" y="668"/>
                </a:lnTo>
                <a:lnTo>
                  <a:pt x="5" y="759"/>
                </a:lnTo>
                <a:lnTo>
                  <a:pt x="0" y="959"/>
                </a:lnTo>
                <a:lnTo>
                  <a:pt x="5" y="1092"/>
                </a:lnTo>
                <a:lnTo>
                  <a:pt x="32" y="1277"/>
                </a:lnTo>
                <a:lnTo>
                  <a:pt x="68" y="1453"/>
                </a:lnTo>
                <a:cubicBezTo>
                  <a:pt x="85" y="1541"/>
                  <a:pt x="59" y="1556"/>
                  <a:pt x="117" y="1563"/>
                </a:cubicBezTo>
                <a:cubicBezTo>
                  <a:pt x="129" y="1585"/>
                  <a:pt x="117" y="1558"/>
                  <a:pt x="117" y="1604"/>
                </a:cubicBezTo>
                <a:cubicBezTo>
                  <a:pt x="117" y="1631"/>
                  <a:pt x="129" y="1660"/>
                  <a:pt x="136" y="1684"/>
                </a:cubicBezTo>
                <a:cubicBezTo>
                  <a:pt x="143" y="1703"/>
                  <a:pt x="163" y="1716"/>
                  <a:pt x="178" y="1730"/>
                </a:cubicBezTo>
                <a:cubicBezTo>
                  <a:pt x="185" y="1738"/>
                  <a:pt x="195" y="1750"/>
                  <a:pt x="195" y="1750"/>
                </a:cubicBezTo>
                <a:lnTo>
                  <a:pt x="198" y="1866"/>
                </a:lnTo>
                <a:lnTo>
                  <a:pt x="182" y="2158"/>
                </a:lnTo>
                <a:lnTo>
                  <a:pt x="182" y="2383"/>
                </a:lnTo>
                <a:lnTo>
                  <a:pt x="174" y="2812"/>
                </a:lnTo>
                <a:cubicBezTo>
                  <a:pt x="166" y="2950"/>
                  <a:pt x="169" y="2956"/>
                  <a:pt x="229" y="2955"/>
                </a:cubicBezTo>
                <a:cubicBezTo>
                  <a:pt x="253" y="2959"/>
                  <a:pt x="234" y="2986"/>
                  <a:pt x="231" y="3019"/>
                </a:cubicBezTo>
                <a:cubicBezTo>
                  <a:pt x="226" y="3047"/>
                  <a:pt x="214" y="3077"/>
                  <a:pt x="228" y="3085"/>
                </a:cubicBezTo>
                <a:cubicBezTo>
                  <a:pt x="258" y="3107"/>
                  <a:pt x="310" y="3098"/>
                  <a:pt x="340" y="3090"/>
                </a:cubicBezTo>
                <a:cubicBezTo>
                  <a:pt x="344" y="3060"/>
                  <a:pt x="338" y="3041"/>
                  <a:pt x="337" y="3018"/>
                </a:cubicBezTo>
                <a:cubicBezTo>
                  <a:pt x="334" y="2997"/>
                  <a:pt x="337" y="2973"/>
                  <a:pt x="346" y="2962"/>
                </a:cubicBezTo>
                <a:lnTo>
                  <a:pt x="387" y="2953"/>
                </a:lnTo>
                <a:lnTo>
                  <a:pt x="388" y="2849"/>
                </a:lnTo>
                <a:lnTo>
                  <a:pt x="388" y="2698"/>
                </a:lnTo>
                <a:lnTo>
                  <a:pt x="388" y="2505"/>
                </a:lnTo>
                <a:lnTo>
                  <a:pt x="401" y="2310"/>
                </a:lnTo>
                <a:lnTo>
                  <a:pt x="404" y="2121"/>
                </a:lnTo>
                <a:lnTo>
                  <a:pt x="445" y="1935"/>
                </a:lnTo>
                <a:lnTo>
                  <a:pt x="469" y="1828"/>
                </a:lnTo>
                <a:cubicBezTo>
                  <a:pt x="479" y="1821"/>
                  <a:pt x="485" y="1803"/>
                  <a:pt x="498" y="1806"/>
                </a:cubicBezTo>
                <a:cubicBezTo>
                  <a:pt x="501" y="1806"/>
                  <a:pt x="510" y="1847"/>
                  <a:pt x="513" y="1851"/>
                </a:cubicBezTo>
                <a:cubicBezTo>
                  <a:pt x="530" y="1893"/>
                  <a:pt x="547" y="1932"/>
                  <a:pt x="559" y="1976"/>
                </a:cubicBezTo>
                <a:cubicBezTo>
                  <a:pt x="561" y="2002"/>
                  <a:pt x="561" y="2007"/>
                  <a:pt x="571" y="2029"/>
                </a:cubicBezTo>
                <a:cubicBezTo>
                  <a:pt x="578" y="2078"/>
                  <a:pt x="578" y="2125"/>
                  <a:pt x="571" y="2177"/>
                </a:cubicBezTo>
                <a:cubicBezTo>
                  <a:pt x="571" y="2189"/>
                  <a:pt x="574" y="2214"/>
                  <a:pt x="574" y="2214"/>
                </a:cubicBezTo>
                <a:lnTo>
                  <a:pt x="549" y="2395"/>
                </a:lnTo>
                <a:lnTo>
                  <a:pt x="537" y="2718"/>
                </a:lnTo>
                <a:cubicBezTo>
                  <a:pt x="535" y="2923"/>
                  <a:pt x="496" y="2922"/>
                  <a:pt x="591" y="2925"/>
                </a:cubicBezTo>
                <a:cubicBezTo>
                  <a:pt x="583" y="2983"/>
                  <a:pt x="573" y="3051"/>
                  <a:pt x="592" y="3076"/>
                </a:cubicBezTo>
                <a:lnTo>
                  <a:pt x="700" y="3076"/>
                </a:lnTo>
                <a:lnTo>
                  <a:pt x="704" y="3040"/>
                </a:lnTo>
                <a:lnTo>
                  <a:pt x="763" y="3076"/>
                </a:lnTo>
                <a:cubicBezTo>
                  <a:pt x="840" y="3078"/>
                  <a:pt x="947" y="3082"/>
                  <a:pt x="1026" y="3075"/>
                </a:cubicBezTo>
                <a:cubicBezTo>
                  <a:pt x="1042" y="3072"/>
                  <a:pt x="1013" y="3048"/>
                  <a:pt x="1012" y="3046"/>
                </a:cubicBezTo>
                <a:cubicBezTo>
                  <a:pt x="982" y="3014"/>
                  <a:pt x="948" y="3000"/>
                  <a:pt x="906" y="2995"/>
                </a:cubicBezTo>
                <a:cubicBezTo>
                  <a:pt x="878" y="2983"/>
                  <a:pt x="892" y="2988"/>
                  <a:pt x="865" y="2983"/>
                </a:cubicBezTo>
                <a:cubicBezTo>
                  <a:pt x="831" y="2968"/>
                  <a:pt x="814" y="2944"/>
                  <a:pt x="787" y="2922"/>
                </a:cubicBezTo>
                <a:cubicBezTo>
                  <a:pt x="785" y="2908"/>
                  <a:pt x="772" y="2898"/>
                  <a:pt x="763" y="2886"/>
                </a:cubicBezTo>
                <a:lnTo>
                  <a:pt x="800" y="2864"/>
                </a:lnTo>
                <a:lnTo>
                  <a:pt x="780" y="2614"/>
                </a:lnTo>
                <a:lnTo>
                  <a:pt x="761" y="2267"/>
                </a:lnTo>
                <a:lnTo>
                  <a:pt x="772" y="2102"/>
                </a:lnTo>
                <a:lnTo>
                  <a:pt x="792" y="1935"/>
                </a:lnTo>
                <a:lnTo>
                  <a:pt x="780" y="1660"/>
                </a:lnTo>
                <a:lnTo>
                  <a:pt x="817" y="1646"/>
                </a:lnTo>
                <a:lnTo>
                  <a:pt x="767" y="1289"/>
                </a:lnTo>
                <a:lnTo>
                  <a:pt x="756" y="1179"/>
                </a:lnTo>
                <a:cubicBezTo>
                  <a:pt x="780" y="1182"/>
                  <a:pt x="804" y="1182"/>
                  <a:pt x="829" y="1187"/>
                </a:cubicBezTo>
                <a:cubicBezTo>
                  <a:pt x="846" y="1189"/>
                  <a:pt x="861" y="1213"/>
                  <a:pt x="878" y="1221"/>
                </a:cubicBezTo>
                <a:cubicBezTo>
                  <a:pt x="895" y="1228"/>
                  <a:pt x="916" y="1230"/>
                  <a:pt x="933" y="1236"/>
                </a:cubicBezTo>
                <a:cubicBezTo>
                  <a:pt x="955" y="1242"/>
                  <a:pt x="960" y="1258"/>
                  <a:pt x="974" y="1270"/>
                </a:cubicBezTo>
                <a:cubicBezTo>
                  <a:pt x="982" y="1277"/>
                  <a:pt x="999" y="1284"/>
                  <a:pt x="999" y="1284"/>
                </a:cubicBezTo>
                <a:cubicBezTo>
                  <a:pt x="1018" y="1310"/>
                  <a:pt x="1071" y="1315"/>
                  <a:pt x="1101" y="1333"/>
                </a:cubicBezTo>
                <a:cubicBezTo>
                  <a:pt x="1113" y="1347"/>
                  <a:pt x="1126" y="1352"/>
                  <a:pt x="1145" y="1356"/>
                </a:cubicBezTo>
                <a:cubicBezTo>
                  <a:pt x="1178" y="1352"/>
                  <a:pt x="1172" y="1334"/>
                  <a:pt x="1205" y="1330"/>
                </a:cubicBezTo>
                <a:cubicBezTo>
                  <a:pt x="1215" y="1317"/>
                  <a:pt x="1213" y="1308"/>
                  <a:pt x="1230" y="1305"/>
                </a:cubicBezTo>
                <a:cubicBezTo>
                  <a:pt x="1259" y="1267"/>
                  <a:pt x="1244" y="1267"/>
                  <a:pt x="1298" y="1258"/>
                </a:cubicBezTo>
                <a:cubicBezTo>
                  <a:pt x="1305" y="1255"/>
                  <a:pt x="1332" y="1236"/>
                  <a:pt x="1332" y="1236"/>
                </a:cubicBezTo>
                <a:lnTo>
                  <a:pt x="1427" y="1174"/>
                </a:lnTo>
                <a:cubicBezTo>
                  <a:pt x="1437" y="1162"/>
                  <a:pt x="1444" y="1146"/>
                  <a:pt x="1455" y="1136"/>
                </a:cubicBezTo>
                <a:cubicBezTo>
                  <a:pt x="1465" y="1127"/>
                  <a:pt x="1492" y="1116"/>
                  <a:pt x="1492" y="1116"/>
                </a:cubicBezTo>
                <a:cubicBezTo>
                  <a:pt x="1519" y="1121"/>
                  <a:pt x="1502" y="1187"/>
                  <a:pt x="1492" y="1208"/>
                </a:cubicBezTo>
                <a:cubicBezTo>
                  <a:pt x="1487" y="1253"/>
                  <a:pt x="1480" y="1292"/>
                  <a:pt x="1463" y="1333"/>
                </a:cubicBezTo>
                <a:cubicBezTo>
                  <a:pt x="1458" y="1362"/>
                  <a:pt x="1449" y="1389"/>
                  <a:pt x="1439" y="1418"/>
                </a:cubicBezTo>
                <a:cubicBezTo>
                  <a:pt x="1437" y="1470"/>
                  <a:pt x="1422" y="1522"/>
                  <a:pt x="1408" y="1573"/>
                </a:cubicBezTo>
                <a:cubicBezTo>
                  <a:pt x="1405" y="1594"/>
                  <a:pt x="1397" y="1614"/>
                  <a:pt x="1395" y="1636"/>
                </a:cubicBezTo>
                <a:cubicBezTo>
                  <a:pt x="1392" y="1663"/>
                  <a:pt x="1388" y="1695"/>
                  <a:pt x="1388" y="1720"/>
                </a:cubicBezTo>
                <a:lnTo>
                  <a:pt x="1460" y="1730"/>
                </a:lnTo>
                <a:lnTo>
                  <a:pt x="1485" y="1697"/>
                </a:lnTo>
                <a:lnTo>
                  <a:pt x="1553" y="1713"/>
                </a:lnTo>
                <a:lnTo>
                  <a:pt x="1561" y="1878"/>
                </a:lnTo>
                <a:lnTo>
                  <a:pt x="1601" y="2261"/>
                </a:lnTo>
                <a:lnTo>
                  <a:pt x="1655" y="2526"/>
                </a:lnTo>
                <a:lnTo>
                  <a:pt x="1675" y="2820"/>
                </a:lnTo>
                <a:lnTo>
                  <a:pt x="1699" y="2837"/>
                </a:lnTo>
                <a:lnTo>
                  <a:pt x="1679" y="2893"/>
                </a:lnTo>
                <a:lnTo>
                  <a:pt x="1643" y="2922"/>
                </a:lnTo>
                <a:lnTo>
                  <a:pt x="1529" y="2966"/>
                </a:lnTo>
                <a:lnTo>
                  <a:pt x="1460" y="2987"/>
                </a:lnTo>
                <a:lnTo>
                  <a:pt x="1455" y="3014"/>
                </a:lnTo>
                <a:lnTo>
                  <a:pt x="1550" y="3020"/>
                </a:lnTo>
                <a:lnTo>
                  <a:pt x="1481" y="3053"/>
                </a:lnTo>
                <a:lnTo>
                  <a:pt x="1473" y="3076"/>
                </a:lnTo>
                <a:lnTo>
                  <a:pt x="1606" y="3076"/>
                </a:lnTo>
                <a:lnTo>
                  <a:pt x="1707" y="3078"/>
                </a:lnTo>
                <a:lnTo>
                  <a:pt x="1818" y="3041"/>
                </a:lnTo>
                <a:lnTo>
                  <a:pt x="1819" y="3076"/>
                </a:lnTo>
                <a:lnTo>
                  <a:pt x="1947" y="3078"/>
                </a:lnTo>
                <a:lnTo>
                  <a:pt x="1946" y="2996"/>
                </a:lnTo>
                <a:lnTo>
                  <a:pt x="1930" y="2922"/>
                </a:lnTo>
                <a:lnTo>
                  <a:pt x="1954" y="2905"/>
                </a:lnTo>
                <a:lnTo>
                  <a:pt x="1959" y="2767"/>
                </a:lnTo>
                <a:lnTo>
                  <a:pt x="1966" y="2521"/>
                </a:lnTo>
                <a:lnTo>
                  <a:pt x="1954" y="2150"/>
                </a:lnTo>
                <a:lnTo>
                  <a:pt x="1961" y="2029"/>
                </a:lnTo>
                <a:lnTo>
                  <a:pt x="1974" y="1750"/>
                </a:lnTo>
                <a:lnTo>
                  <a:pt x="1966" y="1624"/>
                </a:lnTo>
                <a:lnTo>
                  <a:pt x="2039" y="1596"/>
                </a:lnTo>
                <a:lnTo>
                  <a:pt x="2027" y="1488"/>
                </a:lnTo>
                <a:lnTo>
                  <a:pt x="2019" y="1463"/>
                </a:lnTo>
                <a:lnTo>
                  <a:pt x="2068" y="1415"/>
                </a:lnTo>
                <a:lnTo>
                  <a:pt x="2139" y="1362"/>
                </a:lnTo>
                <a:cubicBezTo>
                  <a:pt x="2153" y="1337"/>
                  <a:pt x="2175" y="1315"/>
                  <a:pt x="2185" y="1289"/>
                </a:cubicBezTo>
                <a:cubicBezTo>
                  <a:pt x="2187" y="1236"/>
                  <a:pt x="2185" y="1201"/>
                  <a:pt x="2205" y="1156"/>
                </a:cubicBezTo>
                <a:cubicBezTo>
                  <a:pt x="2202" y="1099"/>
                  <a:pt x="2187" y="1023"/>
                  <a:pt x="2209" y="971"/>
                </a:cubicBezTo>
                <a:cubicBezTo>
                  <a:pt x="2206" y="942"/>
                  <a:pt x="2214" y="914"/>
                  <a:pt x="2187" y="900"/>
                </a:cubicBezTo>
                <a:cubicBezTo>
                  <a:pt x="2192" y="884"/>
                  <a:pt x="2194" y="872"/>
                  <a:pt x="2205" y="857"/>
                </a:cubicBezTo>
                <a:cubicBezTo>
                  <a:pt x="2200" y="845"/>
                  <a:pt x="2192" y="820"/>
                  <a:pt x="2192" y="820"/>
                </a:cubicBezTo>
                <a:cubicBezTo>
                  <a:pt x="2189" y="782"/>
                  <a:pt x="2185" y="731"/>
                  <a:pt x="2185" y="687"/>
                </a:cubicBezTo>
                <a:lnTo>
                  <a:pt x="2160" y="668"/>
                </a:lnTo>
                <a:lnTo>
                  <a:pt x="2034" y="561"/>
                </a:lnTo>
                <a:lnTo>
                  <a:pt x="1996" y="522"/>
                </a:lnTo>
                <a:cubicBezTo>
                  <a:pt x="1988" y="502"/>
                  <a:pt x="1976" y="469"/>
                  <a:pt x="1961" y="456"/>
                </a:cubicBezTo>
                <a:cubicBezTo>
                  <a:pt x="1957" y="437"/>
                  <a:pt x="1966" y="439"/>
                  <a:pt x="1983" y="433"/>
                </a:cubicBezTo>
                <a:cubicBezTo>
                  <a:pt x="1986" y="417"/>
                  <a:pt x="1996" y="403"/>
                  <a:pt x="2003" y="388"/>
                </a:cubicBezTo>
                <a:cubicBezTo>
                  <a:pt x="2005" y="369"/>
                  <a:pt x="2003" y="349"/>
                  <a:pt x="2019" y="341"/>
                </a:cubicBezTo>
                <a:cubicBezTo>
                  <a:pt x="2036" y="313"/>
                  <a:pt x="2032" y="306"/>
                  <a:pt x="2034" y="267"/>
                </a:cubicBezTo>
                <a:cubicBezTo>
                  <a:pt x="2032" y="240"/>
                  <a:pt x="2036" y="248"/>
                  <a:pt x="2021" y="230"/>
                </a:cubicBezTo>
                <a:cubicBezTo>
                  <a:pt x="2016" y="226"/>
                  <a:pt x="2010" y="218"/>
                  <a:pt x="2010" y="218"/>
                </a:cubicBezTo>
                <a:lnTo>
                  <a:pt x="1971" y="165"/>
                </a:lnTo>
                <a:lnTo>
                  <a:pt x="1924" y="146"/>
                </a:lnTo>
                <a:lnTo>
                  <a:pt x="1852" y="146"/>
                </a:lnTo>
                <a:lnTo>
                  <a:pt x="1821" y="146"/>
                </a:lnTo>
                <a:lnTo>
                  <a:pt x="1801" y="129"/>
                </a:lnTo>
                <a:lnTo>
                  <a:pt x="1747" y="158"/>
                </a:lnTo>
                <a:cubicBezTo>
                  <a:pt x="1732" y="187"/>
                  <a:pt x="1750" y="230"/>
                  <a:pt x="1718" y="238"/>
                </a:cubicBezTo>
                <a:cubicBezTo>
                  <a:pt x="1716" y="255"/>
                  <a:pt x="1709" y="269"/>
                  <a:pt x="1694" y="279"/>
                </a:cubicBezTo>
                <a:cubicBezTo>
                  <a:pt x="1677" y="308"/>
                  <a:pt x="1696" y="338"/>
                  <a:pt x="1682" y="369"/>
                </a:cubicBezTo>
                <a:cubicBezTo>
                  <a:pt x="1679" y="383"/>
                  <a:pt x="1666" y="397"/>
                  <a:pt x="1659" y="409"/>
                </a:cubicBezTo>
                <a:cubicBezTo>
                  <a:pt x="1661" y="423"/>
                  <a:pt x="1675" y="427"/>
                  <a:pt x="1682" y="442"/>
                </a:cubicBezTo>
                <a:cubicBezTo>
                  <a:pt x="1677" y="467"/>
                  <a:pt x="1687" y="461"/>
                  <a:pt x="1672" y="484"/>
                </a:cubicBezTo>
                <a:cubicBezTo>
                  <a:pt x="1679" y="511"/>
                  <a:pt x="1678" y="496"/>
                  <a:pt x="1707" y="514"/>
                </a:cubicBezTo>
                <a:cubicBezTo>
                  <a:pt x="1712" y="516"/>
                  <a:pt x="1746" y="524"/>
                  <a:pt x="1735" y="527"/>
                </a:cubicBezTo>
                <a:lnTo>
                  <a:pt x="1637" y="546"/>
                </a:lnTo>
                <a:lnTo>
                  <a:pt x="1561" y="585"/>
                </a:lnTo>
                <a:lnTo>
                  <a:pt x="1509" y="633"/>
                </a:lnTo>
                <a:lnTo>
                  <a:pt x="1500" y="674"/>
                </a:lnTo>
                <a:lnTo>
                  <a:pt x="1460" y="754"/>
                </a:lnTo>
                <a:lnTo>
                  <a:pt x="1425" y="869"/>
                </a:lnTo>
                <a:lnTo>
                  <a:pt x="1395" y="922"/>
                </a:lnTo>
                <a:lnTo>
                  <a:pt x="1344" y="971"/>
                </a:lnTo>
                <a:cubicBezTo>
                  <a:pt x="1333" y="971"/>
                  <a:pt x="1324" y="971"/>
                  <a:pt x="1315" y="973"/>
                </a:cubicBezTo>
                <a:cubicBezTo>
                  <a:pt x="1300" y="978"/>
                  <a:pt x="1313" y="1026"/>
                  <a:pt x="1278" y="1034"/>
                </a:cubicBezTo>
                <a:cubicBezTo>
                  <a:pt x="1269" y="1053"/>
                  <a:pt x="1274" y="1077"/>
                  <a:pt x="1249" y="1082"/>
                </a:cubicBezTo>
                <a:cubicBezTo>
                  <a:pt x="1242" y="1092"/>
                  <a:pt x="1218" y="1107"/>
                  <a:pt x="1218" y="1107"/>
                </a:cubicBezTo>
                <a:cubicBezTo>
                  <a:pt x="1210" y="1121"/>
                  <a:pt x="1207" y="1129"/>
                  <a:pt x="1193" y="1136"/>
                </a:cubicBezTo>
                <a:cubicBezTo>
                  <a:pt x="1183" y="1150"/>
                  <a:pt x="1181" y="1156"/>
                  <a:pt x="1164" y="1149"/>
                </a:cubicBezTo>
                <a:cubicBezTo>
                  <a:pt x="1155" y="1133"/>
                  <a:pt x="1147" y="1132"/>
                  <a:pt x="1133" y="1124"/>
                </a:cubicBezTo>
                <a:cubicBezTo>
                  <a:pt x="1084" y="1136"/>
                  <a:pt x="1104" y="1112"/>
                  <a:pt x="1076" y="1107"/>
                </a:cubicBezTo>
                <a:cubicBezTo>
                  <a:pt x="1059" y="1104"/>
                  <a:pt x="1045" y="1104"/>
                  <a:pt x="1029" y="1104"/>
                </a:cubicBezTo>
                <a:lnTo>
                  <a:pt x="950" y="1034"/>
                </a:lnTo>
                <a:lnTo>
                  <a:pt x="846" y="971"/>
                </a:lnTo>
                <a:lnTo>
                  <a:pt x="800" y="910"/>
                </a:lnTo>
                <a:lnTo>
                  <a:pt x="780" y="881"/>
                </a:lnTo>
                <a:lnTo>
                  <a:pt x="761" y="850"/>
                </a:lnTo>
                <a:lnTo>
                  <a:pt x="727" y="743"/>
                </a:lnTo>
                <a:lnTo>
                  <a:pt x="683" y="655"/>
                </a:lnTo>
                <a:lnTo>
                  <a:pt x="632" y="585"/>
                </a:lnTo>
                <a:lnTo>
                  <a:pt x="608" y="561"/>
                </a:lnTo>
                <a:lnTo>
                  <a:pt x="596" y="509"/>
                </a:lnTo>
                <a:lnTo>
                  <a:pt x="522" y="442"/>
                </a:lnTo>
                <a:lnTo>
                  <a:pt x="608" y="450"/>
                </a:lnTo>
                <a:cubicBezTo>
                  <a:pt x="649" y="445"/>
                  <a:pt x="666" y="447"/>
                  <a:pt x="651" y="408"/>
                </a:cubicBezTo>
                <a:cubicBezTo>
                  <a:pt x="658" y="393"/>
                  <a:pt x="673" y="393"/>
                  <a:pt x="671" y="381"/>
                </a:cubicBezTo>
                <a:cubicBezTo>
                  <a:pt x="649" y="371"/>
                  <a:pt x="658" y="366"/>
                  <a:pt x="683" y="358"/>
                </a:cubicBezTo>
                <a:cubicBezTo>
                  <a:pt x="680" y="330"/>
                  <a:pt x="673" y="323"/>
                  <a:pt x="705" y="321"/>
                </a:cubicBezTo>
                <a:cubicBezTo>
                  <a:pt x="712" y="319"/>
                  <a:pt x="747" y="306"/>
                  <a:pt x="727" y="2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79520" y="4912920"/>
            <a:ext cx="900720" cy="953640"/>
            <a:chOff x="479520" y="4912920"/>
            <a:chExt cx="900720" cy="953640"/>
          </a:xfrm>
        </p:grpSpPr>
        <p:sp>
          <p:nvSpPr>
            <p:cNvPr id="82" name=""/>
            <p:cNvSpPr/>
            <p:nvPr/>
          </p:nvSpPr>
          <p:spPr>
            <a:xfrm rot="20961000">
              <a:off x="783000" y="4924800"/>
              <a:ext cx="139320" cy="13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961000">
              <a:off x="649800" y="5313600"/>
              <a:ext cx="196920" cy="187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0961000">
              <a:off x="982440" y="5110920"/>
              <a:ext cx="146520" cy="13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961000">
              <a:off x="783000" y="5760000"/>
              <a:ext cx="102960" cy="9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6080" y="5499000"/>
              <a:ext cx="50040" cy="26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807840" y="5221440"/>
              <a:ext cx="204120" cy="1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893880" y="5027040"/>
              <a:ext cx="106560" cy="99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0961000">
              <a:off x="1204200" y="4975560"/>
              <a:ext cx="102960" cy="9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0961000">
              <a:off x="1134720" y="5371920"/>
              <a:ext cx="117720" cy="11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98000" y="5243040"/>
              <a:ext cx="66960" cy="15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123200" y="5027760"/>
              <a:ext cx="90000" cy="113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0961000">
              <a:off x="487440" y="5200200"/>
              <a:ext cx="102600" cy="9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4760" y="5285160"/>
              <a:ext cx="102240" cy="6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021320" y="5456520"/>
              <a:ext cx="148320" cy="73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0961000">
              <a:off x="951480" y="5492520"/>
              <a:ext cx="102960" cy="9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35160" y="5463360"/>
              <a:ext cx="43920" cy="3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20961000">
              <a:off x="1269000" y="5502960"/>
              <a:ext cx="102960" cy="9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328760" y="5622840"/>
            <a:ext cx="466560" cy="1235160"/>
          </a:xfrm>
          <a:custGeom>
            <a:avLst/>
            <a:gdLst/>
            <a:ahLst/>
            <a:rect l="l" t="t" r="r" b="b"/>
            <a:pathLst>
              <a:path w="1241" h="3280">
                <a:moveTo>
                  <a:pt x="606" y="43"/>
                </a:moveTo>
                <a:cubicBezTo>
                  <a:pt x="589" y="33"/>
                  <a:pt x="575" y="7"/>
                  <a:pt x="543" y="7"/>
                </a:cubicBezTo>
                <a:cubicBezTo>
                  <a:pt x="500" y="0"/>
                  <a:pt x="448" y="29"/>
                  <a:pt x="416" y="45"/>
                </a:cubicBezTo>
                <a:cubicBezTo>
                  <a:pt x="385" y="68"/>
                  <a:pt x="364" y="116"/>
                  <a:pt x="356" y="148"/>
                </a:cubicBezTo>
                <a:cubicBezTo>
                  <a:pt x="348" y="180"/>
                  <a:pt x="369" y="216"/>
                  <a:pt x="368" y="240"/>
                </a:cubicBezTo>
                <a:cubicBezTo>
                  <a:pt x="369" y="263"/>
                  <a:pt x="359" y="272"/>
                  <a:pt x="363" y="289"/>
                </a:cubicBezTo>
                <a:cubicBezTo>
                  <a:pt x="368" y="306"/>
                  <a:pt x="379" y="326"/>
                  <a:pt x="393" y="343"/>
                </a:cubicBezTo>
                <a:lnTo>
                  <a:pt x="414" y="355"/>
                </a:lnTo>
                <a:lnTo>
                  <a:pt x="435" y="397"/>
                </a:lnTo>
                <a:lnTo>
                  <a:pt x="443" y="418"/>
                </a:lnTo>
                <a:lnTo>
                  <a:pt x="446" y="448"/>
                </a:lnTo>
                <a:lnTo>
                  <a:pt x="393" y="496"/>
                </a:lnTo>
                <a:lnTo>
                  <a:pt x="261" y="565"/>
                </a:lnTo>
                <a:cubicBezTo>
                  <a:pt x="222" y="587"/>
                  <a:pt x="178" y="611"/>
                  <a:pt x="159" y="631"/>
                </a:cubicBezTo>
                <a:cubicBezTo>
                  <a:pt x="152" y="659"/>
                  <a:pt x="146" y="688"/>
                  <a:pt x="146" y="688"/>
                </a:cubicBezTo>
                <a:lnTo>
                  <a:pt x="134" y="750"/>
                </a:lnTo>
                <a:lnTo>
                  <a:pt x="111" y="823"/>
                </a:lnTo>
                <a:lnTo>
                  <a:pt x="110" y="865"/>
                </a:lnTo>
                <a:lnTo>
                  <a:pt x="59" y="930"/>
                </a:lnTo>
                <a:lnTo>
                  <a:pt x="42" y="1006"/>
                </a:lnTo>
                <a:cubicBezTo>
                  <a:pt x="24" y="1059"/>
                  <a:pt x="8" y="1154"/>
                  <a:pt x="0" y="1218"/>
                </a:cubicBezTo>
                <a:lnTo>
                  <a:pt x="15" y="1399"/>
                </a:lnTo>
                <a:lnTo>
                  <a:pt x="14" y="1531"/>
                </a:lnTo>
                <a:cubicBezTo>
                  <a:pt x="18" y="1567"/>
                  <a:pt x="26" y="1620"/>
                  <a:pt x="41" y="1617"/>
                </a:cubicBezTo>
                <a:cubicBezTo>
                  <a:pt x="56" y="1614"/>
                  <a:pt x="55" y="1564"/>
                  <a:pt x="62" y="1560"/>
                </a:cubicBezTo>
                <a:cubicBezTo>
                  <a:pt x="68" y="1557"/>
                  <a:pt x="69" y="1597"/>
                  <a:pt x="75" y="1599"/>
                </a:cubicBezTo>
                <a:cubicBezTo>
                  <a:pt x="83" y="1603"/>
                  <a:pt x="93" y="1572"/>
                  <a:pt x="98" y="1570"/>
                </a:cubicBezTo>
                <a:cubicBezTo>
                  <a:pt x="103" y="1568"/>
                  <a:pt x="103" y="1585"/>
                  <a:pt x="107" y="1585"/>
                </a:cubicBezTo>
                <a:cubicBezTo>
                  <a:pt x="111" y="1585"/>
                  <a:pt x="118" y="1583"/>
                  <a:pt x="125" y="1569"/>
                </a:cubicBezTo>
                <a:lnTo>
                  <a:pt x="147" y="1501"/>
                </a:lnTo>
                <a:lnTo>
                  <a:pt x="159" y="1399"/>
                </a:lnTo>
                <a:lnTo>
                  <a:pt x="207" y="1303"/>
                </a:lnTo>
                <a:lnTo>
                  <a:pt x="207" y="1207"/>
                </a:lnTo>
                <a:lnTo>
                  <a:pt x="260" y="1122"/>
                </a:lnTo>
                <a:lnTo>
                  <a:pt x="258" y="1041"/>
                </a:lnTo>
                <a:lnTo>
                  <a:pt x="284" y="997"/>
                </a:lnTo>
                <a:lnTo>
                  <a:pt x="314" y="1212"/>
                </a:lnTo>
                <a:lnTo>
                  <a:pt x="306" y="1332"/>
                </a:lnTo>
                <a:lnTo>
                  <a:pt x="269" y="1500"/>
                </a:lnTo>
                <a:lnTo>
                  <a:pt x="270" y="1558"/>
                </a:lnTo>
                <a:lnTo>
                  <a:pt x="225" y="1804"/>
                </a:lnTo>
                <a:lnTo>
                  <a:pt x="314" y="1815"/>
                </a:lnTo>
                <a:lnTo>
                  <a:pt x="320" y="1905"/>
                </a:lnTo>
                <a:lnTo>
                  <a:pt x="336" y="1932"/>
                </a:lnTo>
                <a:cubicBezTo>
                  <a:pt x="336" y="1932"/>
                  <a:pt x="350" y="2065"/>
                  <a:pt x="365" y="2199"/>
                </a:cubicBezTo>
                <a:cubicBezTo>
                  <a:pt x="393" y="2347"/>
                  <a:pt x="387" y="2329"/>
                  <a:pt x="423" y="2401"/>
                </a:cubicBezTo>
                <a:cubicBezTo>
                  <a:pt x="416" y="2451"/>
                  <a:pt x="425" y="2451"/>
                  <a:pt x="428" y="2523"/>
                </a:cubicBezTo>
                <a:cubicBezTo>
                  <a:pt x="437" y="2646"/>
                  <a:pt x="459" y="2717"/>
                  <a:pt x="462" y="2778"/>
                </a:cubicBezTo>
                <a:cubicBezTo>
                  <a:pt x="470" y="2844"/>
                  <a:pt x="467" y="2867"/>
                  <a:pt x="474" y="2920"/>
                </a:cubicBezTo>
                <a:cubicBezTo>
                  <a:pt x="488" y="3006"/>
                  <a:pt x="495" y="3062"/>
                  <a:pt x="501" y="3094"/>
                </a:cubicBezTo>
                <a:lnTo>
                  <a:pt x="521" y="3094"/>
                </a:lnTo>
                <a:lnTo>
                  <a:pt x="492" y="3127"/>
                </a:lnTo>
                <a:lnTo>
                  <a:pt x="467" y="3214"/>
                </a:lnTo>
                <a:cubicBezTo>
                  <a:pt x="473" y="3235"/>
                  <a:pt x="497" y="3253"/>
                  <a:pt x="530" y="3256"/>
                </a:cubicBezTo>
                <a:cubicBezTo>
                  <a:pt x="606" y="3256"/>
                  <a:pt x="647" y="3251"/>
                  <a:pt x="665" y="3229"/>
                </a:cubicBezTo>
                <a:lnTo>
                  <a:pt x="665" y="3141"/>
                </a:lnTo>
                <a:lnTo>
                  <a:pt x="696" y="3108"/>
                </a:lnTo>
                <a:lnTo>
                  <a:pt x="710" y="3049"/>
                </a:lnTo>
                <a:lnTo>
                  <a:pt x="648" y="2791"/>
                </a:lnTo>
                <a:lnTo>
                  <a:pt x="657" y="2688"/>
                </a:lnTo>
                <a:lnTo>
                  <a:pt x="675" y="2622"/>
                </a:lnTo>
                <a:lnTo>
                  <a:pt x="687" y="2455"/>
                </a:lnTo>
                <a:lnTo>
                  <a:pt x="687" y="2263"/>
                </a:lnTo>
                <a:lnTo>
                  <a:pt x="683" y="2068"/>
                </a:lnTo>
                <a:lnTo>
                  <a:pt x="675" y="1926"/>
                </a:lnTo>
                <a:lnTo>
                  <a:pt x="686" y="1854"/>
                </a:lnTo>
                <a:lnTo>
                  <a:pt x="713" y="2025"/>
                </a:lnTo>
                <a:lnTo>
                  <a:pt x="713" y="2164"/>
                </a:lnTo>
                <a:lnTo>
                  <a:pt x="735" y="2359"/>
                </a:lnTo>
                <a:lnTo>
                  <a:pt x="722" y="2548"/>
                </a:lnTo>
                <a:lnTo>
                  <a:pt x="725" y="2836"/>
                </a:lnTo>
                <a:lnTo>
                  <a:pt x="728" y="3078"/>
                </a:lnTo>
                <a:lnTo>
                  <a:pt x="737" y="3166"/>
                </a:lnTo>
                <a:lnTo>
                  <a:pt x="738" y="3207"/>
                </a:lnTo>
                <a:lnTo>
                  <a:pt x="749" y="3252"/>
                </a:lnTo>
                <a:lnTo>
                  <a:pt x="797" y="3255"/>
                </a:lnTo>
                <a:lnTo>
                  <a:pt x="804" y="3277"/>
                </a:lnTo>
                <a:cubicBezTo>
                  <a:pt x="834" y="3280"/>
                  <a:pt x="881" y="3277"/>
                  <a:pt x="978" y="3276"/>
                </a:cubicBezTo>
                <a:cubicBezTo>
                  <a:pt x="999" y="3264"/>
                  <a:pt x="995" y="3232"/>
                  <a:pt x="995" y="3232"/>
                </a:cubicBezTo>
                <a:lnTo>
                  <a:pt x="918" y="3151"/>
                </a:lnTo>
                <a:lnTo>
                  <a:pt x="899" y="3099"/>
                </a:lnTo>
                <a:lnTo>
                  <a:pt x="965" y="3108"/>
                </a:lnTo>
                <a:lnTo>
                  <a:pt x="989" y="2794"/>
                </a:lnTo>
                <a:lnTo>
                  <a:pt x="987" y="2605"/>
                </a:lnTo>
                <a:lnTo>
                  <a:pt x="978" y="2428"/>
                </a:lnTo>
                <a:lnTo>
                  <a:pt x="1037" y="2418"/>
                </a:lnTo>
                <a:lnTo>
                  <a:pt x="1149" y="2429"/>
                </a:lnTo>
                <a:lnTo>
                  <a:pt x="1209" y="2361"/>
                </a:lnTo>
                <a:lnTo>
                  <a:pt x="1229" y="2169"/>
                </a:lnTo>
                <a:lnTo>
                  <a:pt x="1241" y="2023"/>
                </a:lnTo>
                <a:lnTo>
                  <a:pt x="1217" y="1815"/>
                </a:lnTo>
                <a:lnTo>
                  <a:pt x="1147" y="1809"/>
                </a:lnTo>
                <a:cubicBezTo>
                  <a:pt x="1132" y="1804"/>
                  <a:pt x="1125" y="1791"/>
                  <a:pt x="1125" y="1783"/>
                </a:cubicBezTo>
                <a:cubicBezTo>
                  <a:pt x="1125" y="1774"/>
                  <a:pt x="1143" y="1769"/>
                  <a:pt x="1149" y="1762"/>
                </a:cubicBezTo>
                <a:cubicBezTo>
                  <a:pt x="1155" y="1755"/>
                  <a:pt x="1165" y="1769"/>
                  <a:pt x="1160" y="1741"/>
                </a:cubicBezTo>
                <a:cubicBezTo>
                  <a:pt x="1139" y="1666"/>
                  <a:pt x="1102" y="1687"/>
                  <a:pt x="1095" y="1630"/>
                </a:cubicBezTo>
                <a:lnTo>
                  <a:pt x="1122" y="1624"/>
                </a:lnTo>
                <a:lnTo>
                  <a:pt x="1118" y="1482"/>
                </a:lnTo>
                <a:cubicBezTo>
                  <a:pt x="1108" y="1353"/>
                  <a:pt x="1083" y="1003"/>
                  <a:pt x="1059" y="847"/>
                </a:cubicBezTo>
                <a:cubicBezTo>
                  <a:pt x="1035" y="727"/>
                  <a:pt x="1002" y="666"/>
                  <a:pt x="974" y="546"/>
                </a:cubicBezTo>
                <a:cubicBezTo>
                  <a:pt x="926" y="516"/>
                  <a:pt x="827" y="498"/>
                  <a:pt x="779" y="480"/>
                </a:cubicBezTo>
                <a:lnTo>
                  <a:pt x="698" y="459"/>
                </a:lnTo>
                <a:lnTo>
                  <a:pt x="642" y="409"/>
                </a:lnTo>
                <a:lnTo>
                  <a:pt x="642" y="343"/>
                </a:lnTo>
                <a:lnTo>
                  <a:pt x="656" y="316"/>
                </a:lnTo>
                <a:cubicBezTo>
                  <a:pt x="664" y="305"/>
                  <a:pt x="687" y="292"/>
                  <a:pt x="689" y="274"/>
                </a:cubicBezTo>
                <a:cubicBezTo>
                  <a:pt x="694" y="238"/>
                  <a:pt x="684" y="214"/>
                  <a:pt x="669" y="208"/>
                </a:cubicBezTo>
                <a:cubicBezTo>
                  <a:pt x="665" y="130"/>
                  <a:pt x="657" y="102"/>
                  <a:pt x="644" y="69"/>
                </a:cubicBezTo>
                <a:lnTo>
                  <a:pt x="606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3040" y="5099040"/>
            <a:ext cx="1764000" cy="1758960"/>
          </a:xfrm>
          <a:custGeom>
            <a:avLst/>
            <a:gdLst/>
            <a:ahLst/>
            <a:rect l="l" t="t" r="r" b="b"/>
            <a:pathLst>
              <a:path w="1265" h="1108">
                <a:moveTo>
                  <a:pt x="1040" y="4"/>
                </a:moveTo>
                <a:cubicBezTo>
                  <a:pt x="1037" y="0"/>
                  <a:pt x="1026" y="21"/>
                  <a:pt x="1020" y="21"/>
                </a:cubicBezTo>
                <a:lnTo>
                  <a:pt x="1004" y="4"/>
                </a:lnTo>
                <a:lnTo>
                  <a:pt x="978" y="12"/>
                </a:lnTo>
                <a:lnTo>
                  <a:pt x="960" y="12"/>
                </a:lnTo>
                <a:lnTo>
                  <a:pt x="949" y="4"/>
                </a:lnTo>
                <a:lnTo>
                  <a:pt x="914" y="6"/>
                </a:lnTo>
                <a:lnTo>
                  <a:pt x="868" y="12"/>
                </a:lnTo>
                <a:lnTo>
                  <a:pt x="852" y="28"/>
                </a:lnTo>
                <a:lnTo>
                  <a:pt x="813" y="54"/>
                </a:lnTo>
                <a:lnTo>
                  <a:pt x="820" y="67"/>
                </a:lnTo>
                <a:lnTo>
                  <a:pt x="818" y="80"/>
                </a:lnTo>
                <a:lnTo>
                  <a:pt x="827" y="113"/>
                </a:lnTo>
                <a:lnTo>
                  <a:pt x="827" y="141"/>
                </a:lnTo>
                <a:lnTo>
                  <a:pt x="834" y="170"/>
                </a:lnTo>
                <a:lnTo>
                  <a:pt x="848" y="204"/>
                </a:lnTo>
                <a:lnTo>
                  <a:pt x="850" y="220"/>
                </a:lnTo>
                <a:lnTo>
                  <a:pt x="857" y="242"/>
                </a:lnTo>
                <a:lnTo>
                  <a:pt x="859" y="255"/>
                </a:lnTo>
                <a:lnTo>
                  <a:pt x="845" y="270"/>
                </a:lnTo>
                <a:lnTo>
                  <a:pt x="788" y="287"/>
                </a:lnTo>
                <a:lnTo>
                  <a:pt x="751" y="303"/>
                </a:lnTo>
                <a:cubicBezTo>
                  <a:pt x="740" y="307"/>
                  <a:pt x="724" y="308"/>
                  <a:pt x="717" y="314"/>
                </a:cubicBezTo>
                <a:cubicBezTo>
                  <a:pt x="710" y="319"/>
                  <a:pt x="708" y="330"/>
                  <a:pt x="708" y="340"/>
                </a:cubicBezTo>
                <a:lnTo>
                  <a:pt x="712" y="377"/>
                </a:lnTo>
                <a:lnTo>
                  <a:pt x="694" y="410"/>
                </a:lnTo>
                <a:lnTo>
                  <a:pt x="692" y="425"/>
                </a:lnTo>
                <a:lnTo>
                  <a:pt x="676" y="438"/>
                </a:lnTo>
                <a:lnTo>
                  <a:pt x="664" y="460"/>
                </a:lnTo>
                <a:lnTo>
                  <a:pt x="630" y="486"/>
                </a:lnTo>
                <a:lnTo>
                  <a:pt x="618" y="508"/>
                </a:lnTo>
                <a:lnTo>
                  <a:pt x="595" y="508"/>
                </a:lnTo>
                <a:lnTo>
                  <a:pt x="549" y="495"/>
                </a:lnTo>
                <a:lnTo>
                  <a:pt x="524" y="482"/>
                </a:lnTo>
                <a:lnTo>
                  <a:pt x="504" y="466"/>
                </a:lnTo>
                <a:lnTo>
                  <a:pt x="485" y="455"/>
                </a:lnTo>
                <a:lnTo>
                  <a:pt x="465" y="429"/>
                </a:lnTo>
                <a:lnTo>
                  <a:pt x="442" y="414"/>
                </a:lnTo>
                <a:lnTo>
                  <a:pt x="400" y="414"/>
                </a:lnTo>
                <a:lnTo>
                  <a:pt x="357" y="423"/>
                </a:lnTo>
                <a:lnTo>
                  <a:pt x="293" y="407"/>
                </a:lnTo>
                <a:lnTo>
                  <a:pt x="0" y="291"/>
                </a:lnTo>
                <a:lnTo>
                  <a:pt x="0" y="271"/>
                </a:lnTo>
                <a:lnTo>
                  <a:pt x="345" y="445"/>
                </a:lnTo>
                <a:lnTo>
                  <a:pt x="352" y="464"/>
                </a:lnTo>
                <a:lnTo>
                  <a:pt x="380" y="495"/>
                </a:lnTo>
                <a:lnTo>
                  <a:pt x="449" y="521"/>
                </a:lnTo>
                <a:lnTo>
                  <a:pt x="439" y="532"/>
                </a:lnTo>
                <a:lnTo>
                  <a:pt x="444" y="547"/>
                </a:lnTo>
                <a:lnTo>
                  <a:pt x="460" y="578"/>
                </a:lnTo>
                <a:lnTo>
                  <a:pt x="465" y="599"/>
                </a:lnTo>
                <a:lnTo>
                  <a:pt x="488" y="602"/>
                </a:lnTo>
                <a:lnTo>
                  <a:pt x="568" y="645"/>
                </a:lnTo>
                <a:lnTo>
                  <a:pt x="607" y="654"/>
                </a:lnTo>
                <a:lnTo>
                  <a:pt x="641" y="643"/>
                </a:lnTo>
                <a:lnTo>
                  <a:pt x="680" y="621"/>
                </a:lnTo>
                <a:lnTo>
                  <a:pt x="701" y="610"/>
                </a:lnTo>
                <a:lnTo>
                  <a:pt x="726" y="602"/>
                </a:lnTo>
                <a:lnTo>
                  <a:pt x="726" y="582"/>
                </a:lnTo>
                <a:lnTo>
                  <a:pt x="747" y="569"/>
                </a:lnTo>
                <a:lnTo>
                  <a:pt x="754" y="556"/>
                </a:lnTo>
                <a:lnTo>
                  <a:pt x="772" y="534"/>
                </a:lnTo>
                <a:lnTo>
                  <a:pt x="788" y="538"/>
                </a:lnTo>
                <a:lnTo>
                  <a:pt x="790" y="551"/>
                </a:lnTo>
                <a:lnTo>
                  <a:pt x="763" y="551"/>
                </a:lnTo>
                <a:lnTo>
                  <a:pt x="751" y="560"/>
                </a:lnTo>
                <a:lnTo>
                  <a:pt x="790" y="571"/>
                </a:lnTo>
                <a:lnTo>
                  <a:pt x="793" y="591"/>
                </a:lnTo>
                <a:lnTo>
                  <a:pt x="793" y="613"/>
                </a:lnTo>
                <a:lnTo>
                  <a:pt x="779" y="632"/>
                </a:lnTo>
                <a:lnTo>
                  <a:pt x="772" y="665"/>
                </a:lnTo>
                <a:lnTo>
                  <a:pt x="770" y="689"/>
                </a:lnTo>
                <a:cubicBezTo>
                  <a:pt x="764" y="695"/>
                  <a:pt x="746" y="691"/>
                  <a:pt x="735" y="700"/>
                </a:cubicBezTo>
                <a:cubicBezTo>
                  <a:pt x="725" y="709"/>
                  <a:pt x="707" y="729"/>
                  <a:pt x="703" y="741"/>
                </a:cubicBezTo>
                <a:lnTo>
                  <a:pt x="712" y="774"/>
                </a:lnTo>
                <a:lnTo>
                  <a:pt x="694" y="820"/>
                </a:lnTo>
                <a:cubicBezTo>
                  <a:pt x="689" y="832"/>
                  <a:pt x="683" y="840"/>
                  <a:pt x="680" y="848"/>
                </a:cubicBezTo>
                <a:cubicBezTo>
                  <a:pt x="678" y="857"/>
                  <a:pt x="681" y="866"/>
                  <a:pt x="680" y="874"/>
                </a:cubicBezTo>
                <a:lnTo>
                  <a:pt x="676" y="896"/>
                </a:lnTo>
                <a:cubicBezTo>
                  <a:pt x="673" y="904"/>
                  <a:pt x="666" y="909"/>
                  <a:pt x="662" y="918"/>
                </a:cubicBezTo>
                <a:cubicBezTo>
                  <a:pt x="658" y="927"/>
                  <a:pt x="653" y="941"/>
                  <a:pt x="653" y="951"/>
                </a:cubicBezTo>
                <a:lnTo>
                  <a:pt x="657" y="977"/>
                </a:lnTo>
                <a:lnTo>
                  <a:pt x="653" y="1012"/>
                </a:lnTo>
                <a:cubicBezTo>
                  <a:pt x="650" y="1020"/>
                  <a:pt x="640" y="1018"/>
                  <a:pt x="639" y="1025"/>
                </a:cubicBezTo>
                <a:cubicBezTo>
                  <a:pt x="637" y="1032"/>
                  <a:pt x="647" y="1042"/>
                  <a:pt x="644" y="1056"/>
                </a:cubicBezTo>
                <a:lnTo>
                  <a:pt x="621" y="1108"/>
                </a:lnTo>
                <a:lnTo>
                  <a:pt x="866" y="1108"/>
                </a:lnTo>
                <a:lnTo>
                  <a:pt x="891" y="1023"/>
                </a:lnTo>
                <a:lnTo>
                  <a:pt x="930" y="990"/>
                </a:lnTo>
                <a:lnTo>
                  <a:pt x="974" y="1104"/>
                </a:lnTo>
                <a:lnTo>
                  <a:pt x="1217" y="1106"/>
                </a:lnTo>
                <a:lnTo>
                  <a:pt x="1201" y="938"/>
                </a:lnTo>
                <a:lnTo>
                  <a:pt x="1189" y="922"/>
                </a:lnTo>
                <a:lnTo>
                  <a:pt x="1169" y="787"/>
                </a:lnTo>
                <a:lnTo>
                  <a:pt x="1150" y="720"/>
                </a:lnTo>
                <a:lnTo>
                  <a:pt x="1157" y="700"/>
                </a:lnTo>
                <a:lnTo>
                  <a:pt x="1178" y="702"/>
                </a:lnTo>
                <a:lnTo>
                  <a:pt x="1212" y="696"/>
                </a:lnTo>
                <a:lnTo>
                  <a:pt x="1235" y="696"/>
                </a:lnTo>
                <a:cubicBezTo>
                  <a:pt x="1243" y="688"/>
                  <a:pt x="1257" y="662"/>
                  <a:pt x="1260" y="650"/>
                </a:cubicBezTo>
                <a:cubicBezTo>
                  <a:pt x="1264" y="637"/>
                  <a:pt x="1260" y="628"/>
                  <a:pt x="1260" y="621"/>
                </a:cubicBezTo>
                <a:lnTo>
                  <a:pt x="1265" y="608"/>
                </a:lnTo>
                <a:lnTo>
                  <a:pt x="1251" y="543"/>
                </a:lnTo>
                <a:lnTo>
                  <a:pt x="1254" y="503"/>
                </a:lnTo>
                <a:lnTo>
                  <a:pt x="1265" y="484"/>
                </a:lnTo>
                <a:lnTo>
                  <a:pt x="1260" y="466"/>
                </a:lnTo>
                <a:cubicBezTo>
                  <a:pt x="1257" y="438"/>
                  <a:pt x="1259" y="343"/>
                  <a:pt x="1247" y="314"/>
                </a:cubicBezTo>
                <a:cubicBezTo>
                  <a:pt x="1234" y="284"/>
                  <a:pt x="1205" y="294"/>
                  <a:pt x="1187" y="287"/>
                </a:cubicBezTo>
                <a:lnTo>
                  <a:pt x="1134" y="272"/>
                </a:lnTo>
                <a:lnTo>
                  <a:pt x="1084" y="255"/>
                </a:lnTo>
                <a:lnTo>
                  <a:pt x="1033" y="228"/>
                </a:lnTo>
                <a:lnTo>
                  <a:pt x="1045" y="213"/>
                </a:lnTo>
                <a:lnTo>
                  <a:pt x="1045" y="200"/>
                </a:lnTo>
                <a:lnTo>
                  <a:pt x="1061" y="196"/>
                </a:lnTo>
                <a:lnTo>
                  <a:pt x="1068" y="154"/>
                </a:lnTo>
                <a:lnTo>
                  <a:pt x="1061" y="119"/>
                </a:lnTo>
                <a:lnTo>
                  <a:pt x="1052" y="89"/>
                </a:lnTo>
                <a:lnTo>
                  <a:pt x="1052" y="63"/>
                </a:lnTo>
                <a:cubicBezTo>
                  <a:pt x="1053" y="55"/>
                  <a:pt x="1063" y="44"/>
                  <a:pt x="1061" y="41"/>
                </a:cubicBezTo>
                <a:cubicBezTo>
                  <a:pt x="1059" y="37"/>
                  <a:pt x="1041" y="47"/>
                  <a:pt x="1038" y="41"/>
                </a:cubicBezTo>
                <a:cubicBezTo>
                  <a:pt x="1035" y="35"/>
                  <a:pt x="1043" y="7"/>
                  <a:pt x="1040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9869400">
            <a:off x="-55440" y="5687280"/>
            <a:ext cx="798480" cy="949320"/>
          </a:xfrm>
          <a:custGeom>
            <a:avLst/>
            <a:gdLst/>
            <a:ahLst/>
            <a:rect l="l" t="t" r="r" b="b"/>
            <a:pathLst>
              <a:path w="284" h="338">
                <a:moveTo>
                  <a:pt x="196" y="40"/>
                </a:moveTo>
                <a:cubicBezTo>
                  <a:pt x="174" y="0"/>
                  <a:pt x="105" y="14"/>
                  <a:pt x="77" y="28"/>
                </a:cubicBezTo>
                <a:cubicBezTo>
                  <a:pt x="49" y="41"/>
                  <a:pt x="0" y="87"/>
                  <a:pt x="16" y="127"/>
                </a:cubicBezTo>
                <a:lnTo>
                  <a:pt x="29" y="156"/>
                </a:lnTo>
                <a:lnTo>
                  <a:pt x="95" y="122"/>
                </a:lnTo>
                <a:lnTo>
                  <a:pt x="71" y="6"/>
                </a:lnTo>
                <a:lnTo>
                  <a:pt x="125" y="104"/>
                </a:lnTo>
                <a:lnTo>
                  <a:pt x="207" y="60"/>
                </a:lnTo>
                <a:lnTo>
                  <a:pt x="221" y="80"/>
                </a:lnTo>
                <a:lnTo>
                  <a:pt x="39" y="176"/>
                </a:lnTo>
                <a:lnTo>
                  <a:pt x="43" y="190"/>
                </a:lnTo>
                <a:lnTo>
                  <a:pt x="85" y="263"/>
                </a:lnTo>
                <a:cubicBezTo>
                  <a:pt x="110" y="316"/>
                  <a:pt x="173" y="338"/>
                  <a:pt x="221" y="317"/>
                </a:cubicBezTo>
                <a:cubicBezTo>
                  <a:pt x="270" y="294"/>
                  <a:pt x="284" y="221"/>
                  <a:pt x="260" y="172"/>
                </a:cubicBezTo>
                <a:cubicBezTo>
                  <a:pt x="230" y="107"/>
                  <a:pt x="196" y="40"/>
                  <a:pt x="196" y="40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452880" y="6312600"/>
            <a:ext cx="151200" cy="168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9360" y="5540400"/>
            <a:ext cx="763560" cy="1101600"/>
          </a:xfrm>
          <a:custGeom>
            <a:avLst/>
            <a:gdLst/>
            <a:ahLst/>
            <a:rect l="l" t="t" r="r" b="b"/>
            <a:pathLst>
              <a:path w="481" h="694">
                <a:moveTo>
                  <a:pt x="31" y="594"/>
                </a:moveTo>
                <a:cubicBezTo>
                  <a:pt x="66" y="687"/>
                  <a:pt x="352" y="694"/>
                  <a:pt x="393" y="664"/>
                </a:cubicBezTo>
                <a:cubicBezTo>
                  <a:pt x="477" y="532"/>
                  <a:pt x="0" y="345"/>
                  <a:pt x="230" y="264"/>
                </a:cubicBezTo>
                <a:cubicBezTo>
                  <a:pt x="460" y="183"/>
                  <a:pt x="433" y="19"/>
                  <a:pt x="481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1175800">
            <a:off x="4799160" y="3731760"/>
            <a:ext cx="2774880" cy="3571920"/>
          </a:xfrm>
          <a:custGeom>
            <a:avLst/>
            <a:gdLst/>
            <a:ahLst/>
            <a:rect l="l" t="t" r="r" b="b"/>
            <a:pathLst>
              <a:path w="2220" h="2878">
                <a:moveTo>
                  <a:pt x="832" y="20"/>
                </a:moveTo>
                <a:lnTo>
                  <a:pt x="784" y="20"/>
                </a:lnTo>
                <a:lnTo>
                  <a:pt x="756" y="0"/>
                </a:lnTo>
                <a:lnTo>
                  <a:pt x="676" y="20"/>
                </a:lnTo>
                <a:lnTo>
                  <a:pt x="624" y="44"/>
                </a:lnTo>
                <a:lnTo>
                  <a:pt x="568" y="112"/>
                </a:lnTo>
                <a:lnTo>
                  <a:pt x="536" y="164"/>
                </a:lnTo>
                <a:lnTo>
                  <a:pt x="508" y="208"/>
                </a:lnTo>
                <a:lnTo>
                  <a:pt x="464" y="212"/>
                </a:lnTo>
                <a:lnTo>
                  <a:pt x="392" y="164"/>
                </a:lnTo>
                <a:lnTo>
                  <a:pt x="352" y="140"/>
                </a:lnTo>
                <a:lnTo>
                  <a:pt x="300" y="164"/>
                </a:lnTo>
                <a:lnTo>
                  <a:pt x="280" y="184"/>
                </a:lnTo>
                <a:lnTo>
                  <a:pt x="216" y="184"/>
                </a:lnTo>
                <a:lnTo>
                  <a:pt x="180" y="156"/>
                </a:lnTo>
                <a:lnTo>
                  <a:pt x="108" y="152"/>
                </a:lnTo>
                <a:lnTo>
                  <a:pt x="48" y="184"/>
                </a:lnTo>
                <a:lnTo>
                  <a:pt x="16" y="184"/>
                </a:lnTo>
                <a:lnTo>
                  <a:pt x="0" y="264"/>
                </a:lnTo>
                <a:lnTo>
                  <a:pt x="4" y="312"/>
                </a:lnTo>
                <a:lnTo>
                  <a:pt x="68" y="368"/>
                </a:lnTo>
                <a:lnTo>
                  <a:pt x="124" y="408"/>
                </a:lnTo>
                <a:lnTo>
                  <a:pt x="196" y="432"/>
                </a:lnTo>
                <a:lnTo>
                  <a:pt x="224" y="460"/>
                </a:lnTo>
                <a:lnTo>
                  <a:pt x="256" y="588"/>
                </a:lnTo>
                <a:lnTo>
                  <a:pt x="272" y="636"/>
                </a:lnTo>
                <a:lnTo>
                  <a:pt x="272" y="664"/>
                </a:lnTo>
                <a:lnTo>
                  <a:pt x="276" y="724"/>
                </a:lnTo>
                <a:lnTo>
                  <a:pt x="256" y="812"/>
                </a:lnTo>
                <a:lnTo>
                  <a:pt x="248" y="900"/>
                </a:lnTo>
                <a:lnTo>
                  <a:pt x="216" y="964"/>
                </a:lnTo>
                <a:lnTo>
                  <a:pt x="216" y="1012"/>
                </a:lnTo>
                <a:lnTo>
                  <a:pt x="180" y="1072"/>
                </a:lnTo>
                <a:lnTo>
                  <a:pt x="180" y="1100"/>
                </a:lnTo>
                <a:lnTo>
                  <a:pt x="132" y="1160"/>
                </a:lnTo>
                <a:lnTo>
                  <a:pt x="144" y="1240"/>
                </a:lnTo>
                <a:lnTo>
                  <a:pt x="156" y="1296"/>
                </a:lnTo>
                <a:lnTo>
                  <a:pt x="184" y="1372"/>
                </a:lnTo>
                <a:lnTo>
                  <a:pt x="236" y="1476"/>
                </a:lnTo>
                <a:lnTo>
                  <a:pt x="268" y="1500"/>
                </a:lnTo>
                <a:lnTo>
                  <a:pt x="292" y="1500"/>
                </a:lnTo>
                <a:lnTo>
                  <a:pt x="328" y="1556"/>
                </a:lnTo>
                <a:lnTo>
                  <a:pt x="404" y="1640"/>
                </a:lnTo>
                <a:lnTo>
                  <a:pt x="412" y="1716"/>
                </a:lnTo>
                <a:lnTo>
                  <a:pt x="436" y="1772"/>
                </a:lnTo>
                <a:lnTo>
                  <a:pt x="452" y="1796"/>
                </a:lnTo>
                <a:lnTo>
                  <a:pt x="460" y="1824"/>
                </a:lnTo>
                <a:lnTo>
                  <a:pt x="452" y="1964"/>
                </a:lnTo>
                <a:lnTo>
                  <a:pt x="452" y="2152"/>
                </a:lnTo>
                <a:lnTo>
                  <a:pt x="424" y="2196"/>
                </a:lnTo>
                <a:lnTo>
                  <a:pt x="384" y="2196"/>
                </a:lnTo>
                <a:lnTo>
                  <a:pt x="264" y="2276"/>
                </a:lnTo>
                <a:lnTo>
                  <a:pt x="116" y="2392"/>
                </a:lnTo>
                <a:lnTo>
                  <a:pt x="140" y="2420"/>
                </a:lnTo>
                <a:lnTo>
                  <a:pt x="76" y="2420"/>
                </a:lnTo>
                <a:lnTo>
                  <a:pt x="16" y="2472"/>
                </a:lnTo>
                <a:lnTo>
                  <a:pt x="64" y="2572"/>
                </a:lnTo>
                <a:lnTo>
                  <a:pt x="100" y="2708"/>
                </a:lnTo>
                <a:lnTo>
                  <a:pt x="136" y="2828"/>
                </a:lnTo>
                <a:cubicBezTo>
                  <a:pt x="151" y="2851"/>
                  <a:pt x="171" y="2878"/>
                  <a:pt x="188" y="2848"/>
                </a:cubicBezTo>
                <a:cubicBezTo>
                  <a:pt x="213" y="2839"/>
                  <a:pt x="221" y="2698"/>
                  <a:pt x="240" y="2648"/>
                </a:cubicBezTo>
                <a:cubicBezTo>
                  <a:pt x="259" y="2598"/>
                  <a:pt x="280" y="2563"/>
                  <a:pt x="300" y="2548"/>
                </a:cubicBezTo>
                <a:lnTo>
                  <a:pt x="360" y="2556"/>
                </a:lnTo>
                <a:lnTo>
                  <a:pt x="408" y="2484"/>
                </a:lnTo>
                <a:lnTo>
                  <a:pt x="524" y="2420"/>
                </a:lnTo>
                <a:lnTo>
                  <a:pt x="680" y="2340"/>
                </a:lnTo>
                <a:lnTo>
                  <a:pt x="736" y="2224"/>
                </a:lnTo>
                <a:lnTo>
                  <a:pt x="752" y="2144"/>
                </a:lnTo>
                <a:lnTo>
                  <a:pt x="744" y="2076"/>
                </a:lnTo>
                <a:lnTo>
                  <a:pt x="748" y="1972"/>
                </a:lnTo>
                <a:lnTo>
                  <a:pt x="756" y="1720"/>
                </a:lnTo>
                <a:lnTo>
                  <a:pt x="736" y="1644"/>
                </a:lnTo>
                <a:lnTo>
                  <a:pt x="728" y="1584"/>
                </a:lnTo>
                <a:lnTo>
                  <a:pt x="728" y="1500"/>
                </a:lnTo>
                <a:lnTo>
                  <a:pt x="756" y="1412"/>
                </a:lnTo>
                <a:lnTo>
                  <a:pt x="808" y="1412"/>
                </a:lnTo>
                <a:lnTo>
                  <a:pt x="844" y="1332"/>
                </a:lnTo>
                <a:lnTo>
                  <a:pt x="888" y="1304"/>
                </a:lnTo>
                <a:lnTo>
                  <a:pt x="940" y="1320"/>
                </a:lnTo>
                <a:lnTo>
                  <a:pt x="980" y="1308"/>
                </a:lnTo>
                <a:lnTo>
                  <a:pt x="1060" y="1292"/>
                </a:lnTo>
                <a:lnTo>
                  <a:pt x="1164" y="1312"/>
                </a:lnTo>
                <a:lnTo>
                  <a:pt x="1240" y="1304"/>
                </a:lnTo>
                <a:lnTo>
                  <a:pt x="1260" y="1328"/>
                </a:lnTo>
                <a:lnTo>
                  <a:pt x="1312" y="1332"/>
                </a:lnTo>
                <a:lnTo>
                  <a:pt x="1364" y="1360"/>
                </a:lnTo>
                <a:lnTo>
                  <a:pt x="1400" y="1380"/>
                </a:lnTo>
                <a:lnTo>
                  <a:pt x="1488" y="1384"/>
                </a:lnTo>
                <a:lnTo>
                  <a:pt x="1548" y="1460"/>
                </a:lnTo>
                <a:lnTo>
                  <a:pt x="1672" y="1484"/>
                </a:lnTo>
                <a:lnTo>
                  <a:pt x="1744" y="1500"/>
                </a:lnTo>
                <a:lnTo>
                  <a:pt x="1808" y="1488"/>
                </a:lnTo>
                <a:lnTo>
                  <a:pt x="1856" y="1432"/>
                </a:lnTo>
                <a:lnTo>
                  <a:pt x="1908" y="1304"/>
                </a:lnTo>
                <a:lnTo>
                  <a:pt x="1912" y="1228"/>
                </a:lnTo>
                <a:lnTo>
                  <a:pt x="1896" y="1148"/>
                </a:lnTo>
                <a:lnTo>
                  <a:pt x="1932" y="1028"/>
                </a:lnTo>
                <a:lnTo>
                  <a:pt x="1996" y="936"/>
                </a:lnTo>
                <a:lnTo>
                  <a:pt x="2032" y="832"/>
                </a:lnTo>
                <a:lnTo>
                  <a:pt x="2168" y="856"/>
                </a:lnTo>
                <a:lnTo>
                  <a:pt x="2196" y="860"/>
                </a:lnTo>
                <a:lnTo>
                  <a:pt x="2220" y="140"/>
                </a:lnTo>
                <a:lnTo>
                  <a:pt x="2144" y="132"/>
                </a:lnTo>
                <a:lnTo>
                  <a:pt x="1988" y="136"/>
                </a:lnTo>
                <a:lnTo>
                  <a:pt x="1788" y="108"/>
                </a:lnTo>
                <a:lnTo>
                  <a:pt x="1724" y="120"/>
                </a:lnTo>
                <a:lnTo>
                  <a:pt x="1712" y="188"/>
                </a:lnTo>
                <a:lnTo>
                  <a:pt x="1724" y="320"/>
                </a:lnTo>
                <a:lnTo>
                  <a:pt x="1652" y="340"/>
                </a:lnTo>
                <a:lnTo>
                  <a:pt x="1674" y="356"/>
                </a:lnTo>
                <a:lnTo>
                  <a:pt x="1723" y="351"/>
                </a:lnTo>
                <a:lnTo>
                  <a:pt x="1724" y="536"/>
                </a:lnTo>
                <a:lnTo>
                  <a:pt x="1660" y="536"/>
                </a:lnTo>
                <a:lnTo>
                  <a:pt x="1620" y="548"/>
                </a:lnTo>
                <a:lnTo>
                  <a:pt x="1712" y="584"/>
                </a:lnTo>
                <a:lnTo>
                  <a:pt x="1720" y="612"/>
                </a:lnTo>
                <a:lnTo>
                  <a:pt x="1700" y="780"/>
                </a:lnTo>
                <a:lnTo>
                  <a:pt x="1668" y="820"/>
                </a:lnTo>
                <a:lnTo>
                  <a:pt x="1664" y="868"/>
                </a:lnTo>
                <a:lnTo>
                  <a:pt x="1632" y="904"/>
                </a:lnTo>
                <a:lnTo>
                  <a:pt x="1564" y="900"/>
                </a:lnTo>
                <a:lnTo>
                  <a:pt x="1496" y="924"/>
                </a:lnTo>
                <a:lnTo>
                  <a:pt x="1424" y="952"/>
                </a:lnTo>
                <a:lnTo>
                  <a:pt x="1384" y="980"/>
                </a:lnTo>
                <a:lnTo>
                  <a:pt x="1368" y="1008"/>
                </a:lnTo>
                <a:lnTo>
                  <a:pt x="1216" y="992"/>
                </a:lnTo>
                <a:lnTo>
                  <a:pt x="1168" y="956"/>
                </a:lnTo>
                <a:lnTo>
                  <a:pt x="1088" y="956"/>
                </a:lnTo>
                <a:lnTo>
                  <a:pt x="992" y="956"/>
                </a:lnTo>
                <a:lnTo>
                  <a:pt x="924" y="940"/>
                </a:lnTo>
                <a:lnTo>
                  <a:pt x="892" y="924"/>
                </a:lnTo>
                <a:lnTo>
                  <a:pt x="876" y="884"/>
                </a:lnTo>
                <a:lnTo>
                  <a:pt x="888" y="832"/>
                </a:lnTo>
                <a:lnTo>
                  <a:pt x="912" y="784"/>
                </a:lnTo>
                <a:lnTo>
                  <a:pt x="928" y="728"/>
                </a:lnTo>
                <a:lnTo>
                  <a:pt x="976" y="712"/>
                </a:lnTo>
                <a:lnTo>
                  <a:pt x="1060" y="732"/>
                </a:lnTo>
                <a:lnTo>
                  <a:pt x="1204" y="740"/>
                </a:lnTo>
                <a:lnTo>
                  <a:pt x="1288" y="712"/>
                </a:lnTo>
                <a:lnTo>
                  <a:pt x="1388" y="660"/>
                </a:lnTo>
                <a:lnTo>
                  <a:pt x="1468" y="592"/>
                </a:lnTo>
                <a:lnTo>
                  <a:pt x="1520" y="536"/>
                </a:lnTo>
                <a:lnTo>
                  <a:pt x="1544" y="508"/>
                </a:lnTo>
                <a:lnTo>
                  <a:pt x="1592" y="520"/>
                </a:lnTo>
                <a:lnTo>
                  <a:pt x="1624" y="548"/>
                </a:lnTo>
                <a:lnTo>
                  <a:pt x="1647" y="536"/>
                </a:lnTo>
                <a:lnTo>
                  <a:pt x="1612" y="492"/>
                </a:lnTo>
                <a:lnTo>
                  <a:pt x="1632" y="456"/>
                </a:lnTo>
                <a:lnTo>
                  <a:pt x="1632" y="420"/>
                </a:lnTo>
                <a:lnTo>
                  <a:pt x="1648" y="376"/>
                </a:lnTo>
                <a:lnTo>
                  <a:pt x="1672" y="356"/>
                </a:lnTo>
                <a:lnTo>
                  <a:pt x="1656" y="341"/>
                </a:lnTo>
                <a:lnTo>
                  <a:pt x="1584" y="344"/>
                </a:lnTo>
                <a:lnTo>
                  <a:pt x="1536" y="356"/>
                </a:lnTo>
                <a:lnTo>
                  <a:pt x="1540" y="392"/>
                </a:lnTo>
                <a:lnTo>
                  <a:pt x="1496" y="424"/>
                </a:lnTo>
                <a:lnTo>
                  <a:pt x="1444" y="464"/>
                </a:lnTo>
                <a:lnTo>
                  <a:pt x="1444" y="492"/>
                </a:lnTo>
                <a:lnTo>
                  <a:pt x="1392" y="492"/>
                </a:lnTo>
                <a:lnTo>
                  <a:pt x="1384" y="520"/>
                </a:lnTo>
                <a:lnTo>
                  <a:pt x="1340" y="520"/>
                </a:lnTo>
                <a:lnTo>
                  <a:pt x="1300" y="540"/>
                </a:lnTo>
                <a:lnTo>
                  <a:pt x="1236" y="572"/>
                </a:lnTo>
                <a:lnTo>
                  <a:pt x="1208" y="584"/>
                </a:lnTo>
                <a:lnTo>
                  <a:pt x="1148" y="564"/>
                </a:lnTo>
                <a:lnTo>
                  <a:pt x="1080" y="556"/>
                </a:lnTo>
                <a:lnTo>
                  <a:pt x="1048" y="528"/>
                </a:lnTo>
                <a:lnTo>
                  <a:pt x="1028" y="500"/>
                </a:lnTo>
                <a:lnTo>
                  <a:pt x="1012" y="480"/>
                </a:lnTo>
                <a:lnTo>
                  <a:pt x="976" y="432"/>
                </a:lnTo>
                <a:lnTo>
                  <a:pt x="936" y="388"/>
                </a:lnTo>
                <a:lnTo>
                  <a:pt x="904" y="368"/>
                </a:lnTo>
                <a:lnTo>
                  <a:pt x="844" y="372"/>
                </a:lnTo>
                <a:lnTo>
                  <a:pt x="824" y="344"/>
                </a:lnTo>
                <a:lnTo>
                  <a:pt x="820" y="316"/>
                </a:lnTo>
                <a:lnTo>
                  <a:pt x="844" y="264"/>
                </a:lnTo>
                <a:lnTo>
                  <a:pt x="860" y="212"/>
                </a:lnTo>
                <a:lnTo>
                  <a:pt x="868" y="152"/>
                </a:lnTo>
                <a:lnTo>
                  <a:pt x="880" y="120"/>
                </a:lnTo>
                <a:lnTo>
                  <a:pt x="876" y="96"/>
                </a:lnTo>
                <a:lnTo>
                  <a:pt x="856" y="72"/>
                </a:lnTo>
                <a:lnTo>
                  <a:pt x="852" y="48"/>
                </a:lnTo>
                <a:lnTo>
                  <a:pt x="832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7037280" y="2232000"/>
            <a:ext cx="1641600" cy="4492800"/>
          </a:xfrm>
          <a:custGeom>
            <a:avLst/>
            <a:gdLst/>
            <a:ahLst/>
            <a:rect l="l" t="t" r="r" b="b"/>
            <a:pathLst>
              <a:path w="1243" h="3407">
                <a:moveTo>
                  <a:pt x="109" y="377"/>
                </a:moveTo>
                <a:lnTo>
                  <a:pt x="128" y="466"/>
                </a:lnTo>
                <a:cubicBezTo>
                  <a:pt x="137" y="505"/>
                  <a:pt x="151" y="571"/>
                  <a:pt x="166" y="611"/>
                </a:cubicBezTo>
                <a:cubicBezTo>
                  <a:pt x="181" y="651"/>
                  <a:pt x="222" y="678"/>
                  <a:pt x="217" y="704"/>
                </a:cubicBezTo>
                <a:lnTo>
                  <a:pt x="133" y="770"/>
                </a:lnTo>
                <a:cubicBezTo>
                  <a:pt x="112" y="788"/>
                  <a:pt x="98" y="794"/>
                  <a:pt x="92" y="813"/>
                </a:cubicBezTo>
                <a:cubicBezTo>
                  <a:pt x="85" y="829"/>
                  <a:pt x="95" y="865"/>
                  <a:pt x="95" y="884"/>
                </a:cubicBezTo>
                <a:cubicBezTo>
                  <a:pt x="95" y="903"/>
                  <a:pt x="88" y="905"/>
                  <a:pt x="91" y="926"/>
                </a:cubicBezTo>
                <a:lnTo>
                  <a:pt x="112" y="1008"/>
                </a:lnTo>
                <a:lnTo>
                  <a:pt x="128" y="1079"/>
                </a:lnTo>
                <a:lnTo>
                  <a:pt x="113" y="1112"/>
                </a:lnTo>
                <a:lnTo>
                  <a:pt x="104" y="1192"/>
                </a:lnTo>
                <a:lnTo>
                  <a:pt x="113" y="1274"/>
                </a:lnTo>
                <a:cubicBezTo>
                  <a:pt x="115" y="1297"/>
                  <a:pt x="111" y="1314"/>
                  <a:pt x="113" y="1332"/>
                </a:cubicBezTo>
                <a:cubicBezTo>
                  <a:pt x="115" y="1351"/>
                  <a:pt x="122" y="1366"/>
                  <a:pt x="124" y="1383"/>
                </a:cubicBezTo>
                <a:cubicBezTo>
                  <a:pt x="126" y="1400"/>
                  <a:pt x="125" y="1418"/>
                  <a:pt x="128" y="1434"/>
                </a:cubicBezTo>
                <a:cubicBezTo>
                  <a:pt x="123" y="1450"/>
                  <a:pt x="99" y="1467"/>
                  <a:pt x="95" y="1487"/>
                </a:cubicBezTo>
                <a:cubicBezTo>
                  <a:pt x="91" y="1507"/>
                  <a:pt x="103" y="1535"/>
                  <a:pt x="104" y="1555"/>
                </a:cubicBezTo>
                <a:lnTo>
                  <a:pt x="95" y="1595"/>
                </a:lnTo>
                <a:lnTo>
                  <a:pt x="85" y="1629"/>
                </a:lnTo>
                <a:lnTo>
                  <a:pt x="88" y="1674"/>
                </a:lnTo>
                <a:cubicBezTo>
                  <a:pt x="86" y="1687"/>
                  <a:pt x="74" y="1696"/>
                  <a:pt x="71" y="1707"/>
                </a:cubicBezTo>
                <a:cubicBezTo>
                  <a:pt x="68" y="1718"/>
                  <a:pt x="79" y="1728"/>
                  <a:pt x="68" y="1743"/>
                </a:cubicBezTo>
                <a:cubicBezTo>
                  <a:pt x="58" y="1758"/>
                  <a:pt x="18" y="1782"/>
                  <a:pt x="10" y="1800"/>
                </a:cubicBezTo>
                <a:cubicBezTo>
                  <a:pt x="0" y="1817"/>
                  <a:pt x="11" y="1822"/>
                  <a:pt x="19" y="1854"/>
                </a:cubicBezTo>
                <a:lnTo>
                  <a:pt x="28" y="1916"/>
                </a:lnTo>
                <a:lnTo>
                  <a:pt x="64" y="1982"/>
                </a:lnTo>
                <a:lnTo>
                  <a:pt x="71" y="2037"/>
                </a:lnTo>
                <a:lnTo>
                  <a:pt x="85" y="2090"/>
                </a:lnTo>
                <a:lnTo>
                  <a:pt x="173" y="2259"/>
                </a:lnTo>
                <a:lnTo>
                  <a:pt x="223" y="2352"/>
                </a:lnTo>
                <a:lnTo>
                  <a:pt x="249" y="2402"/>
                </a:lnTo>
                <a:lnTo>
                  <a:pt x="301" y="2490"/>
                </a:lnTo>
                <a:lnTo>
                  <a:pt x="335" y="2559"/>
                </a:lnTo>
                <a:lnTo>
                  <a:pt x="362" y="2615"/>
                </a:lnTo>
                <a:cubicBezTo>
                  <a:pt x="371" y="2634"/>
                  <a:pt x="385" y="2659"/>
                  <a:pt x="391" y="2676"/>
                </a:cubicBezTo>
                <a:cubicBezTo>
                  <a:pt x="397" y="2693"/>
                  <a:pt x="392" y="2702"/>
                  <a:pt x="401" y="2717"/>
                </a:cubicBezTo>
                <a:lnTo>
                  <a:pt x="443" y="2765"/>
                </a:lnTo>
                <a:lnTo>
                  <a:pt x="346" y="2816"/>
                </a:lnTo>
                <a:lnTo>
                  <a:pt x="262" y="2874"/>
                </a:lnTo>
                <a:cubicBezTo>
                  <a:pt x="248" y="2892"/>
                  <a:pt x="263" y="2915"/>
                  <a:pt x="263" y="2922"/>
                </a:cubicBezTo>
                <a:cubicBezTo>
                  <a:pt x="263" y="2929"/>
                  <a:pt x="254" y="2913"/>
                  <a:pt x="260" y="2919"/>
                </a:cubicBezTo>
                <a:cubicBezTo>
                  <a:pt x="266" y="2932"/>
                  <a:pt x="276" y="2956"/>
                  <a:pt x="298" y="2958"/>
                </a:cubicBezTo>
                <a:lnTo>
                  <a:pt x="386" y="2942"/>
                </a:lnTo>
                <a:lnTo>
                  <a:pt x="367" y="2961"/>
                </a:lnTo>
                <a:lnTo>
                  <a:pt x="341" y="3069"/>
                </a:lnTo>
                <a:lnTo>
                  <a:pt x="370" y="3103"/>
                </a:lnTo>
                <a:lnTo>
                  <a:pt x="298" y="3273"/>
                </a:lnTo>
                <a:lnTo>
                  <a:pt x="268" y="3344"/>
                </a:lnTo>
                <a:cubicBezTo>
                  <a:pt x="266" y="3363"/>
                  <a:pt x="269" y="3380"/>
                  <a:pt x="284" y="3389"/>
                </a:cubicBezTo>
                <a:cubicBezTo>
                  <a:pt x="296" y="3397"/>
                  <a:pt x="335" y="3407"/>
                  <a:pt x="361" y="3396"/>
                </a:cubicBezTo>
                <a:lnTo>
                  <a:pt x="443" y="3321"/>
                </a:lnTo>
                <a:lnTo>
                  <a:pt x="491" y="3249"/>
                </a:lnTo>
                <a:lnTo>
                  <a:pt x="515" y="3140"/>
                </a:lnTo>
                <a:lnTo>
                  <a:pt x="564" y="3103"/>
                </a:lnTo>
                <a:lnTo>
                  <a:pt x="588" y="3055"/>
                </a:lnTo>
                <a:lnTo>
                  <a:pt x="631" y="2934"/>
                </a:lnTo>
                <a:lnTo>
                  <a:pt x="647" y="2831"/>
                </a:lnTo>
                <a:lnTo>
                  <a:pt x="668" y="2811"/>
                </a:lnTo>
                <a:cubicBezTo>
                  <a:pt x="671" y="2801"/>
                  <a:pt x="665" y="2789"/>
                  <a:pt x="667" y="2771"/>
                </a:cubicBezTo>
                <a:cubicBezTo>
                  <a:pt x="669" y="2753"/>
                  <a:pt x="679" y="2716"/>
                  <a:pt x="680" y="2702"/>
                </a:cubicBezTo>
                <a:cubicBezTo>
                  <a:pt x="678" y="2685"/>
                  <a:pt x="670" y="2695"/>
                  <a:pt x="670" y="2685"/>
                </a:cubicBezTo>
                <a:lnTo>
                  <a:pt x="679" y="2640"/>
                </a:lnTo>
                <a:lnTo>
                  <a:pt x="676" y="2589"/>
                </a:lnTo>
                <a:lnTo>
                  <a:pt x="685" y="2499"/>
                </a:lnTo>
                <a:lnTo>
                  <a:pt x="703" y="2448"/>
                </a:lnTo>
                <a:lnTo>
                  <a:pt x="712" y="2400"/>
                </a:lnTo>
                <a:lnTo>
                  <a:pt x="718" y="2331"/>
                </a:lnTo>
                <a:lnTo>
                  <a:pt x="733" y="2257"/>
                </a:lnTo>
                <a:lnTo>
                  <a:pt x="760" y="2133"/>
                </a:lnTo>
                <a:cubicBezTo>
                  <a:pt x="771" y="2106"/>
                  <a:pt x="793" y="2115"/>
                  <a:pt x="799" y="2096"/>
                </a:cubicBezTo>
                <a:cubicBezTo>
                  <a:pt x="805" y="2077"/>
                  <a:pt x="802" y="2051"/>
                  <a:pt x="796" y="2021"/>
                </a:cubicBezTo>
                <a:lnTo>
                  <a:pt x="764" y="1916"/>
                </a:lnTo>
                <a:lnTo>
                  <a:pt x="769" y="1788"/>
                </a:lnTo>
                <a:lnTo>
                  <a:pt x="757" y="1725"/>
                </a:lnTo>
                <a:lnTo>
                  <a:pt x="758" y="1676"/>
                </a:lnTo>
                <a:lnTo>
                  <a:pt x="745" y="1625"/>
                </a:lnTo>
                <a:lnTo>
                  <a:pt x="740" y="1476"/>
                </a:lnTo>
                <a:lnTo>
                  <a:pt x="757" y="1418"/>
                </a:lnTo>
                <a:lnTo>
                  <a:pt x="767" y="1338"/>
                </a:lnTo>
                <a:lnTo>
                  <a:pt x="787" y="1280"/>
                </a:lnTo>
                <a:lnTo>
                  <a:pt x="797" y="1223"/>
                </a:lnTo>
                <a:lnTo>
                  <a:pt x="806" y="1218"/>
                </a:lnTo>
                <a:lnTo>
                  <a:pt x="842" y="1223"/>
                </a:lnTo>
                <a:lnTo>
                  <a:pt x="997" y="1176"/>
                </a:lnTo>
                <a:lnTo>
                  <a:pt x="1070" y="1137"/>
                </a:lnTo>
                <a:lnTo>
                  <a:pt x="1093" y="1083"/>
                </a:lnTo>
                <a:cubicBezTo>
                  <a:pt x="1116" y="1063"/>
                  <a:pt x="1187" y="1039"/>
                  <a:pt x="1207" y="1017"/>
                </a:cubicBezTo>
                <a:cubicBezTo>
                  <a:pt x="1226" y="993"/>
                  <a:pt x="1204" y="970"/>
                  <a:pt x="1210" y="951"/>
                </a:cubicBezTo>
                <a:cubicBezTo>
                  <a:pt x="1216" y="932"/>
                  <a:pt x="1238" y="919"/>
                  <a:pt x="1241" y="902"/>
                </a:cubicBezTo>
                <a:cubicBezTo>
                  <a:pt x="1243" y="881"/>
                  <a:pt x="1230" y="867"/>
                  <a:pt x="1229" y="848"/>
                </a:cubicBezTo>
                <a:cubicBezTo>
                  <a:pt x="1228" y="829"/>
                  <a:pt x="1242" y="810"/>
                  <a:pt x="1237" y="789"/>
                </a:cubicBezTo>
                <a:cubicBezTo>
                  <a:pt x="1234" y="763"/>
                  <a:pt x="1208" y="745"/>
                  <a:pt x="1201" y="720"/>
                </a:cubicBezTo>
                <a:cubicBezTo>
                  <a:pt x="1195" y="689"/>
                  <a:pt x="1208" y="660"/>
                  <a:pt x="1195" y="641"/>
                </a:cubicBezTo>
                <a:cubicBezTo>
                  <a:pt x="1179" y="620"/>
                  <a:pt x="1144" y="620"/>
                  <a:pt x="1121" y="608"/>
                </a:cubicBezTo>
                <a:cubicBezTo>
                  <a:pt x="1098" y="596"/>
                  <a:pt x="1069" y="583"/>
                  <a:pt x="1055" y="569"/>
                </a:cubicBezTo>
                <a:cubicBezTo>
                  <a:pt x="1037" y="556"/>
                  <a:pt x="1038" y="541"/>
                  <a:pt x="1037" y="522"/>
                </a:cubicBezTo>
                <a:cubicBezTo>
                  <a:pt x="1036" y="503"/>
                  <a:pt x="1044" y="481"/>
                  <a:pt x="1051" y="452"/>
                </a:cubicBezTo>
                <a:cubicBezTo>
                  <a:pt x="1058" y="423"/>
                  <a:pt x="1076" y="374"/>
                  <a:pt x="1081" y="345"/>
                </a:cubicBezTo>
                <a:cubicBezTo>
                  <a:pt x="1088" y="304"/>
                  <a:pt x="1087" y="297"/>
                  <a:pt x="1082" y="281"/>
                </a:cubicBezTo>
                <a:cubicBezTo>
                  <a:pt x="1077" y="265"/>
                  <a:pt x="1066" y="251"/>
                  <a:pt x="1052" y="246"/>
                </a:cubicBezTo>
                <a:cubicBezTo>
                  <a:pt x="1040" y="242"/>
                  <a:pt x="1016" y="232"/>
                  <a:pt x="999" y="249"/>
                </a:cubicBezTo>
                <a:cubicBezTo>
                  <a:pt x="983" y="265"/>
                  <a:pt x="963" y="309"/>
                  <a:pt x="953" y="344"/>
                </a:cubicBezTo>
                <a:cubicBezTo>
                  <a:pt x="945" y="376"/>
                  <a:pt x="945" y="434"/>
                  <a:pt x="941" y="462"/>
                </a:cubicBezTo>
                <a:lnTo>
                  <a:pt x="927" y="515"/>
                </a:lnTo>
                <a:lnTo>
                  <a:pt x="907" y="545"/>
                </a:lnTo>
                <a:lnTo>
                  <a:pt x="883" y="626"/>
                </a:lnTo>
                <a:lnTo>
                  <a:pt x="866" y="690"/>
                </a:lnTo>
                <a:lnTo>
                  <a:pt x="869" y="780"/>
                </a:lnTo>
                <a:lnTo>
                  <a:pt x="860" y="782"/>
                </a:lnTo>
                <a:lnTo>
                  <a:pt x="832" y="699"/>
                </a:lnTo>
                <a:lnTo>
                  <a:pt x="794" y="659"/>
                </a:lnTo>
                <a:cubicBezTo>
                  <a:pt x="777" y="648"/>
                  <a:pt x="750" y="636"/>
                  <a:pt x="727" y="633"/>
                </a:cubicBezTo>
                <a:cubicBezTo>
                  <a:pt x="706" y="630"/>
                  <a:pt x="677" y="642"/>
                  <a:pt x="656" y="641"/>
                </a:cubicBezTo>
                <a:cubicBezTo>
                  <a:pt x="634" y="640"/>
                  <a:pt x="610" y="632"/>
                  <a:pt x="602" y="627"/>
                </a:cubicBezTo>
                <a:lnTo>
                  <a:pt x="605" y="609"/>
                </a:lnTo>
                <a:lnTo>
                  <a:pt x="533" y="545"/>
                </a:lnTo>
                <a:cubicBezTo>
                  <a:pt x="524" y="530"/>
                  <a:pt x="544" y="530"/>
                  <a:pt x="550" y="521"/>
                </a:cubicBezTo>
                <a:cubicBezTo>
                  <a:pt x="556" y="512"/>
                  <a:pt x="565" y="503"/>
                  <a:pt x="572" y="489"/>
                </a:cubicBezTo>
                <a:cubicBezTo>
                  <a:pt x="582" y="469"/>
                  <a:pt x="591" y="455"/>
                  <a:pt x="595" y="434"/>
                </a:cubicBezTo>
                <a:cubicBezTo>
                  <a:pt x="597" y="419"/>
                  <a:pt x="596" y="402"/>
                  <a:pt x="593" y="399"/>
                </a:cubicBezTo>
                <a:cubicBezTo>
                  <a:pt x="590" y="396"/>
                  <a:pt x="578" y="393"/>
                  <a:pt x="578" y="389"/>
                </a:cubicBezTo>
                <a:cubicBezTo>
                  <a:pt x="578" y="385"/>
                  <a:pt x="588" y="378"/>
                  <a:pt x="592" y="374"/>
                </a:cubicBezTo>
                <a:lnTo>
                  <a:pt x="604" y="365"/>
                </a:lnTo>
                <a:lnTo>
                  <a:pt x="599" y="342"/>
                </a:lnTo>
                <a:lnTo>
                  <a:pt x="613" y="345"/>
                </a:lnTo>
                <a:lnTo>
                  <a:pt x="602" y="306"/>
                </a:lnTo>
                <a:cubicBezTo>
                  <a:pt x="603" y="298"/>
                  <a:pt x="617" y="300"/>
                  <a:pt x="617" y="294"/>
                </a:cubicBezTo>
                <a:cubicBezTo>
                  <a:pt x="618" y="290"/>
                  <a:pt x="600" y="277"/>
                  <a:pt x="599" y="270"/>
                </a:cubicBezTo>
                <a:lnTo>
                  <a:pt x="622" y="261"/>
                </a:lnTo>
                <a:cubicBezTo>
                  <a:pt x="621" y="252"/>
                  <a:pt x="594" y="221"/>
                  <a:pt x="593" y="216"/>
                </a:cubicBezTo>
                <a:cubicBezTo>
                  <a:pt x="594" y="211"/>
                  <a:pt x="623" y="249"/>
                  <a:pt x="617" y="231"/>
                </a:cubicBezTo>
                <a:cubicBezTo>
                  <a:pt x="611" y="213"/>
                  <a:pt x="599" y="197"/>
                  <a:pt x="595" y="189"/>
                </a:cubicBezTo>
                <a:cubicBezTo>
                  <a:pt x="591" y="182"/>
                  <a:pt x="575" y="164"/>
                  <a:pt x="604" y="177"/>
                </a:cubicBezTo>
                <a:cubicBezTo>
                  <a:pt x="633" y="190"/>
                  <a:pt x="581" y="155"/>
                  <a:pt x="575" y="146"/>
                </a:cubicBezTo>
                <a:cubicBezTo>
                  <a:pt x="569" y="137"/>
                  <a:pt x="565" y="127"/>
                  <a:pt x="566" y="122"/>
                </a:cubicBezTo>
                <a:cubicBezTo>
                  <a:pt x="567" y="117"/>
                  <a:pt x="584" y="121"/>
                  <a:pt x="581" y="117"/>
                </a:cubicBezTo>
                <a:cubicBezTo>
                  <a:pt x="578" y="113"/>
                  <a:pt x="560" y="107"/>
                  <a:pt x="550" y="98"/>
                </a:cubicBezTo>
                <a:cubicBezTo>
                  <a:pt x="540" y="89"/>
                  <a:pt x="537" y="74"/>
                  <a:pt x="523" y="63"/>
                </a:cubicBezTo>
                <a:cubicBezTo>
                  <a:pt x="507" y="48"/>
                  <a:pt x="485" y="40"/>
                  <a:pt x="467" y="31"/>
                </a:cubicBezTo>
                <a:cubicBezTo>
                  <a:pt x="449" y="22"/>
                  <a:pt x="434" y="16"/>
                  <a:pt x="416" y="11"/>
                </a:cubicBezTo>
                <a:cubicBezTo>
                  <a:pt x="398" y="6"/>
                  <a:pt x="378" y="0"/>
                  <a:pt x="359" y="2"/>
                </a:cubicBezTo>
                <a:cubicBezTo>
                  <a:pt x="339" y="5"/>
                  <a:pt x="321" y="19"/>
                  <a:pt x="304" y="21"/>
                </a:cubicBezTo>
                <a:cubicBezTo>
                  <a:pt x="287" y="23"/>
                  <a:pt x="275" y="8"/>
                  <a:pt x="256" y="12"/>
                </a:cubicBezTo>
                <a:cubicBezTo>
                  <a:pt x="239" y="15"/>
                  <a:pt x="208" y="31"/>
                  <a:pt x="190" y="44"/>
                </a:cubicBezTo>
                <a:lnTo>
                  <a:pt x="136" y="87"/>
                </a:lnTo>
                <a:cubicBezTo>
                  <a:pt x="127" y="92"/>
                  <a:pt x="137" y="72"/>
                  <a:pt x="134" y="75"/>
                </a:cubicBezTo>
                <a:cubicBezTo>
                  <a:pt x="132" y="77"/>
                  <a:pt x="125" y="96"/>
                  <a:pt x="121" y="104"/>
                </a:cubicBezTo>
                <a:cubicBezTo>
                  <a:pt x="118" y="105"/>
                  <a:pt x="117" y="80"/>
                  <a:pt x="115" y="84"/>
                </a:cubicBezTo>
                <a:cubicBezTo>
                  <a:pt x="113" y="88"/>
                  <a:pt x="115" y="111"/>
                  <a:pt x="112" y="126"/>
                </a:cubicBezTo>
                <a:cubicBezTo>
                  <a:pt x="109" y="141"/>
                  <a:pt x="100" y="170"/>
                  <a:pt x="94" y="174"/>
                </a:cubicBezTo>
                <a:cubicBezTo>
                  <a:pt x="90" y="187"/>
                  <a:pt x="72" y="133"/>
                  <a:pt x="77" y="152"/>
                </a:cubicBezTo>
                <a:cubicBezTo>
                  <a:pt x="82" y="171"/>
                  <a:pt x="86" y="196"/>
                  <a:pt x="85" y="200"/>
                </a:cubicBezTo>
                <a:cubicBezTo>
                  <a:pt x="84" y="204"/>
                  <a:pt x="73" y="170"/>
                  <a:pt x="70" y="176"/>
                </a:cubicBezTo>
                <a:cubicBezTo>
                  <a:pt x="87" y="212"/>
                  <a:pt x="67" y="215"/>
                  <a:pt x="68" y="237"/>
                </a:cubicBezTo>
                <a:cubicBezTo>
                  <a:pt x="66" y="252"/>
                  <a:pt x="77" y="263"/>
                  <a:pt x="58" y="269"/>
                </a:cubicBezTo>
                <a:cubicBezTo>
                  <a:pt x="39" y="275"/>
                  <a:pt x="77" y="275"/>
                  <a:pt x="77" y="279"/>
                </a:cubicBezTo>
                <a:cubicBezTo>
                  <a:pt x="77" y="283"/>
                  <a:pt x="74" y="297"/>
                  <a:pt x="58" y="294"/>
                </a:cubicBezTo>
                <a:cubicBezTo>
                  <a:pt x="42" y="291"/>
                  <a:pt x="80" y="310"/>
                  <a:pt x="85" y="318"/>
                </a:cubicBezTo>
                <a:cubicBezTo>
                  <a:pt x="90" y="326"/>
                  <a:pt x="85" y="334"/>
                  <a:pt x="89" y="344"/>
                </a:cubicBezTo>
                <a:lnTo>
                  <a:pt x="109" y="3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912240" y="2743560"/>
            <a:ext cx="10327680" cy="3886200"/>
            <a:chOff x="-912240" y="2743560"/>
            <a:chExt cx="10327680" cy="3886200"/>
          </a:xfrm>
        </p:grpSpPr>
        <p:pic>
          <p:nvPicPr>
            <p:cNvPr id="107" name="" descr=""/>
            <p:cNvPicPr/>
            <p:nvPr/>
          </p:nvPicPr>
          <p:blipFill>
            <a:blip r:embed="rId6"/>
            <a:srcRect l="0" t="8527" r="0" b="-23"/>
            <a:stretch/>
          </p:blipFill>
          <p:spPr>
            <a:xfrm flipH="1" rot="21468600">
              <a:off x="926280" y="3537360"/>
              <a:ext cx="8422920" cy="24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7"/>
            <a:srcRect l="0" t="8527" r="0" b="-23"/>
            <a:stretch/>
          </p:blipFill>
          <p:spPr>
            <a:xfrm flipH="1" rot="21260400">
              <a:off x="-793440" y="3233880"/>
              <a:ext cx="10090440" cy="290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4720" y="1576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2fbb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a2fbb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9292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9292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2fbb"/>
            </a:gs>
            <a:gs pos="100000">
              <a:srgbClr val="0091d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654200" y="1622520"/>
            <a:ext cx="585468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11d76"/>
                    </a:gs>
                    <a:gs pos="100000">
                      <a:srgbClr val="9a2fbb"/>
                    </a:gs>
                  </a:gsLst>
                  <a:lin ang="5400000"/>
                </a:gradFill>
                <a:effectLst>
                  <a:outerShdw dist="52300" dir="4563564" blurRad="0" rotWithShape="0">
                    <a:srgbClr val="080808">
                      <a:alpha val="50000"/>
                    </a:srgbClr>
                  </a:outerShdw>
                </a:effectLst>
                <a:latin typeface="Arial Black"/>
              </a:rPr>
              <a:t>Presentation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11d76"/>
                  </a:gs>
                  <a:gs pos="100000">
                    <a:srgbClr val="9a2fbb"/>
                  </a:gs>
                </a:gsLst>
                <a:lin ang="5400000"/>
              </a:gradFill>
              <a:effectLst>
                <a:outerShdw dist="52300" dir="4563564" blurRad="0" rotWithShape="0">
                  <a:srgbClr val="080808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827440" y="2692440"/>
            <a:ext cx="358776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8f8f8"/>
                  </a:solidFill>
                  <a:miter/>
                </a:ln>
                <a:solidFill>
                  <a:srgbClr val="4d4d4d"/>
                </a:solidFill>
                <a:effectLst>
                  <a:outerShdw dist="50760" dir="5400000" blurRad="0" rotWithShape="0">
                    <a:srgbClr val="080808">
                      <a:alpha val="50000"/>
                    </a:srgbClr>
                  </a:outerShdw>
                </a:effectLst>
                <a:latin typeface="Arial Black"/>
              </a:rPr>
              <a:t>PowerTemplate</a:t>
            </a:r>
            <a:endParaRPr b="0" lang="en-US" sz="2000" spc="1" strike="noStrike">
              <a:ln w="19080">
                <a:solidFill>
                  <a:srgbClr val="f8f8f8"/>
                </a:solidFill>
                <a:miter/>
              </a:ln>
              <a:solidFill>
                <a:srgbClr val="4d4d4d"/>
              </a:solidFill>
              <a:effectLst>
                <a:outerShdw dist="50760" dir="5400000" blurRad="0" rotWithShape="0">
                  <a:srgbClr val="080808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7896240" y="0"/>
            <a:ext cx="11700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97560" y="112680"/>
            <a:ext cx="16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346040" y="1987560"/>
            <a:ext cx="2365560" cy="3171960"/>
          </a:xfrm>
          <a:prstGeom prst="rect">
            <a:avLst/>
          </a:prstGeom>
          <a:solidFill>
            <a:srgbClr val="effbf7">
              <a:alpha val="20000"/>
            </a:srgbClr>
          </a:solidFill>
          <a:ln cap="rnd" w="3816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504800" y="1689120"/>
            <a:ext cx="2033640" cy="537840"/>
            <a:chOff x="1504800" y="1689120"/>
            <a:chExt cx="2033640" cy="537840"/>
          </a:xfrm>
        </p:grpSpPr>
        <p:sp>
          <p:nvSpPr>
            <p:cNvPr id="421" name=""/>
            <p:cNvSpPr/>
            <p:nvPr/>
          </p:nvSpPr>
          <p:spPr>
            <a:xfrm>
              <a:off x="1504800" y="1689120"/>
              <a:ext cx="2033640" cy="537840"/>
            </a:xfrm>
            <a:prstGeom prst="roundRect">
              <a:avLst>
                <a:gd name="adj" fmla="val 14583"/>
              </a:avLst>
            </a:prstGeom>
            <a:gradFill rotWithShape="0">
              <a:gsLst>
                <a:gs pos="0">
                  <a:srgbClr val="0091d2"/>
                </a:gs>
                <a:gs pos="100000">
                  <a:srgbClr val="005f89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09120" y="1801080"/>
              <a:ext cx="2021760" cy="409680"/>
            </a:xfrm>
            <a:custGeom>
              <a:avLst/>
              <a:gdLst/>
              <a:ahLst/>
              <a:rect l="l" t="t" r="r" b="b"/>
              <a:pathLst>
                <a:path w="1360" h="183">
                  <a:moveTo>
                    <a:pt x="3" y="44"/>
                  </a:moveTo>
                  <a:lnTo>
                    <a:pt x="3" y="143"/>
                  </a:lnTo>
                  <a:cubicBezTo>
                    <a:pt x="4" y="162"/>
                    <a:pt x="0" y="181"/>
                    <a:pt x="52" y="183"/>
                  </a:cubicBezTo>
                  <a:lnTo>
                    <a:pt x="1315" y="183"/>
                  </a:lnTo>
                  <a:cubicBezTo>
                    <a:pt x="1351" y="183"/>
                    <a:pt x="1360" y="168"/>
                    <a:pt x="1360" y="140"/>
                  </a:cubicBezTo>
                  <a:lnTo>
                    <a:pt x="1360" y="0"/>
                  </a:lnTo>
                  <a:cubicBezTo>
                    <a:pt x="1281" y="26"/>
                    <a:pt x="1213" y="95"/>
                    <a:pt x="985" y="96"/>
                  </a:cubicBezTo>
                  <a:cubicBezTo>
                    <a:pt x="802" y="101"/>
                    <a:pt x="481" y="26"/>
                    <a:pt x="316" y="15"/>
                  </a:cubicBezTo>
                  <a:cubicBezTo>
                    <a:pt x="152" y="6"/>
                    <a:pt x="70" y="40"/>
                    <a:pt x="3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5bb7e1"/>
                </a:gs>
                <a:gs pos="100000">
                  <a:srgbClr val="0091d2"/>
                </a:gs>
              </a:gsLst>
              <a:lin ang="5400000"/>
            </a:gradFill>
            <a:ln w="9360">
              <a:solidFill>
                <a:srgbClr val="0091d2"/>
              </a:solidFill>
              <a:round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 flipH="1" flipV="1">
            <a:off x="3701520" y="5165280"/>
            <a:ext cx="2046600" cy="630360"/>
          </a:xfrm>
          <a:prstGeom prst="line">
            <a:avLst/>
          </a:prstGeom>
          <a:ln w="936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3660480" y="1987560"/>
            <a:ext cx="3058920" cy="920880"/>
          </a:xfrm>
          <a:prstGeom prst="line">
            <a:avLst/>
          </a:prstGeom>
          <a:ln w="936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4920" y="17640"/>
            <a:ext cx="83358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3244680"/>
            <a:ext cx="2604960" cy="2641680"/>
          </a:xfrm>
          <a:prstGeom prst="ellipse">
            <a:avLst/>
          </a:prstGeom>
          <a:gradFill rotWithShape="0">
            <a:gsLst>
              <a:gs pos="0">
                <a:srgbClr val="756b2f"/>
              </a:gs>
              <a:gs pos="100000">
                <a:srgbClr val="413b1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6625200">
            <a:off x="4708440" y="2793600"/>
            <a:ext cx="2976480" cy="2976480"/>
          </a:xfrm>
          <a:prstGeom prst="blockArc">
            <a:avLst>
              <a:gd name="adj1" fmla="val 20619484"/>
              <a:gd name="adj2" fmla="val 11780516"/>
              <a:gd name="adj3" fmla="val 44028"/>
            </a:avLst>
          </a:prstGeom>
          <a:gradFill rotWithShape="0">
            <a:gsLst>
              <a:gs pos="0">
                <a:srgbClr val="94d0eb"/>
              </a:gs>
              <a:gs pos="100000">
                <a:srgbClr val="0091d2"/>
              </a:gs>
            </a:gsLst>
            <a:lin ang="20376000"/>
          </a:gra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053040" y="4148280"/>
            <a:ext cx="344520" cy="344520"/>
          </a:xfrm>
          <a:prstGeom prst="ellips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46560" y="344952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7%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4523400" y="2647440"/>
            <a:ext cx="1950480" cy="2017440"/>
            <a:chOff x="4523400" y="2647440"/>
            <a:chExt cx="1950480" cy="2017440"/>
          </a:xfrm>
        </p:grpSpPr>
        <p:grpSp>
          <p:nvGrpSpPr>
            <p:cNvPr id="431" name=""/>
            <p:cNvGrpSpPr/>
            <p:nvPr/>
          </p:nvGrpSpPr>
          <p:grpSpPr>
            <a:xfrm>
              <a:off x="4523400" y="2705760"/>
              <a:ext cx="1468800" cy="1959120"/>
              <a:chOff x="4523400" y="2705760"/>
              <a:chExt cx="1468800" cy="1959120"/>
            </a:xfrm>
          </p:grpSpPr>
          <p:sp>
            <p:nvSpPr>
              <p:cNvPr id="432" name=""/>
              <p:cNvSpPr/>
              <p:nvPr/>
            </p:nvSpPr>
            <p:spPr>
              <a:xfrm rot="1164600">
                <a:off x="4819320" y="3098520"/>
                <a:ext cx="377280" cy="154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980000">
                <a:off x="4914000" y="2859840"/>
                <a:ext cx="377280" cy="1546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2275800">
                <a:off x="5001120" y="2739600"/>
                <a:ext cx="377280" cy="1546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2808000">
                <a:off x="5110560" y="2599200"/>
                <a:ext cx="377280" cy="1546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4563360" y="2647440"/>
              <a:ext cx="1910520" cy="1511280"/>
              <a:chOff x="4563360" y="2647440"/>
              <a:chExt cx="1910520" cy="1511280"/>
            </a:xfrm>
          </p:grpSpPr>
          <p:sp>
            <p:nvSpPr>
              <p:cNvPr id="437" name=""/>
              <p:cNvSpPr/>
              <p:nvPr/>
            </p:nvSpPr>
            <p:spPr>
              <a:xfrm rot="2517600">
                <a:off x="5031720" y="2682720"/>
                <a:ext cx="379800" cy="1546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3333000">
                <a:off x="5211720" y="2497680"/>
                <a:ext cx="379800" cy="154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3628800">
                <a:off x="5338800" y="2420280"/>
                <a:ext cx="379800" cy="154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4161000">
                <a:off x="5493240" y="2333160"/>
                <a:ext cx="379800" cy="154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"/>
          <p:cNvGrpSpPr/>
          <p:nvPr/>
        </p:nvGrpSpPr>
        <p:grpSpPr>
          <a:xfrm>
            <a:off x="6459480" y="4030560"/>
            <a:ext cx="939600" cy="695160"/>
            <a:chOff x="6459480" y="4030560"/>
            <a:chExt cx="939600" cy="695160"/>
          </a:xfrm>
        </p:grpSpPr>
        <p:sp>
          <p:nvSpPr>
            <p:cNvPr id="442" name=""/>
            <p:cNvSpPr/>
            <p:nvPr/>
          </p:nvSpPr>
          <p:spPr>
            <a:xfrm flipH="1">
              <a:off x="6459480" y="4172040"/>
              <a:ext cx="473040" cy="55368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6630480" y="4030560"/>
              <a:ext cx="126360" cy="14544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946920" y="4182120"/>
              <a:ext cx="452160" cy="53172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14680" y="4048560"/>
              <a:ext cx="119880" cy="13752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5506920" y="2386080"/>
            <a:ext cx="765000" cy="946080"/>
            <a:chOff x="5506920" y="2386080"/>
            <a:chExt cx="765000" cy="946080"/>
          </a:xfrm>
        </p:grpSpPr>
        <p:sp>
          <p:nvSpPr>
            <p:cNvPr id="447" name=""/>
            <p:cNvSpPr/>
            <p:nvPr/>
          </p:nvSpPr>
          <p:spPr>
            <a:xfrm>
              <a:off x="5789160" y="2386080"/>
              <a:ext cx="200160" cy="195120"/>
            </a:xfrm>
            <a:prstGeom prst="ellipse">
              <a:avLst/>
            </a:prstGeom>
            <a:solidFill>
              <a:srgbClr val="fee3a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06920" y="2414520"/>
              <a:ext cx="765000" cy="9176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fee3ac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4770360" y="4095720"/>
            <a:ext cx="129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15880" y="2405160"/>
            <a:ext cx="22752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ompany’s produc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ompany’s busines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ompany’s technology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ompany’s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566360" y="1720800"/>
            <a:ext cx="1893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261120" y="4807080"/>
            <a:ext cx="129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284880" y="1668600"/>
            <a:ext cx="693720" cy="6937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743280" y="201780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57640" y="1247760"/>
            <a:ext cx="693720" cy="6937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013280" y="2023920"/>
            <a:ext cx="982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1d2"/>
                </a:solidFill>
                <a:latin typeface="Arial"/>
              </a:rPr>
              <a:t>20.4%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43280" y="241308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743280" y="2392200"/>
            <a:ext cx="1508040" cy="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861160" y="243828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116760" y="2444760"/>
            <a:ext cx="1020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bc36"/>
                </a:solidFill>
                <a:latin typeface="Arial"/>
              </a:rPr>
              <a:t>20.4%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861160" y="283356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61160" y="2813040"/>
            <a:ext cx="150804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10280" y="4095720"/>
            <a:ext cx="693720" cy="6937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44680" y="2144880"/>
            <a:ext cx="150804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881360" y="1374840"/>
            <a:ext cx="693720" cy="6919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 flipV="1" rot="3328800">
            <a:off x="2014560" y="1496880"/>
            <a:ext cx="42984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4696638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4696638"/>
              </a:path>
            </a:pathLst>
          </a:custGeom>
          <a:gradFill rotWithShape="0">
            <a:gsLst>
              <a:gs pos="0">
                <a:srgbClr val="651e7a"/>
              </a:gs>
              <a:gs pos="100000">
                <a:srgbClr val="9a2fbb"/>
              </a:gs>
            </a:gsLst>
            <a:lin ang="2070000"/>
          </a:gradFill>
          <a:ln w="0">
            <a:noFill/>
          </a:ln>
          <a:effectLst>
            <a:outerShdw dist="52300" dir="4563564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6106200">
            <a:off x="6762240" y="3953160"/>
            <a:ext cx="785160" cy="73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3522128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3522128"/>
              </a:path>
            </a:pathLst>
          </a:custGeom>
          <a:gradFill rotWithShape="0">
            <a:gsLst>
              <a:gs pos="0">
                <a:srgbClr val="a66a12"/>
              </a:gs>
              <a:gs pos="100000">
                <a:srgbClr val="fca11c"/>
              </a:gs>
            </a:gsLst>
            <a:lin ang="20892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rot="5400000">
            <a:off x="6221520" y="1703520"/>
            <a:ext cx="521280" cy="52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gradFill rotWithShape="0">
            <a:gsLst>
              <a:gs pos="0">
                <a:srgbClr val="5a7c23"/>
              </a:gs>
              <a:gs pos="100000">
                <a:srgbClr val="89bc36"/>
              </a:gs>
            </a:gsLst>
            <a:lin ang="2700000"/>
          </a:gradFill>
          <a:ln w="0">
            <a:noFill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060440" y="1414440"/>
            <a:ext cx="708480" cy="71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gradFill rotWithShape="0">
            <a:gsLst>
              <a:gs pos="0">
                <a:srgbClr val="005075"/>
              </a:gs>
              <a:gs pos="100000">
                <a:srgbClr val="0091d2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81360" y="2152800"/>
            <a:ext cx="696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2fbb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44680" y="254016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1098720" y="2398680"/>
            <a:ext cx="4940280" cy="44593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444680" y="2519280"/>
            <a:ext cx="1508040" cy="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573960" y="4896000"/>
            <a:ext cx="150804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010280" y="4902120"/>
            <a:ext cx="698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a11c"/>
                </a:solidFill>
                <a:latin typeface="Arial"/>
              </a:rPr>
              <a:t>38%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573960" y="529128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573960" y="5270400"/>
            <a:ext cx="1508040" cy="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2111400" y="3241440"/>
            <a:ext cx="87120" cy="101412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4650840" y="3036600"/>
            <a:ext cx="220680" cy="90972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5551560" y="3525840"/>
            <a:ext cx="753840" cy="90000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48240" y="5148360"/>
            <a:ext cx="2031840" cy="23796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4920" y="17640"/>
            <a:ext cx="83358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D Pie Char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 flipH="1">
            <a:off x="3645720" y="249696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739880" y="253368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1679400" y="3540240"/>
            <a:ext cx="3003840" cy="2771280"/>
            <a:chOff x="1679400" y="3540240"/>
            <a:chExt cx="3003840" cy="2771280"/>
          </a:xfrm>
        </p:grpSpPr>
        <p:grpSp>
          <p:nvGrpSpPr>
            <p:cNvPr id="486" name=""/>
            <p:cNvGrpSpPr/>
            <p:nvPr/>
          </p:nvGrpSpPr>
          <p:grpSpPr>
            <a:xfrm>
              <a:off x="1854000" y="4728960"/>
              <a:ext cx="2706840" cy="1582560"/>
              <a:chOff x="1854000" y="4728960"/>
              <a:chExt cx="2706840" cy="1582560"/>
            </a:xfrm>
          </p:grpSpPr>
          <p:sp>
            <p:nvSpPr>
              <p:cNvPr id="487" name=""/>
              <p:cNvSpPr/>
              <p:nvPr/>
            </p:nvSpPr>
            <p:spPr>
              <a:xfrm>
                <a:off x="1854000" y="5261760"/>
                <a:ext cx="106344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05200" y="518076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ca1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54000" y="4728960"/>
                <a:ext cx="27068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1796040" y="4342320"/>
              <a:ext cx="2802960" cy="1582560"/>
              <a:chOff x="1796040" y="4342320"/>
              <a:chExt cx="2802960" cy="1582560"/>
            </a:xfrm>
          </p:grpSpPr>
          <p:sp>
            <p:nvSpPr>
              <p:cNvPr id="491" name=""/>
              <p:cNvSpPr/>
              <p:nvPr/>
            </p:nvSpPr>
            <p:spPr>
              <a:xfrm>
                <a:off x="1796040" y="4875120"/>
                <a:ext cx="110124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884680" y="4794120"/>
                <a:ext cx="17143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a2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796040" y="4342320"/>
                <a:ext cx="280296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1737360" y="3942000"/>
              <a:ext cx="2903040" cy="1582560"/>
              <a:chOff x="1737360" y="3942000"/>
              <a:chExt cx="2903040" cy="1582560"/>
            </a:xfrm>
          </p:grpSpPr>
          <p:sp>
            <p:nvSpPr>
              <p:cNvPr id="495" name=""/>
              <p:cNvSpPr/>
              <p:nvPr/>
            </p:nvSpPr>
            <p:spPr>
              <a:xfrm>
                <a:off x="1737360" y="4474800"/>
                <a:ext cx="11404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864880" y="4393800"/>
                <a:ext cx="17755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9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737360" y="3942000"/>
                <a:ext cx="29030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1679400" y="3540240"/>
              <a:ext cx="3003840" cy="1582560"/>
              <a:chOff x="1679400" y="3540240"/>
              <a:chExt cx="3003840" cy="1582560"/>
            </a:xfrm>
          </p:grpSpPr>
          <p:sp>
            <p:nvSpPr>
              <p:cNvPr id="499" name=""/>
              <p:cNvSpPr/>
              <p:nvPr/>
            </p:nvSpPr>
            <p:spPr>
              <a:xfrm>
                <a:off x="1679400" y="4073040"/>
                <a:ext cx="1180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846160" y="3992040"/>
                <a:ext cx="18370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009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79400" y="3540240"/>
                <a:ext cx="30038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sp>
        <p:nvSpPr>
          <p:cNvPr id="502" name=""/>
          <p:cNvSpPr/>
          <p:nvPr/>
        </p:nvSpPr>
        <p:spPr>
          <a:xfrm>
            <a:off x="5421240" y="2968560"/>
            <a:ext cx="3146400" cy="5223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1d2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394240" y="3770280"/>
            <a:ext cx="3133800" cy="5112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bc36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398920" y="5288040"/>
            <a:ext cx="3065760" cy="5173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a11c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98920" y="4522680"/>
            <a:ext cx="3097440" cy="505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2fbb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21055800">
            <a:off x="1248840" y="374004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0091d2"/>
              </a:gs>
              <a:gs pos="100000">
                <a:srgbClr val="ffffff"/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0800" y="58150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produc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1389240" y="1574640"/>
            <a:ext cx="2447640" cy="275940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94920" y="17640"/>
            <a:ext cx="83358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601640" y="1434960"/>
            <a:ext cx="5838840" cy="501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b3553"/>
              </a:gs>
              <a:gs pos="100000">
                <a:srgbClr val="5f73b5"/>
              </a:gs>
            </a:gsLst>
            <a:lin ang="540000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3440" y="2873520"/>
            <a:ext cx="7740360" cy="618840"/>
          </a:xfrm>
          <a:prstGeom prst="rect">
            <a:avLst/>
          </a:prstGeom>
          <a:solidFill>
            <a:srgbClr val="d7d7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92280" y="2873520"/>
            <a:ext cx="2053800" cy="618480"/>
            <a:chOff x="692280" y="2873520"/>
            <a:chExt cx="2053800" cy="618480"/>
          </a:xfrm>
        </p:grpSpPr>
        <p:sp>
          <p:nvSpPr>
            <p:cNvPr id="513" name=""/>
            <p:cNvSpPr/>
            <p:nvPr/>
          </p:nvSpPr>
          <p:spPr>
            <a:xfrm>
              <a:off x="692280" y="2873520"/>
              <a:ext cx="1912680" cy="618480"/>
            </a:xfrm>
            <a:prstGeom prst="rect">
              <a:avLst/>
            </a:prstGeom>
            <a:solidFill>
              <a:srgbClr val="fca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5400000">
              <a:off x="2506680" y="3092760"/>
              <a:ext cx="288360" cy="190440"/>
            </a:xfrm>
            <a:prstGeom prst="triangle">
              <a:avLst>
                <a:gd name="adj" fmla="val 50000"/>
              </a:avLst>
            </a:prstGeom>
            <a:solidFill>
              <a:srgbClr val="fca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2606760" y="30052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14240" y="29797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178160" y="304020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gradFill rotWithShape="0">
            <a:gsLst>
              <a:gs pos="0">
                <a:srgbClr val="fca11c"/>
              </a:gs>
              <a:gs pos="100000">
                <a:srgbClr val="d7d7c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756b2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57600" y="300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07120" y="304020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gradFill rotWithShape="0">
            <a:gsLst>
              <a:gs pos="0">
                <a:srgbClr val="fca11c"/>
              </a:gs>
              <a:gs pos="100000">
                <a:srgbClr val="d7d7c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756b2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545160" y="300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328920" y="1434960"/>
            <a:ext cx="24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988920" y="3622680"/>
            <a:ext cx="1114560" cy="1114560"/>
          </a:xfrm>
          <a:prstGeom prst="diamond">
            <a:avLst/>
          </a:prstGeom>
          <a:solidFill>
            <a:srgbClr val="fca1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970360" y="3622680"/>
            <a:ext cx="1114200" cy="1114560"/>
          </a:xfrm>
          <a:prstGeom prst="diamond">
            <a:avLst/>
          </a:prstGeom>
          <a:solidFill>
            <a:srgbClr val="cbc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960800" y="3622680"/>
            <a:ext cx="1114560" cy="1114560"/>
          </a:xfrm>
          <a:prstGeom prst="diamond">
            <a:avLst/>
          </a:prstGeom>
          <a:solidFill>
            <a:srgbClr val="cbc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904080" y="3622680"/>
            <a:ext cx="1114560" cy="1114560"/>
          </a:xfrm>
          <a:prstGeom prst="diamond">
            <a:avLst/>
          </a:prstGeom>
          <a:solidFill>
            <a:srgbClr val="cbc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526" name=""/>
          <p:cNvCxnSpPr>
            <a:stCxn id="522" idx="3"/>
            <a:endCxn id="523" idx="1"/>
          </p:cNvCxnSpPr>
          <p:nvPr/>
        </p:nvCxnSpPr>
        <p:spPr>
          <a:xfrm>
            <a:off x="2103480" y="417960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527" name=""/>
          <p:cNvCxnSpPr>
            <a:stCxn id="523" idx="3"/>
            <a:endCxn id="524" idx="1"/>
          </p:cNvCxnSpPr>
          <p:nvPr/>
        </p:nvCxnSpPr>
        <p:spPr>
          <a:xfrm>
            <a:off x="4084560" y="417960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528" name=""/>
          <p:cNvCxnSpPr>
            <a:stCxn id="524" idx="3"/>
            <a:endCxn id="525" idx="1"/>
          </p:cNvCxnSpPr>
          <p:nvPr/>
        </p:nvCxnSpPr>
        <p:spPr>
          <a:xfrm>
            <a:off x="6075360" y="417960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529" name=""/>
          <p:cNvSpPr/>
          <p:nvPr/>
        </p:nvSpPr>
        <p:spPr>
          <a:xfrm>
            <a:off x="1092240" y="39481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59280" y="3948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051520" y="3948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021440" y="39481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35120" y="482760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678040" y="48276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692600" y="48276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640560" y="48276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317600" y="2179800"/>
            <a:ext cx="6353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is a Design Digital Content &amp; Contents mal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94920" y="17640"/>
            <a:ext cx="83358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3592440" y="4753080"/>
            <a:ext cx="1843200" cy="1096920"/>
            <a:chOff x="3592440" y="4753080"/>
            <a:chExt cx="1843200" cy="1096920"/>
          </a:xfrm>
        </p:grpSpPr>
        <p:sp>
          <p:nvSpPr>
            <p:cNvPr id="540" name=""/>
            <p:cNvSpPr/>
            <p:nvPr/>
          </p:nvSpPr>
          <p:spPr>
            <a:xfrm>
              <a:off x="3592440" y="5583960"/>
              <a:ext cx="1839960" cy="258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595680" y="4753080"/>
              <a:ext cx="1839960" cy="1096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>
                    <a:alpha val="50196"/>
                  </a:srgbClr>
                </a:gs>
                <a:gs pos="100000">
                  <a:srgbClr val="46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3592440" y="3924360"/>
            <a:ext cx="1843200" cy="1096920"/>
            <a:chOff x="3592440" y="3924360"/>
            <a:chExt cx="1843200" cy="1096920"/>
          </a:xfrm>
        </p:grpSpPr>
        <p:sp>
          <p:nvSpPr>
            <p:cNvPr id="543" name=""/>
            <p:cNvSpPr/>
            <p:nvPr/>
          </p:nvSpPr>
          <p:spPr>
            <a:xfrm>
              <a:off x="3592440" y="4755240"/>
              <a:ext cx="1839960" cy="258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95680" y="3924360"/>
              <a:ext cx="1839960" cy="1096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5a6a"/>
                </a:gs>
                <a:gs pos="50000">
                  <a:srgbClr val="30c5e8">
                    <a:alpha val="50196"/>
                  </a:srgbClr>
                </a:gs>
                <a:gs pos="100000">
                  <a:srgbClr val="165a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592440" y="3092400"/>
            <a:ext cx="1843200" cy="1096920"/>
            <a:chOff x="3592440" y="3092400"/>
            <a:chExt cx="1843200" cy="1096920"/>
          </a:xfrm>
        </p:grpSpPr>
        <p:sp>
          <p:nvSpPr>
            <p:cNvPr id="546" name=""/>
            <p:cNvSpPr/>
            <p:nvPr/>
          </p:nvSpPr>
          <p:spPr>
            <a:xfrm>
              <a:off x="3592440" y="3923280"/>
              <a:ext cx="1839960" cy="258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595680" y="3092400"/>
              <a:ext cx="1839960" cy="1096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00"/>
                </a:gs>
                <a:gs pos="50000">
                  <a:srgbClr val="99cc00">
                    <a:alpha val="50196"/>
                  </a:srgbClr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548" name=""/>
          <p:cNvSpPr/>
          <p:nvPr/>
        </p:nvSpPr>
        <p:spPr>
          <a:xfrm rot="21418800">
            <a:off x="2859120" y="2933640"/>
            <a:ext cx="3271680" cy="1208160"/>
          </a:xfrm>
          <a:prstGeom prst="donut">
            <a:avLst>
              <a:gd name="adj" fmla="val 1518"/>
            </a:avLst>
          </a:prstGeom>
          <a:gradFill rotWithShape="0">
            <a:gsLst>
              <a:gs pos="0">
                <a:srgbClr val="d5d5fe"/>
              </a:gs>
              <a:gs pos="50000">
                <a:srgbClr val="9999ff"/>
              </a:gs>
              <a:gs pos="100000">
                <a:srgbClr val="d5d5fe"/>
              </a:gs>
            </a:gsLst>
            <a:lin ang="55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147840" y="2021040"/>
            <a:ext cx="2832120" cy="693720"/>
          </a:xfrm>
          <a:prstGeom prst="roundRect">
            <a:avLst>
              <a:gd name="adj" fmla="val 11505"/>
            </a:avLst>
          </a:prstGeom>
          <a:solidFill>
            <a:srgbClr val="ffffff">
              <a:alpha val="50000"/>
            </a:srgbClr>
          </a:solidFill>
          <a:ln w="64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4920" y="17640"/>
            <a:ext cx="83358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511440" y="1539720"/>
            <a:ext cx="21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Content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01920" y="2057400"/>
            <a:ext cx="2849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42960" y="322884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Content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45280" y="321948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Content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93840" y="3656160"/>
            <a:ext cx="2760480" cy="745920"/>
          </a:xfrm>
          <a:prstGeom prst="roundRect">
            <a:avLst>
              <a:gd name="adj" fmla="val 11505"/>
            </a:avLst>
          </a:prstGeom>
          <a:solidFill>
            <a:srgbClr val="ffffff">
              <a:alpha val="50000"/>
            </a:srgbClr>
          </a:solidFill>
          <a:ln w="64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5520" y="3726000"/>
            <a:ext cx="2849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919840" y="3656160"/>
            <a:ext cx="2760480" cy="745920"/>
          </a:xfrm>
          <a:prstGeom prst="roundRect">
            <a:avLst>
              <a:gd name="adj" fmla="val 11505"/>
            </a:avLst>
          </a:prstGeom>
          <a:solidFill>
            <a:srgbClr val="ffffff">
              <a:alpha val="50000"/>
            </a:srgbClr>
          </a:solidFill>
          <a:ln w="64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985000" y="3726000"/>
            <a:ext cx="2670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1754280" y="4513320"/>
            <a:ext cx="56880" cy="466560"/>
            <a:chOff x="1754280" y="4513320"/>
            <a:chExt cx="56880" cy="466560"/>
          </a:xfrm>
        </p:grpSpPr>
        <p:sp>
          <p:nvSpPr>
            <p:cNvPr id="560" name=""/>
            <p:cNvSpPr/>
            <p:nvPr/>
          </p:nvSpPr>
          <p:spPr>
            <a:xfrm>
              <a:off x="1754280" y="4513320"/>
              <a:ext cx="56880" cy="5724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54280" y="4649760"/>
              <a:ext cx="56880" cy="5724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54280" y="4786200"/>
              <a:ext cx="56880" cy="5724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54280" y="4923000"/>
              <a:ext cx="56880" cy="568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7237440" y="4513320"/>
            <a:ext cx="57240" cy="466560"/>
            <a:chOff x="7237440" y="4513320"/>
            <a:chExt cx="57240" cy="466560"/>
          </a:xfrm>
        </p:grpSpPr>
        <p:sp>
          <p:nvSpPr>
            <p:cNvPr id="565" name=""/>
            <p:cNvSpPr/>
            <p:nvPr/>
          </p:nvSpPr>
          <p:spPr>
            <a:xfrm>
              <a:off x="7237440" y="4513320"/>
              <a:ext cx="57240" cy="5724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237440" y="4649760"/>
              <a:ext cx="57240" cy="5724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237440" y="4786200"/>
              <a:ext cx="57240" cy="5724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237440" y="4923000"/>
              <a:ext cx="57240" cy="568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500040" y="5113440"/>
            <a:ext cx="257004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985000" y="5113440"/>
            <a:ext cx="257004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68480" y="2914560"/>
            <a:ext cx="3272040" cy="1208160"/>
          </a:xfrm>
          <a:prstGeom prst="donut">
            <a:avLst>
              <a:gd name="adj" fmla="val 1518"/>
            </a:avLst>
          </a:prstGeom>
          <a:gradFill rotWithShape="0">
            <a:gsLst>
              <a:gs pos="0">
                <a:srgbClr val="d5d5fe"/>
              </a:gs>
              <a:gs pos="50000">
                <a:srgbClr val="9999ff"/>
              </a:gs>
              <a:gs pos="100000">
                <a:srgbClr val="d5d5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2782800" y="3298680"/>
            <a:ext cx="257400" cy="267840"/>
            <a:chOff x="2782800" y="3298680"/>
            <a:chExt cx="257400" cy="267840"/>
          </a:xfrm>
        </p:grpSpPr>
        <p:pic>
          <p:nvPicPr>
            <p:cNvPr id="573" name="" descr=""/>
            <p:cNvPicPr/>
            <p:nvPr/>
          </p:nvPicPr>
          <p:blipFill>
            <a:blip r:embed="rId1"/>
            <a:stretch/>
          </p:blipFill>
          <p:spPr>
            <a:xfrm>
              <a:off x="2782800" y="3298680"/>
              <a:ext cx="257400" cy="2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2782800" y="3298680"/>
              <a:ext cx="255960" cy="24984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90196"/>
                  </a:srgbClr>
                </a:gs>
                <a:gs pos="50000">
                  <a:srgbClr val="ccff99">
                    <a:alpha val="55294"/>
                  </a:srgbClr>
                </a:gs>
                <a:gs pos="100000">
                  <a:srgbClr val="cccc0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2804400" y="3480120"/>
              <a:ext cx="201240" cy="86400"/>
              <a:chOff x="2804400" y="3480120"/>
              <a:chExt cx="201240" cy="86400"/>
            </a:xfrm>
          </p:grpSpPr>
          <p:grpSp>
            <p:nvGrpSpPr>
              <p:cNvPr id="576" name=""/>
              <p:cNvGrpSpPr/>
              <p:nvPr/>
            </p:nvGrpSpPr>
            <p:grpSpPr>
              <a:xfrm>
                <a:off x="2836800" y="3492000"/>
                <a:ext cx="168840" cy="68040"/>
                <a:chOff x="2836800" y="3492000"/>
                <a:chExt cx="168840" cy="68040"/>
              </a:xfrm>
            </p:grpSpPr>
            <p:sp>
              <p:nvSpPr>
                <p:cNvPr id="577" name=""/>
                <p:cNvSpPr/>
                <p:nvPr/>
              </p:nvSpPr>
              <p:spPr>
                <a:xfrm flipH="1" flipV="1" rot="4217400">
                  <a:off x="2928600" y="346500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H="1" flipV="1" rot="5032800">
                  <a:off x="2909160" y="347076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H="1" flipV="1" rot="5328600">
                  <a:off x="2898000" y="347112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H="1" flipV="1" rot="5860800">
                  <a:off x="2883960" y="347220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2804400" y="3480120"/>
                <a:ext cx="164520" cy="86400"/>
                <a:chOff x="2804400" y="3480120"/>
                <a:chExt cx="164520" cy="86400"/>
              </a:xfrm>
            </p:grpSpPr>
            <p:sp>
              <p:nvSpPr>
                <p:cNvPr id="582" name=""/>
                <p:cNvSpPr/>
                <p:nvPr/>
              </p:nvSpPr>
              <p:spPr>
                <a:xfrm flipH="1" flipV="1" rot="5570400">
                  <a:off x="2892600" y="347292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H="1" flipV="1" rot="6385800">
                  <a:off x="2872800" y="347112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flipH="1" flipV="1" rot="6681600">
                  <a:off x="2862000" y="3468240"/>
                  <a:ext cx="29160" cy="120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 flipV="1" rot="7213800">
                  <a:off x="2849400" y="346248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6" name=""/>
            <p:cNvSpPr/>
            <p:nvPr/>
          </p:nvSpPr>
          <p:spPr>
            <a:xfrm>
              <a:off x="2809080" y="3303720"/>
              <a:ext cx="200880" cy="864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af6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4456080" y="2882880"/>
            <a:ext cx="152280" cy="158400"/>
            <a:chOff x="4456080" y="2882880"/>
            <a:chExt cx="152280" cy="158400"/>
          </a:xfrm>
        </p:grpSpPr>
        <p:pic>
          <p:nvPicPr>
            <p:cNvPr id="588" name="" descr=""/>
            <p:cNvPicPr/>
            <p:nvPr/>
          </p:nvPicPr>
          <p:blipFill>
            <a:blip r:embed="rId2"/>
            <a:stretch/>
          </p:blipFill>
          <p:spPr>
            <a:xfrm>
              <a:off x="4456080" y="2882880"/>
              <a:ext cx="152280" cy="1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4456080" y="2882880"/>
              <a:ext cx="151560" cy="14688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90196"/>
                  </a:srgbClr>
                </a:gs>
                <a:gs pos="50000">
                  <a:srgbClr val="ccff99">
                    <a:alpha val="55294"/>
                  </a:srgbClr>
                </a:gs>
                <a:gs pos="100000">
                  <a:srgbClr val="cccc0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4468680" y="2990160"/>
              <a:ext cx="118800" cy="51120"/>
              <a:chOff x="4468680" y="2990160"/>
              <a:chExt cx="118800" cy="5112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4488120" y="2995920"/>
                <a:ext cx="99360" cy="40320"/>
                <a:chOff x="4488120" y="2995920"/>
                <a:chExt cx="99360" cy="40320"/>
              </a:xfrm>
            </p:grpSpPr>
            <p:sp>
              <p:nvSpPr>
                <p:cNvPr id="592" name=""/>
                <p:cNvSpPr/>
                <p:nvPr/>
              </p:nvSpPr>
              <p:spPr>
                <a:xfrm flipH="1" flipV="1" rot="4217400">
                  <a:off x="4542120" y="2980080"/>
                  <a:ext cx="16920" cy="7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H="1" flipV="1" rot="5032800">
                  <a:off x="4530960" y="2983680"/>
                  <a:ext cx="16920" cy="7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flipH="1" flipV="1" rot="5328600">
                  <a:off x="4524480" y="2984040"/>
                  <a:ext cx="16920" cy="7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flipH="1" flipV="1" rot="5860800">
                  <a:off x="4515480" y="2984400"/>
                  <a:ext cx="16920" cy="7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4468680" y="2990160"/>
                <a:ext cx="97560" cy="51120"/>
                <a:chOff x="4468680" y="2990160"/>
                <a:chExt cx="97560" cy="51120"/>
              </a:xfrm>
            </p:grpSpPr>
            <p:sp>
              <p:nvSpPr>
                <p:cNvPr id="597" name=""/>
                <p:cNvSpPr/>
                <p:nvPr/>
              </p:nvSpPr>
              <p:spPr>
                <a:xfrm flipH="1" flipV="1" rot="5570400">
                  <a:off x="4521240" y="2985120"/>
                  <a:ext cx="16920" cy="7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H="1" flipV="1" rot="6385800">
                  <a:off x="4509360" y="2984040"/>
                  <a:ext cx="16920" cy="7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 flipV="1" rot="6681600">
                  <a:off x="4503240" y="2981880"/>
                  <a:ext cx="16920" cy="7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H="1" flipV="1" rot="7213800">
                  <a:off x="4495320" y="2979000"/>
                  <a:ext cx="17280" cy="7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1" name=""/>
            <p:cNvSpPr/>
            <p:nvPr/>
          </p:nvSpPr>
          <p:spPr>
            <a:xfrm>
              <a:off x="4471560" y="2885760"/>
              <a:ext cx="118800" cy="507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af6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925960" y="3379680"/>
            <a:ext cx="257400" cy="267840"/>
            <a:chOff x="5925960" y="3379680"/>
            <a:chExt cx="257400" cy="267840"/>
          </a:xfrm>
        </p:grpSpPr>
        <p:pic>
          <p:nvPicPr>
            <p:cNvPr id="603" name="" descr=""/>
            <p:cNvPicPr/>
            <p:nvPr/>
          </p:nvPicPr>
          <p:blipFill>
            <a:blip r:embed="rId3"/>
            <a:stretch/>
          </p:blipFill>
          <p:spPr>
            <a:xfrm>
              <a:off x="5925960" y="3379680"/>
              <a:ext cx="257400" cy="2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5925960" y="3379680"/>
              <a:ext cx="255960" cy="24984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90196"/>
                  </a:srgbClr>
                </a:gs>
                <a:gs pos="50000">
                  <a:srgbClr val="ccff99">
                    <a:alpha val="55294"/>
                  </a:srgbClr>
                </a:gs>
                <a:gs pos="100000">
                  <a:srgbClr val="cccc0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5947560" y="3561120"/>
              <a:ext cx="201240" cy="86400"/>
              <a:chOff x="5947560" y="3561120"/>
              <a:chExt cx="201240" cy="8640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5979960" y="3573000"/>
                <a:ext cx="168840" cy="68040"/>
                <a:chOff x="5979960" y="3573000"/>
                <a:chExt cx="168840" cy="68040"/>
              </a:xfrm>
            </p:grpSpPr>
            <p:sp>
              <p:nvSpPr>
                <p:cNvPr id="607" name=""/>
                <p:cNvSpPr/>
                <p:nvPr/>
              </p:nvSpPr>
              <p:spPr>
                <a:xfrm flipH="1" flipV="1" rot="4217400">
                  <a:off x="6071760" y="354600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 flipV="1" rot="5032800">
                  <a:off x="6052320" y="355176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H="1" flipV="1" rot="5328600">
                  <a:off x="6041160" y="355212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 flipV="1" rot="5860800">
                  <a:off x="6027120" y="355320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947560" y="3561120"/>
                <a:ext cx="164520" cy="86400"/>
                <a:chOff x="5947560" y="3561120"/>
                <a:chExt cx="164520" cy="86400"/>
              </a:xfrm>
            </p:grpSpPr>
            <p:sp>
              <p:nvSpPr>
                <p:cNvPr id="612" name=""/>
                <p:cNvSpPr/>
                <p:nvPr/>
              </p:nvSpPr>
              <p:spPr>
                <a:xfrm flipH="1" flipV="1" rot="5570400">
                  <a:off x="6035760" y="355392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 flipV="1" rot="6385800">
                  <a:off x="6015960" y="355212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 flipV="1" rot="6681600">
                  <a:off x="6005160" y="3549240"/>
                  <a:ext cx="29160" cy="120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H="1" flipV="1" rot="7213800">
                  <a:off x="5992560" y="354348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6" name=""/>
            <p:cNvSpPr/>
            <p:nvPr/>
          </p:nvSpPr>
          <p:spPr>
            <a:xfrm>
              <a:off x="5952240" y="3384720"/>
              <a:ext cx="200880" cy="864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af6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4840200" y="2239920"/>
            <a:ext cx="3970440" cy="3727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dddddd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94920" y="17640"/>
            <a:ext cx="83358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93880" y="2130480"/>
            <a:ext cx="3355920" cy="33559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81040" y="237816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fca11c"/>
              </a:gs>
              <a:gs pos="100000">
                <a:srgbClr val="8c590f"/>
              </a:gs>
            </a:gsLst>
            <a:lin ang="13500000"/>
          </a:gradFill>
          <a:ln w="38160">
            <a:solidFill>
              <a:srgbClr val="ebf5ff"/>
            </a:solidFill>
            <a:miter/>
          </a:ln>
          <a:effectLst>
            <a:outerShdw dist="40186" dir="4303641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376440" y="237816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fca11c"/>
              </a:gs>
              <a:gs pos="100000">
                <a:srgbClr val="8c590f"/>
              </a:gs>
            </a:gsLst>
            <a:lin ang="13500000"/>
          </a:gradFill>
          <a:ln w="38160">
            <a:solidFill>
              <a:srgbClr val="ebf5ff"/>
            </a:solidFill>
            <a:miter/>
          </a:ln>
          <a:effectLst>
            <a:outerShdw dist="40186" dir="4303641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030400" y="489096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fca11c"/>
              </a:gs>
              <a:gs pos="100000">
                <a:srgbClr val="8c590f"/>
              </a:gs>
            </a:gsLst>
            <a:lin ang="13500000"/>
          </a:gradFill>
          <a:ln w="38160">
            <a:solidFill>
              <a:srgbClr val="ebf5ff"/>
            </a:solidFill>
            <a:miter/>
          </a:ln>
          <a:effectLst>
            <a:outerShdw dist="40186" dir="4303641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163600" y="1789200"/>
            <a:ext cx="777960" cy="777960"/>
          </a:xfrm>
          <a:prstGeom prst="ellipse">
            <a:avLst/>
          </a:prstGeom>
          <a:solidFill>
            <a:srgbClr val="0091d2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621240" y="4160880"/>
            <a:ext cx="777600" cy="777960"/>
          </a:xfrm>
          <a:prstGeom prst="ellipse">
            <a:avLst/>
          </a:prstGeom>
          <a:solidFill>
            <a:srgbClr val="0091d2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98400" y="4199040"/>
            <a:ext cx="777960" cy="777600"/>
          </a:xfrm>
          <a:prstGeom prst="ellipse">
            <a:avLst/>
          </a:prstGeom>
          <a:solidFill>
            <a:srgbClr val="0091d2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626" name=""/>
          <p:cNvCxnSpPr>
            <a:stCxn id="622" idx="0"/>
          </p:cNvCxnSpPr>
          <p:nvPr/>
        </p:nvCxnSpPr>
        <p:spPr>
          <a:xfrm flipH="1" flipV="1">
            <a:off x="2591640" y="4419360"/>
            <a:ext cx="10440" cy="45288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27" name=""/>
          <p:cNvCxnSpPr>
            <a:stCxn id="621" idx="3"/>
          </p:cNvCxnSpPr>
          <p:nvPr/>
        </p:nvCxnSpPr>
        <p:spPr>
          <a:xfrm flipH="1">
            <a:off x="3131280" y="3373560"/>
            <a:ext cx="412200" cy="1101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28" name=""/>
          <p:cNvCxnSpPr>
            <a:stCxn id="620" idx="5"/>
          </p:cNvCxnSpPr>
          <p:nvPr/>
        </p:nvCxnSpPr>
        <p:spPr>
          <a:xfrm>
            <a:off x="1557360" y="3373560"/>
            <a:ext cx="496080" cy="1101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sp>
        <p:nvSpPr>
          <p:cNvPr id="629" name=""/>
          <p:cNvSpPr/>
          <p:nvPr/>
        </p:nvSpPr>
        <p:spPr>
          <a:xfrm>
            <a:off x="3463920" y="2654280"/>
            <a:ext cx="9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098800" y="5162400"/>
            <a:ext cx="9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58800" y="2657520"/>
            <a:ext cx="9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170080" y="201312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tep 1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76440" y="442260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tep 2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603600" y="441324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tep 3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016600" y="2678040"/>
            <a:ext cx="370044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20000"/>
                </a:solidFill>
                <a:latin typeface="Arial"/>
              </a:rPr>
              <a:t>1.Describe contents for a Step1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0b0b"/>
                </a:solidFill>
                <a:latin typeface="Arial"/>
              </a:rPr>
              <a:t>2.Describe contents for a Step2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.Describe contents for a Step3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>
            <a:grayscl/>
            <a:lum contrast="18000"/>
          </a:blip>
          <a:stretch/>
        </p:blipFill>
        <p:spPr>
          <a:xfrm>
            <a:off x="2008080" y="3182760"/>
            <a:ext cx="1100160" cy="11750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37" name=""/>
          <p:cNvGrpSpPr/>
          <p:nvPr/>
        </p:nvGrpSpPr>
        <p:grpSpPr>
          <a:xfrm>
            <a:off x="5237280" y="1930320"/>
            <a:ext cx="3229920" cy="537840"/>
            <a:chOff x="5237280" y="1930320"/>
            <a:chExt cx="3229920" cy="537840"/>
          </a:xfrm>
        </p:grpSpPr>
        <p:sp>
          <p:nvSpPr>
            <p:cNvPr id="638" name=""/>
            <p:cNvSpPr/>
            <p:nvPr/>
          </p:nvSpPr>
          <p:spPr>
            <a:xfrm>
              <a:off x="5237280" y="1930320"/>
              <a:ext cx="3229920" cy="537840"/>
            </a:xfrm>
            <a:prstGeom prst="roundRect">
              <a:avLst>
                <a:gd name="adj" fmla="val 14583"/>
              </a:avLst>
            </a:prstGeom>
            <a:gradFill rotWithShape="0">
              <a:gsLst>
                <a:gs pos="0">
                  <a:srgbClr val="9a2fbb"/>
                </a:gs>
                <a:gs pos="100000">
                  <a:srgbClr val="651e7a"/>
                </a:gs>
              </a:gsLst>
              <a:lin ang="5400000"/>
            </a:gradFill>
            <a:ln w="19080">
              <a:solidFill>
                <a:srgbClr val="9a2fbb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44120" y="2042280"/>
              <a:ext cx="3211200" cy="409680"/>
            </a:xfrm>
            <a:custGeom>
              <a:avLst/>
              <a:gdLst/>
              <a:ahLst/>
              <a:rect l="l" t="t" r="r" b="b"/>
              <a:pathLst>
                <a:path w="1360" h="183">
                  <a:moveTo>
                    <a:pt x="3" y="44"/>
                  </a:moveTo>
                  <a:lnTo>
                    <a:pt x="3" y="143"/>
                  </a:lnTo>
                  <a:cubicBezTo>
                    <a:pt x="4" y="162"/>
                    <a:pt x="0" y="181"/>
                    <a:pt x="52" y="183"/>
                  </a:cubicBezTo>
                  <a:lnTo>
                    <a:pt x="1315" y="183"/>
                  </a:lnTo>
                  <a:cubicBezTo>
                    <a:pt x="1351" y="183"/>
                    <a:pt x="1360" y="168"/>
                    <a:pt x="1360" y="140"/>
                  </a:cubicBezTo>
                  <a:lnTo>
                    <a:pt x="1360" y="0"/>
                  </a:lnTo>
                  <a:cubicBezTo>
                    <a:pt x="1281" y="26"/>
                    <a:pt x="1213" y="95"/>
                    <a:pt x="985" y="96"/>
                  </a:cubicBezTo>
                  <a:cubicBezTo>
                    <a:pt x="802" y="101"/>
                    <a:pt x="481" y="26"/>
                    <a:pt x="316" y="15"/>
                  </a:cubicBezTo>
                  <a:cubicBezTo>
                    <a:pt x="152" y="6"/>
                    <a:pt x="70" y="40"/>
                    <a:pt x="3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bd79d2"/>
                </a:gs>
                <a:gs pos="100000">
                  <a:srgbClr val="9a2fbb"/>
                </a:gs>
              </a:gsLst>
              <a:lin ang="5400000"/>
            </a:gradFill>
            <a:ln w="9360">
              <a:solidFill>
                <a:srgbClr val="9a2fbb"/>
              </a:solidFill>
              <a:round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5568840" y="1971720"/>
            <a:ext cx="24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3805200" y="3795840"/>
            <a:ext cx="1265400" cy="803160"/>
          </a:xfrm>
          <a:custGeom>
            <a:avLst/>
            <a:gdLst/>
            <a:ahLst/>
            <a:rect l="l" t="t" r="r" b="b"/>
            <a:pathLst>
              <a:path w="797" h="506">
                <a:moveTo>
                  <a:pt x="390" y="0"/>
                </a:moveTo>
                <a:lnTo>
                  <a:pt x="448" y="64"/>
                </a:lnTo>
                <a:lnTo>
                  <a:pt x="797" y="495"/>
                </a:lnTo>
                <a:lnTo>
                  <a:pt x="390" y="355"/>
                </a:lnTo>
                <a:lnTo>
                  <a:pt x="0" y="506"/>
                </a:lnTo>
                <a:lnTo>
                  <a:pt x="39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43480" y="2817720"/>
            <a:ext cx="1735200" cy="1117800"/>
          </a:xfrm>
          <a:custGeom>
            <a:avLst/>
            <a:gdLst/>
            <a:ahLst/>
            <a:rect l="l" t="t" r="r" b="b"/>
            <a:pathLst>
              <a:path w="1093" h="704">
                <a:moveTo>
                  <a:pt x="64" y="704"/>
                </a:moveTo>
                <a:lnTo>
                  <a:pt x="0" y="622"/>
                </a:lnTo>
                <a:lnTo>
                  <a:pt x="820" y="0"/>
                </a:lnTo>
                <a:lnTo>
                  <a:pt x="1093" y="453"/>
                </a:lnTo>
                <a:lnTo>
                  <a:pt x="64" y="704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dab72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73240" y="2844720"/>
            <a:ext cx="1470240" cy="1117800"/>
          </a:xfrm>
          <a:custGeom>
            <a:avLst/>
            <a:gdLst/>
            <a:ahLst/>
            <a:rect l="l" t="t" r="r" b="b"/>
            <a:pathLst>
              <a:path w="926" h="704">
                <a:moveTo>
                  <a:pt x="926" y="611"/>
                </a:moveTo>
                <a:lnTo>
                  <a:pt x="844" y="704"/>
                </a:lnTo>
                <a:lnTo>
                  <a:pt x="0" y="489"/>
                </a:lnTo>
                <a:lnTo>
                  <a:pt x="315" y="0"/>
                </a:lnTo>
                <a:lnTo>
                  <a:pt x="926" y="611"/>
                </a:lnTo>
                <a:close/>
              </a:path>
            </a:pathLst>
          </a:custGeom>
          <a:gradFill rotWithShape="0">
            <a:gsLst>
              <a:gs pos="0">
                <a:srgbClr val="a3c975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4920" y="17640"/>
            <a:ext cx="83358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209600" y="1558800"/>
            <a:ext cx="2257560" cy="2257560"/>
            <a:chOff x="1209600" y="1558800"/>
            <a:chExt cx="2257560" cy="2257560"/>
          </a:xfrm>
        </p:grpSpPr>
        <p:sp>
          <p:nvSpPr>
            <p:cNvPr id="646" name=""/>
            <p:cNvSpPr/>
            <p:nvPr/>
          </p:nvSpPr>
          <p:spPr>
            <a:xfrm>
              <a:off x="1209600" y="1558800"/>
              <a:ext cx="2257560" cy="2257560"/>
            </a:xfrm>
            <a:prstGeom prst="ellipse">
              <a:avLst/>
            </a:prstGeom>
            <a:gradFill rotWithShape="0">
              <a:gsLst>
                <a:gs pos="0">
                  <a:srgbClr val="a3c975"/>
                </a:gs>
                <a:gs pos="100000">
                  <a:srgbClr val="7b9858"/>
                </a:gs>
              </a:gsLst>
              <a:lin ang="135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276200" y="1616040"/>
              <a:ext cx="2122560" cy="2139840"/>
            </a:xfrm>
            <a:prstGeom prst="ellipse">
              <a:avLst/>
            </a:prstGeom>
            <a:gradFill rotWithShape="0">
              <a:gsLst>
                <a:gs pos="0">
                  <a:srgbClr val="7b9858"/>
                </a:gs>
                <a:gs pos="100000">
                  <a:srgbClr val="a3c9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1312920" y="2514600"/>
            <a:ext cx="194616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5700600" y="1558800"/>
            <a:ext cx="2257560" cy="2257560"/>
            <a:chOff x="5700600" y="1558800"/>
            <a:chExt cx="2257560" cy="2257560"/>
          </a:xfrm>
        </p:grpSpPr>
        <p:sp>
          <p:nvSpPr>
            <p:cNvPr id="650" name=""/>
            <p:cNvSpPr/>
            <p:nvPr/>
          </p:nvSpPr>
          <p:spPr>
            <a:xfrm>
              <a:off x="5700600" y="1558800"/>
              <a:ext cx="2257560" cy="2257560"/>
            </a:xfrm>
            <a:prstGeom prst="ellipse">
              <a:avLst/>
            </a:prstGeom>
            <a:gradFill rotWithShape="0">
              <a:gsLst>
                <a:gs pos="0">
                  <a:srgbClr val="d3ce73"/>
                </a:gs>
                <a:gs pos="100000">
                  <a:srgbClr val="9f9c57"/>
                </a:gs>
              </a:gsLst>
              <a:lin ang="135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67200" y="1616040"/>
              <a:ext cx="2122560" cy="2139840"/>
            </a:xfrm>
            <a:prstGeom prst="ellipse">
              <a:avLst/>
            </a:prstGeom>
            <a:gradFill rotWithShape="0">
              <a:gsLst>
                <a:gs pos="0">
                  <a:srgbClr val="9f9c57"/>
                </a:gs>
                <a:gs pos="100000">
                  <a:srgbClr val="d3ce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5803920" y="2514600"/>
            <a:ext cx="194616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336840" y="4330800"/>
            <a:ext cx="2257560" cy="2257200"/>
            <a:chOff x="3336840" y="4330800"/>
            <a:chExt cx="2257560" cy="2257200"/>
          </a:xfrm>
        </p:grpSpPr>
        <p:sp>
          <p:nvSpPr>
            <p:cNvPr id="654" name=""/>
            <p:cNvSpPr/>
            <p:nvPr/>
          </p:nvSpPr>
          <p:spPr>
            <a:xfrm>
              <a:off x="3336840" y="4330800"/>
              <a:ext cx="2257560" cy="22572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7373c1"/>
                </a:gs>
              </a:gsLst>
              <a:lin ang="135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403440" y="4387680"/>
              <a:ext cx="2122560" cy="2139480"/>
            </a:xfrm>
            <a:prstGeom prst="ellipse">
              <a:avLst/>
            </a:prstGeom>
            <a:gradFill rotWithShape="0">
              <a:gsLst>
                <a:gs pos="0">
                  <a:srgbClr val="7373c1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3440160" y="5286240"/>
            <a:ext cx="194616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51400" y="1521000"/>
            <a:ext cx="199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448080" y="4395960"/>
            <a:ext cx="2023920" cy="785520"/>
          </a:xfrm>
          <a:custGeom>
            <a:avLst/>
            <a:gdLst/>
            <a:ahLst/>
            <a:rect l="l" t="t" r="r" b="b"/>
            <a:pathLst>
              <a:path w="1291" h="495">
                <a:moveTo>
                  <a:pt x="0" y="495"/>
                </a:moveTo>
                <a:lnTo>
                  <a:pt x="1291" y="488"/>
                </a:lnTo>
                <a:cubicBezTo>
                  <a:pt x="1255" y="336"/>
                  <a:pt x="1163" y="231"/>
                  <a:pt x="1079" y="156"/>
                </a:cubicBezTo>
                <a:cubicBezTo>
                  <a:pt x="995" y="81"/>
                  <a:pt x="854" y="0"/>
                  <a:pt x="635" y="0"/>
                </a:cubicBezTo>
                <a:cubicBezTo>
                  <a:pt x="416" y="0"/>
                  <a:pt x="340" y="63"/>
                  <a:pt x="230" y="143"/>
                </a:cubicBezTo>
                <a:cubicBezTo>
                  <a:pt x="120" y="223"/>
                  <a:pt x="6" y="413"/>
                  <a:pt x="0" y="495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586320" y="47084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810400" y="1614600"/>
            <a:ext cx="2033280" cy="780840"/>
          </a:xfrm>
          <a:custGeom>
            <a:avLst/>
            <a:gdLst/>
            <a:ahLst/>
            <a:rect l="l" t="t" r="r" b="b"/>
            <a:pathLst>
              <a:path w="1293" h="492">
                <a:moveTo>
                  <a:pt x="0" y="490"/>
                </a:moveTo>
                <a:lnTo>
                  <a:pt x="1293" y="492"/>
                </a:lnTo>
                <a:cubicBezTo>
                  <a:pt x="1257" y="340"/>
                  <a:pt x="1165" y="235"/>
                  <a:pt x="1081" y="160"/>
                </a:cubicBezTo>
                <a:cubicBezTo>
                  <a:pt x="997" y="85"/>
                  <a:pt x="867" y="0"/>
                  <a:pt x="648" y="0"/>
                </a:cubicBezTo>
                <a:cubicBezTo>
                  <a:pt x="429" y="0"/>
                  <a:pt x="342" y="67"/>
                  <a:pt x="232" y="147"/>
                </a:cubicBezTo>
                <a:cubicBezTo>
                  <a:pt x="122" y="227"/>
                  <a:pt x="18" y="421"/>
                  <a:pt x="0" y="490"/>
                </a:cubicBezTo>
                <a:close/>
              </a:path>
            </a:pathLst>
          </a:custGeom>
          <a:solidFill>
            <a:srgbClr val="d3c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311120" y="1616040"/>
            <a:ext cx="2038680" cy="785880"/>
          </a:xfrm>
          <a:custGeom>
            <a:avLst/>
            <a:gdLst/>
            <a:ahLst/>
            <a:rect l="l" t="t" r="r" b="b"/>
            <a:pathLst>
              <a:path w="1284" h="495">
                <a:moveTo>
                  <a:pt x="0" y="495"/>
                </a:moveTo>
                <a:lnTo>
                  <a:pt x="1284" y="492"/>
                </a:lnTo>
                <a:cubicBezTo>
                  <a:pt x="1248" y="340"/>
                  <a:pt x="1156" y="235"/>
                  <a:pt x="1072" y="160"/>
                </a:cubicBezTo>
                <a:cubicBezTo>
                  <a:pt x="988" y="85"/>
                  <a:pt x="858" y="0"/>
                  <a:pt x="639" y="0"/>
                </a:cubicBezTo>
                <a:cubicBezTo>
                  <a:pt x="420" y="0"/>
                  <a:pt x="333" y="67"/>
                  <a:pt x="223" y="147"/>
                </a:cubicBezTo>
                <a:cubicBezTo>
                  <a:pt x="113" y="227"/>
                  <a:pt x="18" y="426"/>
                  <a:pt x="0" y="495"/>
                </a:cubicBezTo>
                <a:close/>
              </a:path>
            </a:pathLst>
          </a:custGeom>
          <a:solidFill>
            <a:srgbClr val="a3c9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21280" y="192708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440000" y="193680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192560" y="2290680"/>
            <a:ext cx="679320" cy="1857600"/>
          </a:xfrm>
          <a:custGeom>
            <a:avLst/>
            <a:gdLst/>
            <a:ahLst/>
            <a:rect l="l" t="t" r="r" b="b"/>
            <a:pathLst>
              <a:path w="1243" h="3407">
                <a:moveTo>
                  <a:pt x="109" y="377"/>
                </a:moveTo>
                <a:lnTo>
                  <a:pt x="128" y="466"/>
                </a:lnTo>
                <a:cubicBezTo>
                  <a:pt x="137" y="505"/>
                  <a:pt x="151" y="571"/>
                  <a:pt x="166" y="611"/>
                </a:cubicBezTo>
                <a:cubicBezTo>
                  <a:pt x="181" y="651"/>
                  <a:pt x="222" y="678"/>
                  <a:pt x="217" y="704"/>
                </a:cubicBezTo>
                <a:lnTo>
                  <a:pt x="133" y="770"/>
                </a:lnTo>
                <a:cubicBezTo>
                  <a:pt x="112" y="788"/>
                  <a:pt x="98" y="794"/>
                  <a:pt x="92" y="813"/>
                </a:cubicBezTo>
                <a:cubicBezTo>
                  <a:pt x="85" y="829"/>
                  <a:pt x="95" y="865"/>
                  <a:pt x="95" y="884"/>
                </a:cubicBezTo>
                <a:cubicBezTo>
                  <a:pt x="95" y="903"/>
                  <a:pt x="88" y="905"/>
                  <a:pt x="91" y="926"/>
                </a:cubicBezTo>
                <a:lnTo>
                  <a:pt x="112" y="1008"/>
                </a:lnTo>
                <a:lnTo>
                  <a:pt x="128" y="1079"/>
                </a:lnTo>
                <a:lnTo>
                  <a:pt x="113" y="1112"/>
                </a:lnTo>
                <a:lnTo>
                  <a:pt x="104" y="1192"/>
                </a:lnTo>
                <a:lnTo>
                  <a:pt x="113" y="1274"/>
                </a:lnTo>
                <a:cubicBezTo>
                  <a:pt x="115" y="1297"/>
                  <a:pt x="111" y="1314"/>
                  <a:pt x="113" y="1332"/>
                </a:cubicBezTo>
                <a:cubicBezTo>
                  <a:pt x="115" y="1351"/>
                  <a:pt x="122" y="1366"/>
                  <a:pt x="124" y="1383"/>
                </a:cubicBezTo>
                <a:cubicBezTo>
                  <a:pt x="126" y="1400"/>
                  <a:pt x="125" y="1418"/>
                  <a:pt x="128" y="1434"/>
                </a:cubicBezTo>
                <a:cubicBezTo>
                  <a:pt x="123" y="1450"/>
                  <a:pt x="99" y="1467"/>
                  <a:pt x="95" y="1487"/>
                </a:cubicBezTo>
                <a:cubicBezTo>
                  <a:pt x="91" y="1507"/>
                  <a:pt x="103" y="1535"/>
                  <a:pt x="104" y="1555"/>
                </a:cubicBezTo>
                <a:lnTo>
                  <a:pt x="95" y="1595"/>
                </a:lnTo>
                <a:lnTo>
                  <a:pt x="85" y="1629"/>
                </a:lnTo>
                <a:lnTo>
                  <a:pt x="88" y="1674"/>
                </a:lnTo>
                <a:cubicBezTo>
                  <a:pt x="86" y="1687"/>
                  <a:pt x="74" y="1696"/>
                  <a:pt x="71" y="1707"/>
                </a:cubicBezTo>
                <a:cubicBezTo>
                  <a:pt x="68" y="1718"/>
                  <a:pt x="79" y="1728"/>
                  <a:pt x="68" y="1743"/>
                </a:cubicBezTo>
                <a:cubicBezTo>
                  <a:pt x="58" y="1758"/>
                  <a:pt x="18" y="1782"/>
                  <a:pt x="10" y="1800"/>
                </a:cubicBezTo>
                <a:cubicBezTo>
                  <a:pt x="0" y="1817"/>
                  <a:pt x="11" y="1822"/>
                  <a:pt x="19" y="1854"/>
                </a:cubicBezTo>
                <a:lnTo>
                  <a:pt x="28" y="1916"/>
                </a:lnTo>
                <a:lnTo>
                  <a:pt x="64" y="1982"/>
                </a:lnTo>
                <a:lnTo>
                  <a:pt x="71" y="2037"/>
                </a:lnTo>
                <a:lnTo>
                  <a:pt x="85" y="2090"/>
                </a:lnTo>
                <a:lnTo>
                  <a:pt x="173" y="2259"/>
                </a:lnTo>
                <a:lnTo>
                  <a:pt x="223" y="2352"/>
                </a:lnTo>
                <a:lnTo>
                  <a:pt x="249" y="2402"/>
                </a:lnTo>
                <a:lnTo>
                  <a:pt x="301" y="2490"/>
                </a:lnTo>
                <a:lnTo>
                  <a:pt x="335" y="2559"/>
                </a:lnTo>
                <a:lnTo>
                  <a:pt x="362" y="2615"/>
                </a:lnTo>
                <a:cubicBezTo>
                  <a:pt x="371" y="2634"/>
                  <a:pt x="385" y="2659"/>
                  <a:pt x="391" y="2676"/>
                </a:cubicBezTo>
                <a:cubicBezTo>
                  <a:pt x="397" y="2693"/>
                  <a:pt x="392" y="2702"/>
                  <a:pt x="401" y="2717"/>
                </a:cubicBezTo>
                <a:lnTo>
                  <a:pt x="443" y="2765"/>
                </a:lnTo>
                <a:lnTo>
                  <a:pt x="346" y="2816"/>
                </a:lnTo>
                <a:lnTo>
                  <a:pt x="262" y="2874"/>
                </a:lnTo>
                <a:cubicBezTo>
                  <a:pt x="248" y="2892"/>
                  <a:pt x="263" y="2915"/>
                  <a:pt x="263" y="2922"/>
                </a:cubicBezTo>
                <a:cubicBezTo>
                  <a:pt x="263" y="2929"/>
                  <a:pt x="254" y="2913"/>
                  <a:pt x="260" y="2919"/>
                </a:cubicBezTo>
                <a:cubicBezTo>
                  <a:pt x="266" y="2932"/>
                  <a:pt x="276" y="2956"/>
                  <a:pt x="298" y="2958"/>
                </a:cubicBezTo>
                <a:lnTo>
                  <a:pt x="386" y="2942"/>
                </a:lnTo>
                <a:lnTo>
                  <a:pt x="367" y="2961"/>
                </a:lnTo>
                <a:lnTo>
                  <a:pt x="341" y="3069"/>
                </a:lnTo>
                <a:lnTo>
                  <a:pt x="370" y="3103"/>
                </a:lnTo>
                <a:lnTo>
                  <a:pt x="298" y="3273"/>
                </a:lnTo>
                <a:lnTo>
                  <a:pt x="268" y="3344"/>
                </a:lnTo>
                <a:cubicBezTo>
                  <a:pt x="266" y="3363"/>
                  <a:pt x="269" y="3380"/>
                  <a:pt x="284" y="3389"/>
                </a:cubicBezTo>
                <a:cubicBezTo>
                  <a:pt x="296" y="3397"/>
                  <a:pt x="335" y="3407"/>
                  <a:pt x="361" y="3396"/>
                </a:cubicBezTo>
                <a:lnTo>
                  <a:pt x="443" y="3321"/>
                </a:lnTo>
                <a:lnTo>
                  <a:pt x="491" y="3249"/>
                </a:lnTo>
                <a:lnTo>
                  <a:pt x="515" y="3140"/>
                </a:lnTo>
                <a:lnTo>
                  <a:pt x="564" y="3103"/>
                </a:lnTo>
                <a:lnTo>
                  <a:pt x="588" y="3055"/>
                </a:lnTo>
                <a:lnTo>
                  <a:pt x="631" y="2934"/>
                </a:lnTo>
                <a:lnTo>
                  <a:pt x="647" y="2831"/>
                </a:lnTo>
                <a:lnTo>
                  <a:pt x="668" y="2811"/>
                </a:lnTo>
                <a:cubicBezTo>
                  <a:pt x="671" y="2801"/>
                  <a:pt x="665" y="2789"/>
                  <a:pt x="667" y="2771"/>
                </a:cubicBezTo>
                <a:cubicBezTo>
                  <a:pt x="669" y="2753"/>
                  <a:pt x="679" y="2716"/>
                  <a:pt x="680" y="2702"/>
                </a:cubicBezTo>
                <a:cubicBezTo>
                  <a:pt x="678" y="2685"/>
                  <a:pt x="670" y="2695"/>
                  <a:pt x="670" y="2685"/>
                </a:cubicBezTo>
                <a:lnTo>
                  <a:pt x="679" y="2640"/>
                </a:lnTo>
                <a:lnTo>
                  <a:pt x="676" y="2589"/>
                </a:lnTo>
                <a:lnTo>
                  <a:pt x="685" y="2499"/>
                </a:lnTo>
                <a:lnTo>
                  <a:pt x="703" y="2448"/>
                </a:lnTo>
                <a:lnTo>
                  <a:pt x="712" y="2400"/>
                </a:lnTo>
                <a:lnTo>
                  <a:pt x="718" y="2331"/>
                </a:lnTo>
                <a:lnTo>
                  <a:pt x="733" y="2257"/>
                </a:lnTo>
                <a:lnTo>
                  <a:pt x="760" y="2133"/>
                </a:lnTo>
                <a:cubicBezTo>
                  <a:pt x="771" y="2106"/>
                  <a:pt x="793" y="2115"/>
                  <a:pt x="799" y="2096"/>
                </a:cubicBezTo>
                <a:cubicBezTo>
                  <a:pt x="805" y="2077"/>
                  <a:pt x="802" y="2051"/>
                  <a:pt x="796" y="2021"/>
                </a:cubicBezTo>
                <a:lnTo>
                  <a:pt x="764" y="1916"/>
                </a:lnTo>
                <a:lnTo>
                  <a:pt x="769" y="1788"/>
                </a:lnTo>
                <a:lnTo>
                  <a:pt x="757" y="1725"/>
                </a:lnTo>
                <a:lnTo>
                  <a:pt x="758" y="1676"/>
                </a:lnTo>
                <a:lnTo>
                  <a:pt x="745" y="1625"/>
                </a:lnTo>
                <a:lnTo>
                  <a:pt x="740" y="1476"/>
                </a:lnTo>
                <a:lnTo>
                  <a:pt x="757" y="1418"/>
                </a:lnTo>
                <a:lnTo>
                  <a:pt x="767" y="1338"/>
                </a:lnTo>
                <a:lnTo>
                  <a:pt x="787" y="1280"/>
                </a:lnTo>
                <a:lnTo>
                  <a:pt x="797" y="1223"/>
                </a:lnTo>
                <a:lnTo>
                  <a:pt x="806" y="1218"/>
                </a:lnTo>
                <a:lnTo>
                  <a:pt x="842" y="1223"/>
                </a:lnTo>
                <a:lnTo>
                  <a:pt x="997" y="1176"/>
                </a:lnTo>
                <a:lnTo>
                  <a:pt x="1070" y="1137"/>
                </a:lnTo>
                <a:lnTo>
                  <a:pt x="1093" y="1083"/>
                </a:lnTo>
                <a:cubicBezTo>
                  <a:pt x="1116" y="1063"/>
                  <a:pt x="1187" y="1039"/>
                  <a:pt x="1207" y="1017"/>
                </a:cubicBezTo>
                <a:cubicBezTo>
                  <a:pt x="1226" y="993"/>
                  <a:pt x="1204" y="970"/>
                  <a:pt x="1210" y="951"/>
                </a:cubicBezTo>
                <a:cubicBezTo>
                  <a:pt x="1216" y="932"/>
                  <a:pt x="1238" y="919"/>
                  <a:pt x="1241" y="902"/>
                </a:cubicBezTo>
                <a:cubicBezTo>
                  <a:pt x="1243" y="881"/>
                  <a:pt x="1230" y="867"/>
                  <a:pt x="1229" y="848"/>
                </a:cubicBezTo>
                <a:cubicBezTo>
                  <a:pt x="1228" y="829"/>
                  <a:pt x="1242" y="810"/>
                  <a:pt x="1237" y="789"/>
                </a:cubicBezTo>
                <a:cubicBezTo>
                  <a:pt x="1234" y="763"/>
                  <a:pt x="1208" y="745"/>
                  <a:pt x="1201" y="720"/>
                </a:cubicBezTo>
                <a:cubicBezTo>
                  <a:pt x="1195" y="689"/>
                  <a:pt x="1208" y="660"/>
                  <a:pt x="1195" y="641"/>
                </a:cubicBezTo>
                <a:cubicBezTo>
                  <a:pt x="1179" y="620"/>
                  <a:pt x="1144" y="620"/>
                  <a:pt x="1121" y="608"/>
                </a:cubicBezTo>
                <a:cubicBezTo>
                  <a:pt x="1098" y="596"/>
                  <a:pt x="1069" y="583"/>
                  <a:pt x="1055" y="569"/>
                </a:cubicBezTo>
                <a:cubicBezTo>
                  <a:pt x="1037" y="556"/>
                  <a:pt x="1038" y="541"/>
                  <a:pt x="1037" y="522"/>
                </a:cubicBezTo>
                <a:cubicBezTo>
                  <a:pt x="1036" y="503"/>
                  <a:pt x="1044" y="481"/>
                  <a:pt x="1051" y="452"/>
                </a:cubicBezTo>
                <a:cubicBezTo>
                  <a:pt x="1058" y="423"/>
                  <a:pt x="1076" y="374"/>
                  <a:pt x="1081" y="345"/>
                </a:cubicBezTo>
                <a:cubicBezTo>
                  <a:pt x="1088" y="304"/>
                  <a:pt x="1087" y="297"/>
                  <a:pt x="1082" y="281"/>
                </a:cubicBezTo>
                <a:cubicBezTo>
                  <a:pt x="1077" y="265"/>
                  <a:pt x="1066" y="251"/>
                  <a:pt x="1052" y="246"/>
                </a:cubicBezTo>
                <a:cubicBezTo>
                  <a:pt x="1040" y="242"/>
                  <a:pt x="1016" y="232"/>
                  <a:pt x="999" y="249"/>
                </a:cubicBezTo>
                <a:cubicBezTo>
                  <a:pt x="983" y="265"/>
                  <a:pt x="963" y="309"/>
                  <a:pt x="953" y="344"/>
                </a:cubicBezTo>
                <a:cubicBezTo>
                  <a:pt x="945" y="376"/>
                  <a:pt x="945" y="434"/>
                  <a:pt x="941" y="462"/>
                </a:cubicBezTo>
                <a:lnTo>
                  <a:pt x="927" y="515"/>
                </a:lnTo>
                <a:lnTo>
                  <a:pt x="907" y="545"/>
                </a:lnTo>
                <a:lnTo>
                  <a:pt x="883" y="626"/>
                </a:lnTo>
                <a:lnTo>
                  <a:pt x="866" y="690"/>
                </a:lnTo>
                <a:lnTo>
                  <a:pt x="869" y="780"/>
                </a:lnTo>
                <a:lnTo>
                  <a:pt x="860" y="782"/>
                </a:lnTo>
                <a:lnTo>
                  <a:pt x="832" y="699"/>
                </a:lnTo>
                <a:lnTo>
                  <a:pt x="794" y="659"/>
                </a:lnTo>
                <a:cubicBezTo>
                  <a:pt x="777" y="648"/>
                  <a:pt x="750" y="636"/>
                  <a:pt x="727" y="633"/>
                </a:cubicBezTo>
                <a:cubicBezTo>
                  <a:pt x="706" y="630"/>
                  <a:pt x="677" y="642"/>
                  <a:pt x="656" y="641"/>
                </a:cubicBezTo>
                <a:cubicBezTo>
                  <a:pt x="634" y="640"/>
                  <a:pt x="610" y="632"/>
                  <a:pt x="602" y="627"/>
                </a:cubicBezTo>
                <a:lnTo>
                  <a:pt x="605" y="609"/>
                </a:lnTo>
                <a:lnTo>
                  <a:pt x="533" y="545"/>
                </a:lnTo>
                <a:cubicBezTo>
                  <a:pt x="524" y="530"/>
                  <a:pt x="544" y="530"/>
                  <a:pt x="550" y="521"/>
                </a:cubicBezTo>
                <a:cubicBezTo>
                  <a:pt x="556" y="512"/>
                  <a:pt x="565" y="503"/>
                  <a:pt x="572" y="489"/>
                </a:cubicBezTo>
                <a:cubicBezTo>
                  <a:pt x="582" y="469"/>
                  <a:pt x="591" y="455"/>
                  <a:pt x="595" y="434"/>
                </a:cubicBezTo>
                <a:cubicBezTo>
                  <a:pt x="597" y="419"/>
                  <a:pt x="596" y="402"/>
                  <a:pt x="593" y="399"/>
                </a:cubicBezTo>
                <a:cubicBezTo>
                  <a:pt x="590" y="396"/>
                  <a:pt x="578" y="393"/>
                  <a:pt x="578" y="389"/>
                </a:cubicBezTo>
                <a:cubicBezTo>
                  <a:pt x="578" y="385"/>
                  <a:pt x="588" y="378"/>
                  <a:pt x="592" y="374"/>
                </a:cubicBezTo>
                <a:lnTo>
                  <a:pt x="604" y="365"/>
                </a:lnTo>
                <a:lnTo>
                  <a:pt x="599" y="342"/>
                </a:lnTo>
                <a:lnTo>
                  <a:pt x="613" y="345"/>
                </a:lnTo>
                <a:lnTo>
                  <a:pt x="602" y="306"/>
                </a:lnTo>
                <a:cubicBezTo>
                  <a:pt x="603" y="298"/>
                  <a:pt x="617" y="300"/>
                  <a:pt x="617" y="294"/>
                </a:cubicBezTo>
                <a:cubicBezTo>
                  <a:pt x="618" y="290"/>
                  <a:pt x="600" y="277"/>
                  <a:pt x="599" y="270"/>
                </a:cubicBezTo>
                <a:lnTo>
                  <a:pt x="622" y="261"/>
                </a:lnTo>
                <a:cubicBezTo>
                  <a:pt x="621" y="252"/>
                  <a:pt x="594" y="221"/>
                  <a:pt x="593" y="216"/>
                </a:cubicBezTo>
                <a:cubicBezTo>
                  <a:pt x="594" y="211"/>
                  <a:pt x="623" y="249"/>
                  <a:pt x="617" y="231"/>
                </a:cubicBezTo>
                <a:cubicBezTo>
                  <a:pt x="611" y="213"/>
                  <a:pt x="599" y="197"/>
                  <a:pt x="595" y="189"/>
                </a:cubicBezTo>
                <a:cubicBezTo>
                  <a:pt x="591" y="182"/>
                  <a:pt x="575" y="164"/>
                  <a:pt x="604" y="177"/>
                </a:cubicBezTo>
                <a:cubicBezTo>
                  <a:pt x="633" y="190"/>
                  <a:pt x="581" y="155"/>
                  <a:pt x="575" y="146"/>
                </a:cubicBezTo>
                <a:cubicBezTo>
                  <a:pt x="569" y="137"/>
                  <a:pt x="565" y="127"/>
                  <a:pt x="566" y="122"/>
                </a:cubicBezTo>
                <a:cubicBezTo>
                  <a:pt x="567" y="117"/>
                  <a:pt x="584" y="121"/>
                  <a:pt x="581" y="117"/>
                </a:cubicBezTo>
                <a:cubicBezTo>
                  <a:pt x="578" y="113"/>
                  <a:pt x="560" y="107"/>
                  <a:pt x="550" y="98"/>
                </a:cubicBezTo>
                <a:cubicBezTo>
                  <a:pt x="540" y="89"/>
                  <a:pt x="537" y="74"/>
                  <a:pt x="523" y="63"/>
                </a:cubicBezTo>
                <a:cubicBezTo>
                  <a:pt x="507" y="48"/>
                  <a:pt x="485" y="40"/>
                  <a:pt x="467" y="31"/>
                </a:cubicBezTo>
                <a:cubicBezTo>
                  <a:pt x="449" y="22"/>
                  <a:pt x="434" y="16"/>
                  <a:pt x="416" y="11"/>
                </a:cubicBezTo>
                <a:cubicBezTo>
                  <a:pt x="398" y="6"/>
                  <a:pt x="378" y="0"/>
                  <a:pt x="359" y="2"/>
                </a:cubicBezTo>
                <a:cubicBezTo>
                  <a:pt x="339" y="5"/>
                  <a:pt x="321" y="19"/>
                  <a:pt x="304" y="21"/>
                </a:cubicBezTo>
                <a:cubicBezTo>
                  <a:pt x="287" y="23"/>
                  <a:pt x="275" y="8"/>
                  <a:pt x="256" y="12"/>
                </a:cubicBezTo>
                <a:cubicBezTo>
                  <a:pt x="239" y="15"/>
                  <a:pt x="208" y="31"/>
                  <a:pt x="190" y="44"/>
                </a:cubicBezTo>
                <a:lnTo>
                  <a:pt x="136" y="87"/>
                </a:lnTo>
                <a:cubicBezTo>
                  <a:pt x="127" y="92"/>
                  <a:pt x="137" y="72"/>
                  <a:pt x="134" y="75"/>
                </a:cubicBezTo>
                <a:cubicBezTo>
                  <a:pt x="132" y="77"/>
                  <a:pt x="125" y="96"/>
                  <a:pt x="121" y="104"/>
                </a:cubicBezTo>
                <a:cubicBezTo>
                  <a:pt x="118" y="105"/>
                  <a:pt x="117" y="80"/>
                  <a:pt x="115" y="84"/>
                </a:cubicBezTo>
                <a:cubicBezTo>
                  <a:pt x="113" y="88"/>
                  <a:pt x="115" y="111"/>
                  <a:pt x="112" y="126"/>
                </a:cubicBezTo>
                <a:cubicBezTo>
                  <a:pt x="109" y="141"/>
                  <a:pt x="100" y="170"/>
                  <a:pt x="94" y="174"/>
                </a:cubicBezTo>
                <a:cubicBezTo>
                  <a:pt x="90" y="187"/>
                  <a:pt x="72" y="133"/>
                  <a:pt x="77" y="152"/>
                </a:cubicBezTo>
                <a:cubicBezTo>
                  <a:pt x="82" y="171"/>
                  <a:pt x="86" y="196"/>
                  <a:pt x="85" y="200"/>
                </a:cubicBezTo>
                <a:cubicBezTo>
                  <a:pt x="84" y="204"/>
                  <a:pt x="73" y="170"/>
                  <a:pt x="70" y="176"/>
                </a:cubicBezTo>
                <a:cubicBezTo>
                  <a:pt x="87" y="212"/>
                  <a:pt x="67" y="215"/>
                  <a:pt x="68" y="237"/>
                </a:cubicBezTo>
                <a:cubicBezTo>
                  <a:pt x="66" y="252"/>
                  <a:pt x="77" y="263"/>
                  <a:pt x="58" y="269"/>
                </a:cubicBezTo>
                <a:cubicBezTo>
                  <a:pt x="39" y="275"/>
                  <a:pt x="77" y="275"/>
                  <a:pt x="77" y="279"/>
                </a:cubicBezTo>
                <a:cubicBezTo>
                  <a:pt x="77" y="283"/>
                  <a:pt x="74" y="297"/>
                  <a:pt x="58" y="294"/>
                </a:cubicBezTo>
                <a:cubicBezTo>
                  <a:pt x="42" y="291"/>
                  <a:pt x="80" y="310"/>
                  <a:pt x="85" y="318"/>
                </a:cubicBezTo>
                <a:cubicBezTo>
                  <a:pt x="90" y="326"/>
                  <a:pt x="85" y="334"/>
                  <a:pt x="89" y="344"/>
                </a:cubicBezTo>
                <a:lnTo>
                  <a:pt x="109" y="377"/>
                </a:lnTo>
                <a:close/>
              </a:path>
            </a:pathLst>
          </a:custGeom>
          <a:gradFill rotWithShape="0">
            <a:gsLst>
              <a:gs pos="0">
                <a:srgbClr val="9a2fb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"/>
          <p:cNvGrpSpPr/>
          <p:nvPr/>
        </p:nvGrpSpPr>
        <p:grpSpPr>
          <a:xfrm>
            <a:off x="654120" y="2936880"/>
            <a:ext cx="1758960" cy="1736640"/>
            <a:chOff x="654120" y="2936880"/>
            <a:chExt cx="1758960" cy="1736640"/>
          </a:xfrm>
        </p:grpSpPr>
        <p:pic>
          <p:nvPicPr>
            <p:cNvPr id="666" name="" descr=""/>
            <p:cNvPicPr/>
            <p:nvPr/>
          </p:nvPicPr>
          <p:blipFill>
            <a:blip r:embed="rId1"/>
            <a:stretch/>
          </p:blipFill>
          <p:spPr>
            <a:xfrm>
              <a:off x="654120" y="2949480"/>
              <a:ext cx="1758960" cy="171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677160" y="2936880"/>
              <a:ext cx="1735560" cy="1736640"/>
            </a:xfrm>
            <a:prstGeom prst="ellipse">
              <a:avLst/>
            </a:prstGeom>
            <a:solidFill>
              <a:srgbClr val="fca11c">
                <a:alpha val="50000"/>
              </a:srgbClr>
            </a:solidFill>
            <a:ln w="7632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6915240" y="2936880"/>
            <a:ext cx="1758960" cy="1736640"/>
            <a:chOff x="6915240" y="2936880"/>
            <a:chExt cx="1758960" cy="1736640"/>
          </a:xfrm>
        </p:grpSpPr>
        <p:pic>
          <p:nvPicPr>
            <p:cNvPr id="669" name="" descr=""/>
            <p:cNvPicPr/>
            <p:nvPr/>
          </p:nvPicPr>
          <p:blipFill>
            <a:blip r:embed="rId2"/>
            <a:stretch/>
          </p:blipFill>
          <p:spPr>
            <a:xfrm>
              <a:off x="6915240" y="2949480"/>
              <a:ext cx="1758960" cy="171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>
              <a:off x="6938280" y="2936880"/>
              <a:ext cx="1735560" cy="1736640"/>
            </a:xfrm>
            <a:prstGeom prst="ellipse">
              <a:avLst/>
            </a:prstGeom>
            <a:solidFill>
              <a:srgbClr val="0091d2">
                <a:alpha val="50000"/>
              </a:srgbClr>
            </a:solidFill>
            <a:ln w="7632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2575080" y="3286080"/>
            <a:ext cx="4147920" cy="533520"/>
          </a:xfrm>
          <a:custGeom>
            <a:avLst/>
            <a:gdLst/>
            <a:ahLst/>
            <a:rect l="l" t="t" r="r" b="b"/>
            <a:pathLst>
              <a:path w="2347" h="336">
                <a:moveTo>
                  <a:pt x="0" y="188"/>
                </a:moveTo>
                <a:lnTo>
                  <a:pt x="0" y="336"/>
                </a:lnTo>
                <a:lnTo>
                  <a:pt x="2347" y="336"/>
                </a:lnTo>
                <a:lnTo>
                  <a:pt x="2005" y="0"/>
                </a:lnTo>
                <a:lnTo>
                  <a:pt x="2005" y="189"/>
                </a:lnTo>
                <a:lnTo>
                  <a:pt x="0" y="188"/>
                </a:ln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ecec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41920" y="2193840"/>
            <a:ext cx="1612800" cy="858960"/>
          </a:xfrm>
          <a:prstGeom prst="upArrow">
            <a:avLst>
              <a:gd name="adj1" fmla="val 65157"/>
              <a:gd name="adj2" fmla="val 48347"/>
            </a:avLst>
          </a:prstGeom>
          <a:gradFill rotWithShape="0">
            <a:gsLst>
              <a:gs pos="0">
                <a:srgbClr val="ff9933"/>
              </a:gs>
              <a:gs pos="100000">
                <a:srgbClr val="fcfb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3841920" y="4673520"/>
            <a:ext cx="1612800" cy="858960"/>
          </a:xfrm>
          <a:prstGeom prst="upArrow">
            <a:avLst>
              <a:gd name="adj1" fmla="val 65157"/>
              <a:gd name="adj2" fmla="val 48347"/>
            </a:avLst>
          </a:prstGeom>
          <a:gradFill rotWithShape="0">
            <a:gsLst>
              <a:gs pos="0">
                <a:srgbClr val="66ccff"/>
              </a:gs>
              <a:gs pos="100000">
                <a:srgbClr val="fcfb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727360" y="5676840"/>
            <a:ext cx="3803760" cy="593640"/>
          </a:xfrm>
          <a:prstGeom prst="roundRect">
            <a:avLst>
              <a:gd name="adj" fmla="val 0"/>
            </a:avLst>
          </a:prstGeom>
          <a:solidFill>
            <a:srgbClr val="f3fb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675" name=""/>
          <p:cNvCxnSpPr>
            <a:stCxn id="667" idx="4"/>
            <a:endCxn id="674" idx="1"/>
          </p:cNvCxnSpPr>
          <p:nvPr/>
        </p:nvCxnSpPr>
        <p:spPr>
          <a:xfrm flipH="1" rot="16200000">
            <a:off x="1504800" y="4752000"/>
            <a:ext cx="1262880" cy="1181880"/>
          </a:xfrm>
          <a:prstGeom prst="bentConnector2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676" name=""/>
          <p:cNvCxnSpPr>
            <a:stCxn id="670" idx="4"/>
            <a:endCxn id="674" idx="3"/>
          </p:cNvCxnSpPr>
          <p:nvPr/>
        </p:nvCxnSpPr>
        <p:spPr>
          <a:xfrm rot="5400000">
            <a:off x="6537240" y="4704840"/>
            <a:ext cx="1262880" cy="1276560"/>
          </a:xfrm>
          <a:prstGeom prst="bentConnector2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77" name=""/>
          <p:cNvSpPr/>
          <p:nvPr/>
        </p:nvSpPr>
        <p:spPr>
          <a:xfrm flipH="1" flipV="1">
            <a:off x="2575080" y="3853800"/>
            <a:ext cx="4147920" cy="533160"/>
          </a:xfrm>
          <a:custGeom>
            <a:avLst/>
            <a:gdLst/>
            <a:ahLst/>
            <a:rect l="l" t="t" r="r" b="b"/>
            <a:pathLst>
              <a:path w="2347" h="336">
                <a:moveTo>
                  <a:pt x="0" y="188"/>
                </a:moveTo>
                <a:lnTo>
                  <a:pt x="0" y="336"/>
                </a:lnTo>
                <a:lnTo>
                  <a:pt x="2347" y="336"/>
                </a:lnTo>
                <a:lnTo>
                  <a:pt x="2005" y="0"/>
                </a:lnTo>
                <a:lnTo>
                  <a:pt x="2005" y="189"/>
                </a:lnTo>
                <a:lnTo>
                  <a:pt x="0" y="188"/>
                </a:ln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ecec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08200" y="3406680"/>
            <a:ext cx="143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108920" y="3406680"/>
            <a:ext cx="143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689280" y="4203720"/>
            <a:ext cx="19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689280" y="3159000"/>
            <a:ext cx="19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881440" y="5721480"/>
            <a:ext cx="349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27360" y="1455840"/>
            <a:ext cx="3803760" cy="593640"/>
          </a:xfrm>
          <a:prstGeom prst="roundRect">
            <a:avLst>
              <a:gd name="adj" fmla="val 0"/>
            </a:avLst>
          </a:prstGeom>
          <a:solidFill>
            <a:srgbClr val="f3fb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881440" y="1500120"/>
            <a:ext cx="349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685" name=""/>
          <p:cNvCxnSpPr>
            <a:endCxn id="683" idx="1"/>
          </p:cNvCxnSpPr>
          <p:nvPr/>
        </p:nvCxnSpPr>
        <p:spPr>
          <a:xfrm flipH="1" flipV="1" rot="5400000">
            <a:off x="1544040" y="1753560"/>
            <a:ext cx="1185120" cy="1181880"/>
          </a:xfrm>
          <a:prstGeom prst="bentConnector2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686" name=""/>
          <p:cNvCxnSpPr>
            <a:stCxn id="670" idx="0"/>
            <a:endCxn id="683" idx="3"/>
          </p:cNvCxnSpPr>
          <p:nvPr/>
        </p:nvCxnSpPr>
        <p:spPr>
          <a:xfrm flipV="1" rot="16200000">
            <a:off x="6595560" y="1686960"/>
            <a:ext cx="1146960" cy="1276560"/>
          </a:xfrm>
          <a:prstGeom prst="bentConnector2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94920" y="17640"/>
            <a:ext cx="83358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447920" y="5475240"/>
            <a:ext cx="6305400" cy="830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c2c2c2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rot="1961400">
            <a:off x="2199960" y="2919240"/>
            <a:ext cx="4784760" cy="1094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9bc36"/>
              </a:gs>
              <a:gs pos="50000">
                <a:srgbClr val="cee3ad"/>
              </a:gs>
              <a:gs pos="100000">
                <a:srgbClr val="89bc36"/>
              </a:gs>
            </a:gsLst>
            <a:lin ang="88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 rot="19638600">
            <a:off x="2196720" y="2922480"/>
            <a:ext cx="4784760" cy="109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1d2"/>
              </a:gs>
              <a:gs pos="50000">
                <a:srgbClr val="b2ddf0"/>
              </a:gs>
              <a:gs pos="100000">
                <a:srgbClr val="0091d2"/>
              </a:gs>
            </a:gsLst>
            <a:lin ang="88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602160" y="2585880"/>
            <a:ext cx="2003400" cy="131148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ebb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765600" y="287496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1"/>
                </a:solidFill>
                <a:latin typeface="Arial"/>
              </a:rPr>
              <a:t>Text in her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238400" y="5591160"/>
            <a:ext cx="6713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is a Design Digital Content &amp; Contents mall developed by Guild Design Inc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600280" y="2176560"/>
            <a:ext cx="102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370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213600" y="3090960"/>
            <a:ext cx="188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600360" y="4595760"/>
            <a:ext cx="1971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619440" y="1535040"/>
            <a:ext cx="188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562720" y="2176560"/>
            <a:ext cx="102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36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600280" y="4191120"/>
            <a:ext cx="102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36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562720" y="4191120"/>
            <a:ext cx="102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370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94920" y="17640"/>
            <a:ext cx="83358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1969920" y="3024360"/>
            <a:ext cx="1123920" cy="942840"/>
            <a:chOff x="1969920" y="3024360"/>
            <a:chExt cx="1123920" cy="942840"/>
          </a:xfrm>
        </p:grpSpPr>
        <p:sp>
          <p:nvSpPr>
            <p:cNvPr id="703" name=""/>
            <p:cNvSpPr/>
            <p:nvPr/>
          </p:nvSpPr>
          <p:spPr>
            <a:xfrm>
              <a:off x="1969920" y="3281400"/>
              <a:ext cx="1123920" cy="685800"/>
            </a:xfrm>
            <a:custGeom>
              <a:avLst/>
              <a:gdLst/>
              <a:ahLst/>
              <a:rect l="l" t="t" r="r" b="b"/>
              <a:pathLst>
                <a:path w="708" h="432">
                  <a:moveTo>
                    <a:pt x="8" y="211"/>
                  </a:moveTo>
                  <a:cubicBezTo>
                    <a:pt x="8" y="211"/>
                    <a:pt x="265" y="380"/>
                    <a:pt x="324" y="417"/>
                  </a:cubicBezTo>
                  <a:cubicBezTo>
                    <a:pt x="336" y="423"/>
                    <a:pt x="342" y="432"/>
                    <a:pt x="360" y="432"/>
                  </a:cubicBezTo>
                  <a:cubicBezTo>
                    <a:pt x="378" y="432"/>
                    <a:pt x="386" y="423"/>
                    <a:pt x="404" y="412"/>
                  </a:cubicBezTo>
                  <a:cubicBezTo>
                    <a:pt x="560" y="311"/>
                    <a:pt x="705" y="216"/>
                    <a:pt x="705" y="216"/>
                  </a:cubicBezTo>
                  <a:lnTo>
                    <a:pt x="708" y="198"/>
                  </a:lnTo>
                  <a:lnTo>
                    <a:pt x="671" y="4"/>
                  </a:lnTo>
                  <a:lnTo>
                    <a:pt x="383" y="190"/>
                  </a:lnTo>
                  <a:lnTo>
                    <a:pt x="354" y="187"/>
                  </a:lnTo>
                  <a:lnTo>
                    <a:pt x="39" y="0"/>
                  </a:lnTo>
                  <a:lnTo>
                    <a:pt x="0" y="195"/>
                  </a:lnTo>
                  <a:lnTo>
                    <a:pt x="8" y="211"/>
                  </a:lnTo>
                  <a:close/>
                </a:path>
              </a:pathLst>
            </a:custGeom>
            <a:gradFill rotWithShape="0">
              <a:gsLst>
                <a:gs pos="0">
                  <a:srgbClr val="fbfbfb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  <a:effectLst>
              <a:outerShdw dist="2556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17440" y="3024360"/>
              <a:ext cx="1025280" cy="581040"/>
            </a:xfrm>
            <a:custGeom>
              <a:avLst/>
              <a:gdLst/>
              <a:ahLst/>
              <a:rect l="l" t="t" r="r" b="b"/>
              <a:pathLst>
                <a:path w="646" h="366">
                  <a:moveTo>
                    <a:pt x="346" y="0"/>
                  </a:moveTo>
                  <a:cubicBezTo>
                    <a:pt x="331" y="0"/>
                    <a:pt x="317" y="12"/>
                    <a:pt x="288" y="27"/>
                  </a:cubicBezTo>
                  <a:lnTo>
                    <a:pt x="171" y="89"/>
                  </a:lnTo>
                  <a:lnTo>
                    <a:pt x="21" y="158"/>
                  </a:lnTo>
                  <a:cubicBezTo>
                    <a:pt x="21" y="158"/>
                    <a:pt x="0" y="167"/>
                    <a:pt x="15" y="182"/>
                  </a:cubicBezTo>
                  <a:cubicBezTo>
                    <a:pt x="151" y="265"/>
                    <a:pt x="188" y="289"/>
                    <a:pt x="241" y="320"/>
                  </a:cubicBezTo>
                  <a:cubicBezTo>
                    <a:pt x="294" y="351"/>
                    <a:pt x="308" y="361"/>
                    <a:pt x="333" y="366"/>
                  </a:cubicBezTo>
                  <a:cubicBezTo>
                    <a:pt x="349" y="365"/>
                    <a:pt x="355" y="366"/>
                    <a:pt x="391" y="347"/>
                  </a:cubicBezTo>
                  <a:lnTo>
                    <a:pt x="552" y="251"/>
                  </a:lnTo>
                  <a:lnTo>
                    <a:pt x="618" y="204"/>
                  </a:lnTo>
                  <a:cubicBezTo>
                    <a:pt x="633" y="192"/>
                    <a:pt x="643" y="187"/>
                    <a:pt x="643" y="179"/>
                  </a:cubicBezTo>
                  <a:cubicBezTo>
                    <a:pt x="643" y="171"/>
                    <a:pt x="646" y="171"/>
                    <a:pt x="619" y="153"/>
                  </a:cubicBezTo>
                  <a:lnTo>
                    <a:pt x="478" y="69"/>
                  </a:lnTo>
                  <a:cubicBezTo>
                    <a:pt x="433" y="44"/>
                    <a:pt x="361" y="0"/>
                    <a:pt x="34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141280" y="3371760"/>
              <a:ext cx="403200" cy="497160"/>
            </a:xfrm>
            <a:custGeom>
              <a:avLst/>
              <a:gdLst/>
              <a:ahLst/>
              <a:rect l="l" t="t" r="r" b="b"/>
              <a:pathLst>
                <a:path w="254" h="313">
                  <a:moveTo>
                    <a:pt x="0" y="0"/>
                  </a:moveTo>
                  <a:lnTo>
                    <a:pt x="134" y="82"/>
                  </a:lnTo>
                  <a:cubicBezTo>
                    <a:pt x="172" y="105"/>
                    <a:pt x="208" y="121"/>
                    <a:pt x="228" y="135"/>
                  </a:cubicBezTo>
                  <a:cubicBezTo>
                    <a:pt x="245" y="144"/>
                    <a:pt x="253" y="141"/>
                    <a:pt x="254" y="166"/>
                  </a:cubicBezTo>
                  <a:lnTo>
                    <a:pt x="254" y="313"/>
                  </a:lnTo>
                  <a:cubicBezTo>
                    <a:pt x="244" y="310"/>
                    <a:pt x="233" y="202"/>
                    <a:pt x="191" y="150"/>
                  </a:cubicBezTo>
                  <a:cubicBezTo>
                    <a:pt x="149" y="98"/>
                    <a:pt x="38" y="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2381040" y="3203280"/>
              <a:ext cx="30132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"/>
          <p:cNvGrpSpPr/>
          <p:nvPr/>
        </p:nvGrpSpPr>
        <p:grpSpPr>
          <a:xfrm>
            <a:off x="2413080" y="1674720"/>
            <a:ext cx="2185920" cy="568440"/>
            <a:chOff x="2413080" y="1674720"/>
            <a:chExt cx="2185920" cy="568440"/>
          </a:xfrm>
        </p:grpSpPr>
        <p:sp>
          <p:nvSpPr>
            <p:cNvPr id="708" name=""/>
            <p:cNvSpPr/>
            <p:nvPr/>
          </p:nvSpPr>
          <p:spPr>
            <a:xfrm>
              <a:off x="2413080" y="1674720"/>
              <a:ext cx="2185920" cy="568440"/>
            </a:xfrm>
            <a:prstGeom prst="roundRect">
              <a:avLst>
                <a:gd name="adj" fmla="val 4505"/>
              </a:avLst>
            </a:prstGeom>
            <a:gradFill rotWithShape="0">
              <a:gsLst>
                <a:gs pos="0">
                  <a:srgbClr val="fcd69e"/>
                </a:gs>
                <a:gs pos="100000">
                  <a:srgbClr val="fca11c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424240" y="1681920"/>
              <a:ext cx="2153520" cy="555120"/>
            </a:xfrm>
            <a:prstGeom prst="roundRect">
              <a:avLst>
                <a:gd name="adj" fmla="val 4505"/>
              </a:avLst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2414520" y="2259000"/>
            <a:ext cx="2175120" cy="1555920"/>
          </a:xfrm>
          <a:prstGeom prst="rect">
            <a:avLst/>
          </a:prstGeom>
          <a:solidFill>
            <a:srgbClr val="fca1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2413080" y="3556080"/>
            <a:ext cx="2174760" cy="1814400"/>
            <a:chOff x="2413080" y="3556080"/>
            <a:chExt cx="2174760" cy="1814400"/>
          </a:xfrm>
        </p:grpSpPr>
        <p:sp>
          <p:nvSpPr>
            <p:cNvPr id="712" name=""/>
            <p:cNvSpPr/>
            <p:nvPr/>
          </p:nvSpPr>
          <p:spPr>
            <a:xfrm>
              <a:off x="2413080" y="3814920"/>
              <a:ext cx="2174760" cy="1555560"/>
            </a:xfrm>
            <a:prstGeom prst="rect">
              <a:avLst/>
            </a:prstGeom>
            <a:solidFill>
              <a:srgbClr val="009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 flipV="1" rot="5400000">
              <a:off x="3291120" y="3413160"/>
              <a:ext cx="334800" cy="620640"/>
            </a:xfrm>
            <a:prstGeom prst="rightArrow">
              <a:avLst>
                <a:gd name="adj1" fmla="val 49870"/>
                <a:gd name="adj2" fmla="val 57894"/>
              </a:avLst>
            </a:prstGeom>
            <a:solidFill>
              <a:srgbClr val="009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4341960" y="3814920"/>
            <a:ext cx="2422440" cy="1555560"/>
            <a:chOff x="4341960" y="3814920"/>
            <a:chExt cx="2422440" cy="1555560"/>
          </a:xfrm>
        </p:grpSpPr>
        <p:sp>
          <p:nvSpPr>
            <p:cNvPr id="715" name=""/>
            <p:cNvSpPr/>
            <p:nvPr/>
          </p:nvSpPr>
          <p:spPr>
            <a:xfrm>
              <a:off x="4589640" y="3814920"/>
              <a:ext cx="2174760" cy="1555560"/>
            </a:xfrm>
            <a:prstGeom prst="rect">
              <a:avLst/>
            </a:prstGeom>
            <a:solidFill>
              <a:srgbClr val="89b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4341960" y="4319640"/>
              <a:ext cx="334800" cy="620640"/>
            </a:xfrm>
            <a:prstGeom prst="rightArrow">
              <a:avLst>
                <a:gd name="adj1" fmla="val 49870"/>
                <a:gd name="adj2" fmla="val 57894"/>
              </a:avLst>
            </a:prstGeom>
            <a:solidFill>
              <a:srgbClr val="89b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4589640" y="2259000"/>
            <a:ext cx="2174760" cy="1816200"/>
            <a:chOff x="4589640" y="2259000"/>
            <a:chExt cx="2174760" cy="1816200"/>
          </a:xfrm>
        </p:grpSpPr>
        <p:sp>
          <p:nvSpPr>
            <p:cNvPr id="718" name=""/>
            <p:cNvSpPr/>
            <p:nvPr/>
          </p:nvSpPr>
          <p:spPr>
            <a:xfrm>
              <a:off x="4589640" y="2259000"/>
              <a:ext cx="2174760" cy="1555920"/>
            </a:xfrm>
            <a:prstGeom prst="rect">
              <a:avLst/>
            </a:prstGeom>
            <a:solidFill>
              <a:srgbClr val="9a2f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 rot="16200000">
              <a:off x="5524200" y="3597120"/>
              <a:ext cx="335160" cy="620640"/>
            </a:xfrm>
            <a:prstGeom prst="rightArrow">
              <a:avLst>
                <a:gd name="adj1" fmla="val 49870"/>
                <a:gd name="adj2" fmla="val 57894"/>
              </a:avLst>
            </a:prstGeom>
            <a:solidFill>
              <a:srgbClr val="9a2f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4502160" y="2798640"/>
            <a:ext cx="334800" cy="621000"/>
          </a:xfrm>
          <a:prstGeom prst="rightArrow">
            <a:avLst>
              <a:gd name="adj1" fmla="val 49870"/>
              <a:gd name="adj2" fmla="val 57894"/>
            </a:avLst>
          </a:prstGeom>
          <a:solidFill>
            <a:srgbClr val="fca1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4572000" y="1676520"/>
            <a:ext cx="2181240" cy="568080"/>
            <a:chOff x="4572000" y="1676520"/>
            <a:chExt cx="2181240" cy="568080"/>
          </a:xfrm>
        </p:grpSpPr>
        <p:sp>
          <p:nvSpPr>
            <p:cNvPr id="722" name=""/>
            <p:cNvSpPr/>
            <p:nvPr/>
          </p:nvSpPr>
          <p:spPr>
            <a:xfrm>
              <a:off x="4572000" y="1676520"/>
              <a:ext cx="2181240" cy="568080"/>
            </a:xfrm>
            <a:prstGeom prst="roundRect">
              <a:avLst>
                <a:gd name="adj" fmla="val 4505"/>
              </a:avLst>
            </a:prstGeom>
            <a:gradFill rotWithShape="0">
              <a:gsLst>
                <a:gs pos="0">
                  <a:srgbClr val="c991da"/>
                </a:gs>
                <a:gs pos="100000">
                  <a:srgbClr val="9a2fbb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83160" y="1684080"/>
              <a:ext cx="2158920" cy="553680"/>
            </a:xfrm>
            <a:prstGeom prst="roundRect">
              <a:avLst>
                <a:gd name="adj" fmla="val 4505"/>
              </a:avLst>
            </a:prstGeom>
            <a:noFill/>
            <a:ln w="3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2408400" y="5384880"/>
            <a:ext cx="2190600" cy="568080"/>
            <a:chOff x="2408400" y="5384880"/>
            <a:chExt cx="2190600" cy="568080"/>
          </a:xfrm>
        </p:grpSpPr>
        <p:sp>
          <p:nvSpPr>
            <p:cNvPr id="725" name=""/>
            <p:cNvSpPr/>
            <p:nvPr/>
          </p:nvSpPr>
          <p:spPr>
            <a:xfrm>
              <a:off x="2408400" y="5384880"/>
              <a:ext cx="2190600" cy="568080"/>
            </a:xfrm>
            <a:prstGeom prst="roundRect">
              <a:avLst>
                <a:gd name="adj" fmla="val 4505"/>
              </a:avLst>
            </a:prstGeom>
            <a:gradFill rotWithShape="0">
              <a:gsLst>
                <a:gs pos="0">
                  <a:srgbClr val="0091d2"/>
                </a:gs>
                <a:gs pos="100000">
                  <a:srgbClr val="79c4e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19560" y="5392080"/>
              <a:ext cx="2158200" cy="554760"/>
            </a:xfrm>
            <a:prstGeom prst="roundRect">
              <a:avLst>
                <a:gd name="adj" fmla="val 4505"/>
              </a:avLst>
            </a:prstGeom>
            <a:noFill/>
            <a:ln w="3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4589640" y="5384880"/>
            <a:ext cx="2180880" cy="568080"/>
            <a:chOff x="4589640" y="5384880"/>
            <a:chExt cx="2180880" cy="568080"/>
          </a:xfrm>
        </p:grpSpPr>
        <p:sp>
          <p:nvSpPr>
            <p:cNvPr id="728" name=""/>
            <p:cNvSpPr/>
            <p:nvPr/>
          </p:nvSpPr>
          <p:spPr>
            <a:xfrm>
              <a:off x="4589640" y="5384880"/>
              <a:ext cx="2180880" cy="568080"/>
            </a:xfrm>
            <a:prstGeom prst="roundRect">
              <a:avLst>
                <a:gd name="adj" fmla="val 4505"/>
              </a:avLst>
            </a:prstGeom>
            <a:gradFill rotWithShape="0">
              <a:gsLst>
                <a:gs pos="0">
                  <a:srgbClr val="89bc36"/>
                </a:gs>
                <a:gs pos="100000">
                  <a:srgbClr val="b4d481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600440" y="5392800"/>
              <a:ext cx="2158560" cy="554040"/>
            </a:xfrm>
            <a:prstGeom prst="roundRect">
              <a:avLst>
                <a:gd name="adj" fmla="val 4505"/>
              </a:avLst>
            </a:prstGeom>
            <a:noFill/>
            <a:ln w="3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2579760" y="17575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735440" y="17575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579760" y="54896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735440" y="54896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558880" y="2774880"/>
            <a:ext cx="17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32280" y="2819520"/>
            <a:ext cx="179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558880" y="4322880"/>
            <a:ext cx="17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21120" y="4356000"/>
            <a:ext cx="179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527040" y="2249640"/>
            <a:ext cx="1827000" cy="1523880"/>
            <a:chOff x="527040" y="2249640"/>
            <a:chExt cx="1827000" cy="1523880"/>
          </a:xfrm>
        </p:grpSpPr>
        <p:sp>
          <p:nvSpPr>
            <p:cNvPr id="739" name=""/>
            <p:cNvSpPr/>
            <p:nvPr/>
          </p:nvSpPr>
          <p:spPr>
            <a:xfrm>
              <a:off x="527040" y="2249640"/>
              <a:ext cx="1827000" cy="1523880"/>
            </a:xfrm>
            <a:custGeom>
              <a:avLst/>
              <a:gdLst>
                <a:gd name="textAreaLeft" fmla="*/ 0 w 1827000"/>
                <a:gd name="textAreaRight" fmla="*/ 1827360 w 18270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45040" y="2265480"/>
              <a:ext cx="1778040" cy="1482840"/>
            </a:xfrm>
            <a:custGeom>
              <a:avLst/>
              <a:gdLst>
                <a:gd name="textAreaLeft" fmla="*/ 0 w 1778040"/>
                <a:gd name="textAreaRight" fmla="*/ 1778400 w 177804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527040" y="3809880"/>
            <a:ext cx="1827000" cy="1523880"/>
            <a:chOff x="527040" y="3809880"/>
            <a:chExt cx="1827000" cy="1523880"/>
          </a:xfrm>
        </p:grpSpPr>
        <p:sp>
          <p:nvSpPr>
            <p:cNvPr id="742" name=""/>
            <p:cNvSpPr/>
            <p:nvPr/>
          </p:nvSpPr>
          <p:spPr>
            <a:xfrm>
              <a:off x="527040" y="3809880"/>
              <a:ext cx="1827000" cy="1523880"/>
            </a:xfrm>
            <a:custGeom>
              <a:avLst/>
              <a:gdLst>
                <a:gd name="textAreaLeft" fmla="*/ 0 w 1827000"/>
                <a:gd name="textAreaRight" fmla="*/ 1827360 w 18270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45040" y="3825720"/>
              <a:ext cx="1778040" cy="1482840"/>
            </a:xfrm>
            <a:custGeom>
              <a:avLst/>
              <a:gdLst>
                <a:gd name="textAreaLeft" fmla="*/ 0 w 1778040"/>
                <a:gd name="textAreaRight" fmla="*/ 1778400 w 177804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447840" y="279720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47840" y="43513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6821640" y="2249640"/>
            <a:ext cx="1826640" cy="1523880"/>
            <a:chOff x="6821640" y="2249640"/>
            <a:chExt cx="1826640" cy="1523880"/>
          </a:xfrm>
        </p:grpSpPr>
        <p:sp>
          <p:nvSpPr>
            <p:cNvPr id="747" name=""/>
            <p:cNvSpPr/>
            <p:nvPr/>
          </p:nvSpPr>
          <p:spPr>
            <a:xfrm flipH="1">
              <a:off x="6821640" y="2249640"/>
              <a:ext cx="1826640" cy="1523880"/>
            </a:xfrm>
            <a:custGeom>
              <a:avLst/>
              <a:gdLst>
                <a:gd name="textAreaLeft" fmla="*/ 360 w 1826640"/>
                <a:gd name="textAreaRight" fmla="*/ 1827360 w 182664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6852600" y="2265480"/>
              <a:ext cx="1777680" cy="1482840"/>
            </a:xfrm>
            <a:custGeom>
              <a:avLst/>
              <a:gdLst>
                <a:gd name="textAreaLeft" fmla="*/ 360 w 1777680"/>
                <a:gd name="textAreaRight" fmla="*/ 1778400 w 177768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821640" y="3809880"/>
            <a:ext cx="1826640" cy="1523880"/>
            <a:chOff x="6821640" y="3809880"/>
            <a:chExt cx="1826640" cy="1523880"/>
          </a:xfrm>
        </p:grpSpPr>
        <p:sp>
          <p:nvSpPr>
            <p:cNvPr id="750" name=""/>
            <p:cNvSpPr/>
            <p:nvPr/>
          </p:nvSpPr>
          <p:spPr>
            <a:xfrm flipH="1">
              <a:off x="6821640" y="3809880"/>
              <a:ext cx="1826640" cy="1523880"/>
            </a:xfrm>
            <a:custGeom>
              <a:avLst/>
              <a:gdLst>
                <a:gd name="textAreaLeft" fmla="*/ 360 w 1826640"/>
                <a:gd name="textAreaRight" fmla="*/ 1827360 w 182664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6852600" y="3825720"/>
              <a:ext cx="1777680" cy="1482840"/>
            </a:xfrm>
            <a:custGeom>
              <a:avLst/>
              <a:gdLst>
                <a:gd name="textAreaLeft" fmla="*/ 360 w 1777680"/>
                <a:gd name="textAreaRight" fmla="*/ 1778400 w 177768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6853320" y="278748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53320" y="43513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94920" y="17640"/>
            <a:ext cx="83358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451240" y="1962000"/>
            <a:ext cx="4435200" cy="598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60720" y="2070000"/>
            <a:ext cx="3433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67000" y="1719360"/>
            <a:ext cx="600120" cy="615960"/>
          </a:xfrm>
          <a:prstGeom prst="ellipse">
            <a:avLst/>
          </a:prstGeom>
          <a:solidFill>
            <a:srgbClr val="0091d2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98680" y="182736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51240" y="2932200"/>
            <a:ext cx="4435200" cy="598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60720" y="3040200"/>
            <a:ext cx="3433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67000" y="2689200"/>
            <a:ext cx="600120" cy="615960"/>
          </a:xfrm>
          <a:prstGeom prst="ellipse">
            <a:avLst/>
          </a:prstGeom>
          <a:solidFill>
            <a:srgbClr val="fca11c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98680" y="279720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51240" y="3884760"/>
            <a:ext cx="4435200" cy="598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60720" y="3992400"/>
            <a:ext cx="3433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67000" y="3641760"/>
            <a:ext cx="600120" cy="615960"/>
          </a:xfrm>
          <a:prstGeom prst="ellipse">
            <a:avLst/>
          </a:prstGeom>
          <a:solidFill>
            <a:srgbClr val="9a2fbb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98680" y="374976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51240" y="4859280"/>
            <a:ext cx="4435200" cy="598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60720" y="4967280"/>
            <a:ext cx="3433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67000" y="4616280"/>
            <a:ext cx="600120" cy="615960"/>
          </a:xfrm>
          <a:prstGeom prst="ellipse">
            <a:avLst/>
          </a:prstGeom>
          <a:solidFill>
            <a:srgbClr val="89bc36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98680" y="472428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37320" y="2068560"/>
            <a:ext cx="349200" cy="358560"/>
          </a:xfrm>
          <a:prstGeom prst="ellipse">
            <a:avLst/>
          </a:prstGeom>
          <a:solidFill>
            <a:srgbClr val="0091d2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37320" y="3038400"/>
            <a:ext cx="349200" cy="358920"/>
          </a:xfrm>
          <a:prstGeom prst="ellipse">
            <a:avLst/>
          </a:prstGeom>
          <a:solidFill>
            <a:srgbClr val="fca11c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37320" y="3990960"/>
            <a:ext cx="349200" cy="358920"/>
          </a:xfrm>
          <a:prstGeom prst="ellipse">
            <a:avLst/>
          </a:prstGeom>
          <a:solidFill>
            <a:srgbClr val="9a2fbb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37320" y="4965840"/>
            <a:ext cx="349200" cy="358560"/>
          </a:xfrm>
          <a:prstGeom prst="ellipse">
            <a:avLst/>
          </a:prstGeom>
          <a:solidFill>
            <a:srgbClr val="89bc36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17640"/>
            <a:ext cx="83358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2fbb"/>
            </a:gs>
            <a:gs pos="100000">
              <a:srgbClr val="0091d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1486080" y="1528920"/>
            <a:ext cx="591480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61556"/>
                    </a:gs>
                    <a:gs pos="100000">
                      <a:srgbClr val="9a2fbb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hank You!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61556"/>
                  </a:gs>
                  <a:gs pos="100000">
                    <a:srgbClr val="9a2fbb"/>
                  </a:gs>
                </a:gsLst>
                <a:lin ang="54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6" name=""/>
          <p:cNvSpPr/>
          <p:nvPr/>
        </p:nvSpPr>
        <p:spPr>
          <a:xfrm>
            <a:off x="7896240" y="0"/>
            <a:ext cx="11700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397560" y="112680"/>
            <a:ext cx="16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0360" y="182088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9960" indent="-399960">
              <a:spcBef>
                <a:spcPts val="799"/>
              </a:spcBef>
              <a:buClr>
                <a:srgbClr val="1c1c1c"/>
              </a:buClr>
              <a:buFont typeface="Wingdings" charset="2"/>
              <a:buChar char=""/>
              <a:tabLst>
                <a:tab algn="l" pos="685800"/>
                <a:tab algn="l" pos="4343400"/>
                <a:tab algn="l" pos="86868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How do I incorporate my logo to a slid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99960" indent="-399960">
              <a:spcBef>
                <a:spcPts val="799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that will apply to all the other slides?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On the [View] menu, point to [Master], and then click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[Slide Master] or Notes Master.  Change images to the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one you like, then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it will apply to all the other slides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93880" y="4718160"/>
            <a:ext cx="7315200" cy="1218960"/>
          </a:xfrm>
          <a:prstGeom prst="rect">
            <a:avLst/>
          </a:prstGeom>
          <a:solidFill>
            <a:srgbClr val="89bc3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46160" y="4737240"/>
            <a:ext cx="57913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1111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1111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Title Master :  </a:t>
            </a:r>
            <a:r>
              <a:rPr b="1" lang="en-US" sz="1000" spc="-1" strike="noStrike">
                <a:solidFill>
                  <a:srgbClr val="111111"/>
                </a:solidFill>
                <a:latin typeface="Arial"/>
              </a:rPr>
              <a:t>mowolf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1111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Image Created &amp; Licensed by  </a:t>
            </a:r>
            <a:r>
              <a:rPr b="1" lang="en-US" sz="1000" spc="-1" strike="noStrike">
                <a:solidFill>
                  <a:srgbClr val="111111"/>
                </a:solidFill>
                <a:latin typeface="Arial"/>
              </a:rPr>
              <a:t>mowolf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- Note to customers : This image has been licensed to be used within </a:t>
            </a:r>
            <a:r>
              <a:rPr b="1" lang="en-US" sz="1000" spc="-1" strike="noStrike">
                <a:solidFill>
                  <a:srgbClr val="111111"/>
                </a:solidFill>
                <a:latin typeface="Arial"/>
              </a:rPr>
              <a:t>PowerPoint template only.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- You may not extract the image for any other use.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4920" y="17640"/>
            <a:ext cx="83358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17640"/>
            <a:ext cx="83358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63720" y="1395360"/>
            <a:ext cx="1365120" cy="1339920"/>
          </a:xfrm>
          <a:prstGeom prst="flowChartConnector">
            <a:avLst/>
          </a:prstGeom>
          <a:gradFill rotWithShape="0">
            <a:gsLst>
              <a:gs pos="0">
                <a:srgbClr val="5a7c23"/>
              </a:gs>
              <a:gs pos="100000">
                <a:srgbClr val="89bc36"/>
              </a:gs>
            </a:gsLst>
            <a:lin ang="13500000"/>
          </a:gradFill>
          <a:ln w="88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2962440"/>
            <a:ext cx="1365120" cy="1339560"/>
          </a:xfrm>
          <a:prstGeom prst="flowChartConnector">
            <a:avLst/>
          </a:prstGeom>
          <a:gradFill rotWithShape="0">
            <a:gsLst>
              <a:gs pos="0">
                <a:srgbClr val="a66a12"/>
              </a:gs>
              <a:gs pos="100000">
                <a:srgbClr val="fca11c"/>
              </a:gs>
            </a:gsLst>
            <a:lin ang="13500000"/>
          </a:gradFill>
          <a:ln w="88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63720" y="4543560"/>
            <a:ext cx="1365120" cy="1339560"/>
          </a:xfrm>
          <a:prstGeom prst="flowChartConnector">
            <a:avLst/>
          </a:prstGeom>
          <a:gradFill rotWithShape="0">
            <a:gsLst>
              <a:gs pos="0">
                <a:srgbClr val="005f8a"/>
              </a:gs>
              <a:gs pos="100000">
                <a:srgbClr val="0091d2"/>
              </a:gs>
            </a:gsLst>
            <a:lin ang="13500000"/>
          </a:gradFill>
          <a:ln w="88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1600200"/>
            <a:ext cx="58672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Mission: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tate the company’s mission statement and describe the company’s vision and business model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52760" y="3138480"/>
            <a:ext cx="5743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Vision :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tate the company’s mission statement and describe the company’s vision and business model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5240" y="4748040"/>
            <a:ext cx="55148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Business Model :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tate the company’s mission statement and describe the company’s vision and business model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31480" y="188424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13920" y="34560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Vision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19160" y="493236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Business Model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941720" y="1889280"/>
            <a:ext cx="3862440" cy="537840"/>
          </a:xfrm>
          <a:prstGeom prst="roundRect">
            <a:avLst>
              <a:gd name="adj" fmla="val 14583"/>
            </a:avLst>
          </a:prstGeom>
          <a:gradFill rotWithShape="0">
            <a:gsLst>
              <a:gs pos="0">
                <a:srgbClr val="0091d2"/>
              </a:gs>
              <a:gs pos="100000">
                <a:srgbClr val="005f89"/>
              </a:gs>
            </a:gsLst>
            <a:lin ang="5400000"/>
          </a:gradFill>
          <a:ln w="19080">
            <a:solidFill>
              <a:srgbClr val="0091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35600" y="2001960"/>
            <a:ext cx="3859200" cy="438120"/>
          </a:xfrm>
          <a:custGeom>
            <a:avLst/>
            <a:gdLst/>
            <a:ahLst/>
            <a:rect l="l" t="t" r="r" b="b"/>
            <a:pathLst>
              <a:path w="1360" h="183">
                <a:moveTo>
                  <a:pt x="3" y="44"/>
                </a:moveTo>
                <a:lnTo>
                  <a:pt x="3" y="143"/>
                </a:lnTo>
                <a:cubicBezTo>
                  <a:pt x="4" y="162"/>
                  <a:pt x="0" y="181"/>
                  <a:pt x="52" y="183"/>
                </a:cubicBezTo>
                <a:lnTo>
                  <a:pt x="1315" y="183"/>
                </a:lnTo>
                <a:cubicBezTo>
                  <a:pt x="1351" y="183"/>
                  <a:pt x="1360" y="168"/>
                  <a:pt x="1360" y="140"/>
                </a:cubicBezTo>
                <a:lnTo>
                  <a:pt x="1360" y="0"/>
                </a:lnTo>
                <a:cubicBezTo>
                  <a:pt x="1281" y="26"/>
                  <a:pt x="1213" y="95"/>
                  <a:pt x="985" y="96"/>
                </a:cubicBezTo>
                <a:cubicBezTo>
                  <a:pt x="802" y="101"/>
                  <a:pt x="481" y="26"/>
                  <a:pt x="316" y="15"/>
                </a:cubicBezTo>
                <a:cubicBezTo>
                  <a:pt x="152" y="6"/>
                  <a:pt x="70" y="40"/>
                  <a:pt x="3" y="44"/>
                </a:cubicBezTo>
                <a:close/>
              </a:path>
            </a:pathLst>
          </a:custGeom>
          <a:gradFill rotWithShape="0">
            <a:gsLst>
              <a:gs pos="0">
                <a:srgbClr val="5bb7e1"/>
              </a:gs>
              <a:gs pos="100000">
                <a:srgbClr val="0091d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920" y="17640"/>
            <a:ext cx="83358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lumn Char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30920" y="2583000"/>
            <a:ext cx="41274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.Describe contents for a Chart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.Describe contents for a Chart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06560" y="1925640"/>
            <a:ext cx="2774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rt Title in her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46240" y="1219320"/>
            <a:ext cx="4625640" cy="539424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1945800" y="5234040"/>
            <a:ext cx="495360" cy="361440"/>
            <a:chOff x="1945800" y="5234040"/>
            <a:chExt cx="495360" cy="361440"/>
          </a:xfrm>
        </p:grpSpPr>
        <p:sp>
          <p:nvSpPr>
            <p:cNvPr id="193" name=""/>
            <p:cNvSpPr/>
            <p:nvPr/>
          </p:nvSpPr>
          <p:spPr>
            <a:xfrm flipH="1">
              <a:off x="1945440" y="5307480"/>
              <a:ext cx="249480" cy="28800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2035800" y="5234040"/>
              <a:ext cx="66600" cy="756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02840" y="5312880"/>
              <a:ext cx="238320" cy="27648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91400" y="5243400"/>
              <a:ext cx="63000" cy="71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86080" y="5311800"/>
            <a:ext cx="447840" cy="383760"/>
            <a:chOff x="3286080" y="5311800"/>
            <a:chExt cx="447840" cy="383760"/>
          </a:xfrm>
        </p:grpSpPr>
        <p:sp>
          <p:nvSpPr>
            <p:cNvPr id="198" name=""/>
            <p:cNvSpPr/>
            <p:nvPr/>
          </p:nvSpPr>
          <p:spPr>
            <a:xfrm>
              <a:off x="3377880" y="5311800"/>
              <a:ext cx="266760" cy="266040"/>
            </a:xfrm>
            <a:prstGeom prst="roundRect">
              <a:avLst>
                <a:gd name="adj" fmla="val 6250"/>
              </a:avLst>
            </a:prstGeom>
            <a:noFill/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86080" y="5577840"/>
              <a:ext cx="447840" cy="11772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00920" y="5337360"/>
              <a:ext cx="220680" cy="208800"/>
            </a:xfrm>
            <a:prstGeom prst="roundRect">
              <a:avLst>
                <a:gd name="adj" fmla="val 7972"/>
              </a:avLst>
            </a:prstGeom>
            <a:solidFill>
              <a:srgbClr val="ffffff">
                <a:alpha val="40000"/>
              </a:srgbClr>
            </a:solidFill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601440" y="5634360"/>
              <a:ext cx="67320" cy="0"/>
            </a:xfrm>
            <a:prstGeom prst="line">
              <a:avLst/>
            </a:prstGeom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482640" y="5391360"/>
              <a:ext cx="111960" cy="0"/>
            </a:xfrm>
            <a:prstGeom prst="line">
              <a:avLst/>
            </a:prstGeom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3511440" y="5419800"/>
              <a:ext cx="68400" cy="0"/>
            </a:xfrm>
            <a:prstGeom prst="line">
              <a:avLst/>
            </a:prstGeom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529800" y="5508000"/>
              <a:ext cx="48600" cy="0"/>
            </a:xfrm>
            <a:prstGeom prst="line">
              <a:avLst/>
            </a:prstGeom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590920" y="5273640"/>
            <a:ext cx="374400" cy="374760"/>
            <a:chOff x="2590920" y="5273640"/>
            <a:chExt cx="374400" cy="374760"/>
          </a:xfrm>
        </p:grpSpPr>
        <p:sp>
          <p:nvSpPr>
            <p:cNvPr id="206" name=""/>
            <p:cNvSpPr/>
            <p:nvPr/>
          </p:nvSpPr>
          <p:spPr>
            <a:xfrm>
              <a:off x="2590920" y="5273640"/>
              <a:ext cx="374400" cy="3722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79560" y="5273640"/>
              <a:ext cx="0" cy="369720"/>
            </a:xfrm>
            <a:prstGeom prst="line">
              <a:avLst/>
            </a:prstGeom>
            <a:ln w="19080">
              <a:solidFill>
                <a:srgbClr val="ffffff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90920" y="5458320"/>
              <a:ext cx="374400" cy="0"/>
            </a:xfrm>
            <a:prstGeom prst="line">
              <a:avLst/>
            </a:prstGeom>
            <a:ln w="19080">
              <a:solidFill>
                <a:srgbClr val="ffffff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04760" y="5275800"/>
              <a:ext cx="77760" cy="3672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77680" y="5278680"/>
              <a:ext cx="84240" cy="369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5400000">
              <a:off x="2747880" y="5426640"/>
              <a:ext cx="48240" cy="2790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 rot="16200000">
              <a:off x="2751480" y="5212800"/>
              <a:ext cx="48240" cy="2790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501920" y="5292360"/>
            <a:ext cx="365040" cy="282600"/>
            <a:chOff x="1501920" y="5292360"/>
            <a:chExt cx="365040" cy="282600"/>
          </a:xfrm>
        </p:grpSpPr>
        <p:sp>
          <p:nvSpPr>
            <p:cNvPr id="214" name=""/>
            <p:cNvSpPr/>
            <p:nvPr/>
          </p:nvSpPr>
          <p:spPr>
            <a:xfrm flipV="1">
              <a:off x="1775520" y="5292360"/>
              <a:ext cx="0" cy="72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59960" y="5496480"/>
              <a:ext cx="52200" cy="687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06320" y="5432760"/>
              <a:ext cx="35280" cy="3492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33040" y="5432760"/>
              <a:ext cx="35280" cy="3492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01920" y="5304600"/>
              <a:ext cx="365040" cy="270360"/>
            </a:xfrm>
            <a:prstGeom prst="upArrow">
              <a:avLst>
                <a:gd name="adj1" fmla="val 63676"/>
                <a:gd name="adj2" fmla="val 44657"/>
              </a:avLst>
            </a:prstGeom>
            <a:solidFill>
              <a:srgbClr val="ffffff">
                <a:alpha val="35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17640"/>
            <a:ext cx="83358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2520" y="2189160"/>
            <a:ext cx="8238960" cy="364824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64400b"/>
              </a:gs>
              <a:gs pos="50000">
                <a:srgbClr val="fca11c"/>
              </a:gs>
              <a:gs pos="100000">
                <a:srgbClr val="64400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49520" y="2577960"/>
            <a:ext cx="252360" cy="1558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58960" y="2946240"/>
            <a:ext cx="295200" cy="21276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57680" y="3298680"/>
            <a:ext cx="399960" cy="343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97560" y="4030560"/>
            <a:ext cx="630360" cy="76068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46840" y="3724200"/>
            <a:ext cx="495000" cy="47628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43080" y="18288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90680" y="184464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44840" y="184932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75040" y="18414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3640" y="183816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Level 5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760" y="296064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2040" y="350676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714680" y="413856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67200" y="476892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11560" y="5497560"/>
            <a:ext cx="273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21" idx="3"/>
            <a:endCxn id="231" idx="0"/>
          </p:cNvCxnSpPr>
          <p:nvPr/>
        </p:nvCxnSpPr>
        <p:spPr>
          <a:xfrm rot="5400000">
            <a:off x="1442880" y="262800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237" name=""/>
          <p:cNvCxnSpPr>
            <a:stCxn id="222" idx="3"/>
            <a:endCxn id="232" idx="0"/>
          </p:cNvCxnSpPr>
          <p:nvPr/>
        </p:nvCxnSpPr>
        <p:spPr>
          <a:xfrm rot="5400000">
            <a:off x="2243160" y="2944080"/>
            <a:ext cx="348480" cy="778320"/>
          </a:xfrm>
          <a:prstGeom prst="bentConnector3">
            <a:avLst>
              <a:gd name="adj1" fmla="val 49741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238" name=""/>
          <p:cNvCxnSpPr>
            <a:stCxn id="223" idx="3"/>
            <a:endCxn id="233" idx="0"/>
          </p:cNvCxnSpPr>
          <p:nvPr/>
        </p:nvCxnSpPr>
        <p:spPr>
          <a:xfrm rot="5400000">
            <a:off x="3270240" y="345204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239" name=""/>
          <p:cNvCxnSpPr>
            <a:stCxn id="225" idx="3"/>
            <a:endCxn id="234" idx="0"/>
          </p:cNvCxnSpPr>
          <p:nvPr/>
        </p:nvCxnSpPr>
        <p:spPr>
          <a:xfrm rot="5400000">
            <a:off x="4579200" y="4053960"/>
            <a:ext cx="568800" cy="861120"/>
          </a:xfrm>
          <a:prstGeom prst="bentConnector3">
            <a:avLst>
              <a:gd name="adj1" fmla="val 4996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240" name=""/>
          <p:cNvCxnSpPr>
            <a:stCxn id="224" idx="3"/>
            <a:endCxn id="235" idx="0"/>
          </p:cNvCxnSpPr>
          <p:nvPr/>
        </p:nvCxnSpPr>
        <p:spPr>
          <a:xfrm rot="5400000">
            <a:off x="5742000" y="4526640"/>
            <a:ext cx="707040" cy="1235880"/>
          </a:xfrm>
          <a:prstGeom prst="bentConnector3">
            <a:avLst>
              <a:gd name="adj1" fmla="val 49872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6397560" y="2239920"/>
            <a:ext cx="630360" cy="192744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89bc36"/>
              </a:gs>
              <a:gs pos="50000">
                <a:srgbClr val="d4e6b6"/>
              </a:gs>
              <a:gs pos="100000">
                <a:srgbClr val="89bc3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46840" y="2236680"/>
            <a:ext cx="495000" cy="159696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89bc36"/>
              </a:gs>
              <a:gs pos="50000">
                <a:srgbClr val="d4e6b6"/>
              </a:gs>
              <a:gs pos="100000">
                <a:srgbClr val="89bc3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57680" y="2233440"/>
            <a:ext cx="399960" cy="11700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89bc36"/>
              </a:gs>
              <a:gs pos="50000">
                <a:srgbClr val="d4e6b6"/>
              </a:gs>
              <a:gs pos="100000">
                <a:srgbClr val="89bc3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58960" y="2241720"/>
            <a:ext cx="295200" cy="7664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89bc36"/>
              </a:gs>
              <a:gs pos="50000">
                <a:srgbClr val="d4e6b6"/>
              </a:gs>
              <a:gs pos="100000">
                <a:srgbClr val="89bc3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49520" y="2243160"/>
            <a:ext cx="252360" cy="398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89bc36"/>
              </a:gs>
              <a:gs pos="50000">
                <a:srgbClr val="d4e6b6"/>
              </a:gs>
              <a:gs pos="100000">
                <a:srgbClr val="89bc3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6218280" y="1515960"/>
            <a:ext cx="1187280" cy="876240"/>
            <a:chOff x="6218280" y="1515960"/>
            <a:chExt cx="1187280" cy="876240"/>
          </a:xfrm>
        </p:grpSpPr>
        <p:sp>
          <p:nvSpPr>
            <p:cNvPr id="247" name=""/>
            <p:cNvSpPr/>
            <p:nvPr/>
          </p:nvSpPr>
          <p:spPr>
            <a:xfrm>
              <a:off x="6218280" y="1515960"/>
              <a:ext cx="1187280" cy="876240"/>
            </a:xfrm>
            <a:prstGeom prst="blockArc">
              <a:avLst>
                <a:gd name="adj1" fmla="val 0"/>
                <a:gd name="adj2" fmla="val 10800000"/>
                <a:gd name="adj3" fmla="val 47065"/>
              </a:avLst>
            </a:prstGeom>
            <a:gradFill rotWithShape="0">
              <a:gsLst>
                <a:gs pos="0">
                  <a:srgbClr val="002346"/>
                </a:gs>
                <a:gs pos="50000">
                  <a:srgbClr val="001021"/>
                </a:gs>
                <a:gs pos="100000">
                  <a:srgbClr val="0023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18280" y="1869120"/>
              <a:ext cx="1187280" cy="183240"/>
            </a:xfrm>
            <a:prstGeom prst="ellipse">
              <a:avLst/>
            </a:prstGeom>
            <a:gradFill rotWithShape="0">
              <a:gsLst>
                <a:gs pos="0">
                  <a:srgbClr val="002346"/>
                </a:gs>
                <a:gs pos="100000">
                  <a:srgbClr val="425c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426360" y="2054160"/>
            <a:ext cx="73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478560" y="2400480"/>
            <a:ext cx="668520" cy="126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 rot="3125400">
            <a:off x="6306480" y="2160000"/>
            <a:ext cx="96840" cy="42840"/>
          </a:xfrm>
          <a:prstGeom prst="ellipse">
            <a:avLst/>
          </a:prstGeom>
          <a:gradFill rotWithShape="0">
            <a:gsLst>
              <a:gs pos="0">
                <a:srgbClr val="151e26"/>
              </a:gs>
              <a:gs pos="50000">
                <a:srgbClr val="6e99c0"/>
              </a:gs>
              <a:gs pos="100000">
                <a:srgbClr val="151e26"/>
              </a:gs>
            </a:gsLst>
            <a:lin ang="139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4920" y="17640"/>
            <a:ext cx="83358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4718000">
            <a:off x="5594040" y="1707480"/>
            <a:ext cx="98280" cy="157788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f6e8a"/>
              </a:gs>
              <a:gs pos="50000">
                <a:srgbClr val="6e99c0"/>
              </a:gs>
              <a:gs pos="100000">
                <a:srgbClr val="4f6e8a"/>
              </a:gs>
            </a:gsLst>
            <a:lin ang="176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246480" y="1936800"/>
            <a:ext cx="1815840" cy="1452240"/>
            <a:chOff x="3246480" y="1936800"/>
            <a:chExt cx="1815840" cy="1452240"/>
          </a:xfrm>
        </p:grpSpPr>
        <p:sp>
          <p:nvSpPr>
            <p:cNvPr id="255" name=""/>
            <p:cNvSpPr/>
            <p:nvPr/>
          </p:nvSpPr>
          <p:spPr>
            <a:xfrm>
              <a:off x="3246480" y="1936800"/>
              <a:ext cx="1815840" cy="1452240"/>
            </a:xfrm>
            <a:prstGeom prst="blockArc">
              <a:avLst>
                <a:gd name="adj1" fmla="val 0"/>
                <a:gd name="adj2" fmla="val 10800000"/>
                <a:gd name="adj3" fmla="val 47065"/>
              </a:avLst>
            </a:prstGeom>
            <a:gradFill rotWithShape="0">
              <a:gsLst>
                <a:gs pos="0">
                  <a:srgbClr val="33689d"/>
                </a:gs>
                <a:gs pos="50000">
                  <a:srgbClr val="18314a"/>
                </a:gs>
                <a:gs pos="100000">
                  <a:srgbClr val="33689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46480" y="2522520"/>
              <a:ext cx="1815840" cy="303840"/>
            </a:xfrm>
            <a:prstGeom prst="ellipse">
              <a:avLst/>
            </a:prstGeom>
            <a:gradFill rotWithShape="0">
              <a:gsLst>
                <a:gs pos="0">
                  <a:srgbClr val="33689d"/>
                </a:gs>
                <a:gs pos="100000">
                  <a:srgbClr val="688f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591000" y="290052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649680" y="3441600"/>
            <a:ext cx="1012680" cy="206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 rot="3124800">
            <a:off x="3430800" y="3086640"/>
            <a:ext cx="177840" cy="42840"/>
          </a:xfrm>
          <a:prstGeom prst="ellipse">
            <a:avLst/>
          </a:prstGeom>
          <a:gradFill rotWithShape="0">
            <a:gsLst>
              <a:gs pos="0">
                <a:srgbClr val="151e26"/>
              </a:gs>
              <a:gs pos="50000">
                <a:srgbClr val="6e99c0"/>
              </a:gs>
              <a:gs pos="100000">
                <a:srgbClr val="151e26"/>
              </a:gs>
            </a:gsLst>
            <a:lin ang="76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3004400">
            <a:off x="2639520" y="2840760"/>
            <a:ext cx="327240" cy="237996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f6e8a"/>
              </a:gs>
              <a:gs pos="50000">
                <a:srgbClr val="6e99c0"/>
              </a:gs>
              <a:gs pos="100000">
                <a:srgbClr val="4f6e8a"/>
              </a:gs>
            </a:gsLst>
            <a:lin ang="193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76160" y="3965400"/>
            <a:ext cx="2628720" cy="2092320"/>
            <a:chOff x="776160" y="3965400"/>
            <a:chExt cx="2628720" cy="2092320"/>
          </a:xfrm>
        </p:grpSpPr>
        <p:sp>
          <p:nvSpPr>
            <p:cNvPr id="262" name=""/>
            <p:cNvSpPr/>
            <p:nvPr/>
          </p:nvSpPr>
          <p:spPr>
            <a:xfrm>
              <a:off x="776160" y="3965400"/>
              <a:ext cx="2628720" cy="2092320"/>
            </a:xfrm>
            <a:prstGeom prst="blockArc">
              <a:avLst>
                <a:gd name="adj1" fmla="val 0"/>
                <a:gd name="adj2" fmla="val 10800000"/>
                <a:gd name="adj3" fmla="val 47065"/>
              </a:avLst>
            </a:prstGeom>
            <a:gradFill rotWithShape="0">
              <a:gsLst>
                <a:gs pos="0">
                  <a:srgbClr val="0099cc"/>
                </a:gs>
                <a:gs pos="50000">
                  <a:srgbClr val="00486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6160" y="4809240"/>
              <a:ext cx="2628720" cy="43776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75c7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265400" y="536904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374920" y="414036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ebd9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325520" y="61452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381720" y="2646360"/>
            <a:ext cx="2513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company’s produc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company’s busines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company’s technology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company’s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83160" y="2743200"/>
            <a:ext cx="0" cy="8096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8480" y="2446200"/>
            <a:ext cx="0" cy="9064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00000" y="2430360"/>
            <a:ext cx="2217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a2fbb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89bc3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38520" y="5079960"/>
            <a:ext cx="0" cy="7272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24120" y="5043600"/>
            <a:ext cx="33321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a2fbb"/>
                </a:solidFill>
                <a:latin typeface="Arial"/>
              </a:rPr>
              <a:t>ThemeGallery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429560" y="3489120"/>
            <a:ext cx="1393920" cy="1633680"/>
            <a:chOff x="1429560" y="3489120"/>
            <a:chExt cx="1393920" cy="1633680"/>
          </a:xfrm>
        </p:grpSpPr>
        <p:sp>
          <p:nvSpPr>
            <p:cNvPr id="274" name=""/>
            <p:cNvSpPr/>
            <p:nvPr/>
          </p:nvSpPr>
          <p:spPr>
            <a:xfrm rot="291600">
              <a:off x="2015280" y="3502440"/>
              <a:ext cx="331920" cy="324000"/>
            </a:xfrm>
            <a:prstGeom prst="ellipse">
              <a:avLst/>
            </a:prstGeom>
            <a:solidFill>
              <a:srgbClr val="fee3a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291600">
              <a:off x="1491840" y="3547080"/>
              <a:ext cx="1269360" cy="15242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fee3ac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767760" y="1776240"/>
            <a:ext cx="784080" cy="917640"/>
            <a:chOff x="3767760" y="1776240"/>
            <a:chExt cx="784080" cy="917640"/>
          </a:xfrm>
        </p:grpSpPr>
        <p:sp>
          <p:nvSpPr>
            <p:cNvPr id="277" name=""/>
            <p:cNvSpPr/>
            <p:nvPr/>
          </p:nvSpPr>
          <p:spPr>
            <a:xfrm rot="291600">
              <a:off x="4096800" y="1783800"/>
              <a:ext cx="186840" cy="1818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291600">
              <a:off x="3802320" y="1808640"/>
              <a:ext cx="714240" cy="856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ffcc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996840" y="41544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ebd9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618960" y="1482480"/>
            <a:ext cx="412560" cy="476640"/>
            <a:chOff x="6618960" y="1482480"/>
            <a:chExt cx="412560" cy="476640"/>
          </a:xfrm>
        </p:grpSpPr>
        <p:sp>
          <p:nvSpPr>
            <p:cNvPr id="281" name=""/>
            <p:cNvSpPr/>
            <p:nvPr/>
          </p:nvSpPr>
          <p:spPr>
            <a:xfrm rot="363600">
              <a:off x="6796440" y="1488240"/>
              <a:ext cx="96120" cy="93600"/>
            </a:xfrm>
            <a:prstGeom prst="ellipse">
              <a:avLst/>
            </a:prstGeom>
            <a:solidFill>
              <a:srgbClr val="cc99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363600">
              <a:off x="6640920" y="1500480"/>
              <a:ext cx="368280" cy="4402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cc99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436920" y="2097000"/>
            <a:ext cx="1463400" cy="379080"/>
            <a:chOff x="3436920" y="2097000"/>
            <a:chExt cx="1463400" cy="379080"/>
          </a:xfrm>
        </p:grpSpPr>
        <p:sp>
          <p:nvSpPr>
            <p:cNvPr id="284" name=""/>
            <p:cNvSpPr/>
            <p:nvPr/>
          </p:nvSpPr>
          <p:spPr>
            <a:xfrm flipH="1">
              <a:off x="4350240" y="20970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091"/>
                  <a:lnTo>
                    <a:pt x="15502" y="21302"/>
                  </a:lnTo>
                  <a:lnTo>
                    <a:pt x="21600" y="16775"/>
                  </a:lnTo>
                  <a:lnTo>
                    <a:pt x="15502" y="11652"/>
                  </a:lnTo>
                  <a:lnTo>
                    <a:pt x="15502" y="14362"/>
                  </a:lnTo>
                  <a:arcTo wR="21600" hR="7330" stAng="7855909" swAng="2593743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ebd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36920" y="21067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262"/>
                  <a:lnTo>
                    <a:pt x="15467" y="21279"/>
                  </a:lnTo>
                  <a:lnTo>
                    <a:pt x="21600" y="17391"/>
                  </a:lnTo>
                  <a:lnTo>
                    <a:pt x="15467" y="12860"/>
                  </a:lnTo>
                  <a:lnTo>
                    <a:pt x="15467" y="15283"/>
                  </a:lnTo>
                  <a:arcTo wR="21600" hR="7802" stAng="7760738" swAng="2747871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ebd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343560" y="1641600"/>
            <a:ext cx="979560" cy="204480"/>
            <a:chOff x="6343560" y="1641600"/>
            <a:chExt cx="979560" cy="204480"/>
          </a:xfrm>
        </p:grpSpPr>
        <p:sp>
          <p:nvSpPr>
            <p:cNvPr id="287" name=""/>
            <p:cNvSpPr/>
            <p:nvPr/>
          </p:nvSpPr>
          <p:spPr>
            <a:xfrm flipH="1">
              <a:off x="6955200" y="1641600"/>
              <a:ext cx="367920" cy="199800"/>
            </a:xfrm>
            <a:custGeom>
              <a:avLst/>
              <a:gdLst>
                <a:gd name="textAreaLeft" fmla="*/ 49320 w 367920"/>
                <a:gd name="textAreaRight" fmla="*/ 318600 w 36792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091"/>
                  <a:lnTo>
                    <a:pt x="15502" y="21302"/>
                  </a:lnTo>
                  <a:lnTo>
                    <a:pt x="21600" y="16775"/>
                  </a:lnTo>
                  <a:lnTo>
                    <a:pt x="15502" y="11652"/>
                  </a:lnTo>
                  <a:lnTo>
                    <a:pt x="15502" y="14362"/>
                  </a:lnTo>
                  <a:arcTo wR="21600" hR="7330" stAng="7855909" swAng="2593743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ebd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43560" y="1646640"/>
              <a:ext cx="367920" cy="199440"/>
            </a:xfrm>
            <a:custGeom>
              <a:avLst/>
              <a:gdLst>
                <a:gd name="textAreaLeft" fmla="*/ 49320 w 367920"/>
                <a:gd name="textAreaRight" fmla="*/ 318600 w 36792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262"/>
                  <a:lnTo>
                    <a:pt x="15467" y="21279"/>
                  </a:lnTo>
                  <a:lnTo>
                    <a:pt x="21600" y="17391"/>
                  </a:lnTo>
                  <a:lnTo>
                    <a:pt x="15467" y="12860"/>
                  </a:lnTo>
                  <a:lnTo>
                    <a:pt x="15467" y="15283"/>
                  </a:lnTo>
                  <a:arcTo wR="21600" hR="7802" stAng="7760738" swAng="2747871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ebd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87280" y="1512720"/>
            <a:ext cx="6716880" cy="4446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9f9f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01640" y="1668600"/>
            <a:ext cx="29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86200" y="1785960"/>
            <a:ext cx="1492200" cy="333360"/>
          </a:xfrm>
          <a:prstGeom prst="cube">
            <a:avLst>
              <a:gd name="adj" fmla="val 23370"/>
            </a:avLst>
          </a:prstGeom>
          <a:gradFill rotWithShape="0">
            <a:gsLst>
              <a:gs pos="0">
                <a:srgbClr val="fca11c">
                  <a:alpha val="85098"/>
                </a:srgbClr>
              </a:gs>
              <a:gs pos="100000">
                <a:srgbClr val="be7a1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84800" y="1784520"/>
            <a:ext cx="1438200" cy="334800"/>
          </a:xfrm>
          <a:prstGeom prst="cube">
            <a:avLst>
              <a:gd name="adj" fmla="val 23203"/>
            </a:avLst>
          </a:prstGeom>
          <a:gradFill rotWithShape="0">
            <a:gsLst>
              <a:gs pos="0">
                <a:srgbClr val="89bc36">
                  <a:alpha val="85098"/>
                </a:srgbClr>
              </a:gs>
              <a:gs pos="100000">
                <a:srgbClr val="678e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82800" y="2608200"/>
            <a:ext cx="963720" cy="828720"/>
          </a:xfrm>
          <a:prstGeom prst="cube">
            <a:avLst>
              <a:gd name="adj" fmla="val 768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70200" y="2994120"/>
            <a:ext cx="2419200" cy="442800"/>
          </a:xfrm>
          <a:prstGeom prst="cube">
            <a:avLst>
              <a:gd name="adj" fmla="val 12949"/>
            </a:avLst>
          </a:prstGeom>
          <a:gradFill rotWithShape="0">
            <a:gsLst>
              <a:gs pos="0">
                <a:srgbClr val="89bc36"/>
              </a:gs>
              <a:gs pos="100000">
                <a:srgbClr val="4c69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70200" y="2610000"/>
            <a:ext cx="1333440" cy="442800"/>
          </a:xfrm>
          <a:prstGeom prst="cube">
            <a:avLst>
              <a:gd name="adj" fmla="val 12949"/>
            </a:avLst>
          </a:prstGeom>
          <a:gradFill rotWithShape="0">
            <a:gsLst>
              <a:gs pos="0">
                <a:srgbClr val="fca11c"/>
              </a:gs>
              <a:gs pos="100000">
                <a:srgbClr val="be7a1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154240" y="2755800"/>
            <a:ext cx="331920" cy="333360"/>
            <a:chOff x="2154240" y="2755800"/>
            <a:chExt cx="331920" cy="333360"/>
          </a:xfrm>
        </p:grpSpPr>
        <p:sp>
          <p:nvSpPr>
            <p:cNvPr id="297" name=""/>
            <p:cNvSpPr/>
            <p:nvPr/>
          </p:nvSpPr>
          <p:spPr>
            <a:xfrm>
              <a:off x="2154240" y="2755800"/>
              <a:ext cx="331920" cy="33120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21280" y="2755800"/>
              <a:ext cx="0" cy="329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54240" y="2920320"/>
              <a:ext cx="331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343600" y="2757960"/>
              <a:ext cx="68760" cy="32652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30920" y="2760120"/>
              <a:ext cx="74520" cy="32904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5400000">
              <a:off x="2293560" y="2892600"/>
              <a:ext cx="42840" cy="2473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6200000">
              <a:off x="2296440" y="2701440"/>
              <a:ext cx="42840" cy="2473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882800" y="3666960"/>
            <a:ext cx="963720" cy="827280"/>
          </a:xfrm>
          <a:prstGeom prst="cube">
            <a:avLst>
              <a:gd name="adj" fmla="val 768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70200" y="4051440"/>
            <a:ext cx="4248000" cy="442800"/>
          </a:xfrm>
          <a:prstGeom prst="cube">
            <a:avLst>
              <a:gd name="adj" fmla="val 12949"/>
            </a:avLst>
          </a:prstGeom>
          <a:gradFill rotWithShape="0">
            <a:gsLst>
              <a:gs pos="0">
                <a:srgbClr val="89bc36"/>
              </a:gs>
              <a:gs pos="100000">
                <a:srgbClr val="4c69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70200" y="3666960"/>
            <a:ext cx="3871800" cy="443160"/>
          </a:xfrm>
          <a:prstGeom prst="cube">
            <a:avLst>
              <a:gd name="adj" fmla="val 12949"/>
            </a:avLst>
          </a:prstGeom>
          <a:gradFill rotWithShape="0">
            <a:gsLst>
              <a:gs pos="0">
                <a:srgbClr val="fca11c"/>
              </a:gs>
              <a:gs pos="100000">
                <a:srgbClr val="be7a1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882800" y="4753080"/>
            <a:ext cx="963720" cy="828720"/>
          </a:xfrm>
          <a:prstGeom prst="cube">
            <a:avLst>
              <a:gd name="adj" fmla="val 768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70200" y="5138640"/>
            <a:ext cx="1042920" cy="443160"/>
          </a:xfrm>
          <a:prstGeom prst="cube">
            <a:avLst>
              <a:gd name="adj" fmla="val 12949"/>
            </a:avLst>
          </a:prstGeom>
          <a:gradFill rotWithShape="0">
            <a:gsLst>
              <a:gs pos="0">
                <a:srgbClr val="89bc36"/>
              </a:gs>
              <a:gs pos="100000">
                <a:srgbClr val="4c69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0200" y="4754520"/>
            <a:ext cx="3311640" cy="442800"/>
          </a:xfrm>
          <a:prstGeom prst="cube">
            <a:avLst>
              <a:gd name="adj" fmla="val 12949"/>
            </a:avLst>
          </a:prstGeom>
          <a:gradFill rotWithShape="0">
            <a:gsLst>
              <a:gs pos="0">
                <a:srgbClr val="fca11c"/>
              </a:gs>
              <a:gs pos="100000">
                <a:srgbClr val="be7a1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106720" y="3848040"/>
            <a:ext cx="392040" cy="337680"/>
            <a:chOff x="2106720" y="3848040"/>
            <a:chExt cx="392040" cy="337680"/>
          </a:xfrm>
        </p:grpSpPr>
        <p:sp>
          <p:nvSpPr>
            <p:cNvPr id="311" name=""/>
            <p:cNvSpPr/>
            <p:nvPr/>
          </p:nvSpPr>
          <p:spPr>
            <a:xfrm>
              <a:off x="2186280" y="3848040"/>
              <a:ext cx="234720" cy="235800"/>
            </a:xfrm>
            <a:custGeom>
              <a:avLst/>
              <a:gdLst>
                <a:gd name="textAreaLeft" fmla="*/ 3960 w 234720"/>
                <a:gd name="textAreaRight" fmla="*/ 230760 w 234720"/>
                <a:gd name="textAreaTop" fmla="*/ 3960 h 235800"/>
                <a:gd name="textAreaBottom" fmla="*/ 231840 h 235800"/>
              </a:gdLst>
              <a:ahLst/>
              <a:rect l="textAreaLeft" t="textAreaTop" r="textAreaRight" b="textAreaBottom"/>
              <a:pathLst>
                <a:path w="21600" h="21699">
                  <a:moveTo>
                    <a:pt x="1350" y="0"/>
                  </a:moveTo>
                  <a:arcTo wR="1350" hR="1350" stAng="16200000" swAng="-5400000"/>
                  <a:lnTo>
                    <a:pt x="0" y="20349"/>
                  </a:lnTo>
                  <a:arcTo wR="1350" hR="1350" stAng="10800000" swAng="-5400000"/>
                  <a:lnTo>
                    <a:pt x="20250" y="21699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06720" y="4081320"/>
              <a:ext cx="392040" cy="1044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382120" y="4133520"/>
              <a:ext cx="601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265120" y="3921480"/>
              <a:ext cx="97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302560" y="3956400"/>
              <a:ext cx="597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319840" y="4022280"/>
              <a:ext cx="424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154240" y="4930920"/>
            <a:ext cx="325440" cy="32364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6400" y="315612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6400" y="421164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86400" y="530208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05160" y="265428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3%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87680" y="3036960"/>
            <a:ext cx="8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34080" y="371628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6%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219720" y="4111560"/>
            <a:ext cx="8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95%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68960" y="4811760"/>
            <a:ext cx="8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8%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16080" y="5183280"/>
            <a:ext cx="8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18%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296400" y="184788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ompany  B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862880" y="183672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ompany  A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4920" y="17640"/>
            <a:ext cx="83358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r Char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62040" y="1160640"/>
            <a:ext cx="4283280" cy="4555800"/>
          </a:xfrm>
          <a:custGeom>
            <a:avLst/>
            <a:gdLst/>
            <a:ahLst/>
            <a:rect l="l" t="t" r="r" b="b"/>
            <a:pathLst>
              <a:path w="2698" h="2870">
                <a:moveTo>
                  <a:pt x="744" y="1107"/>
                </a:moveTo>
                <a:lnTo>
                  <a:pt x="0" y="2479"/>
                </a:lnTo>
                <a:cubicBezTo>
                  <a:pt x="323" y="2693"/>
                  <a:pt x="608" y="2838"/>
                  <a:pt x="977" y="2854"/>
                </a:cubicBezTo>
                <a:cubicBezTo>
                  <a:pt x="1346" y="2870"/>
                  <a:pt x="1870" y="2745"/>
                  <a:pt x="2200" y="2440"/>
                </a:cubicBezTo>
                <a:cubicBezTo>
                  <a:pt x="2530" y="2135"/>
                  <a:pt x="2634" y="1715"/>
                  <a:pt x="2666" y="1469"/>
                </a:cubicBezTo>
                <a:cubicBezTo>
                  <a:pt x="2698" y="1223"/>
                  <a:pt x="2575" y="827"/>
                  <a:pt x="2466" y="583"/>
                </a:cubicBezTo>
                <a:cubicBezTo>
                  <a:pt x="2357" y="339"/>
                  <a:pt x="2258" y="175"/>
                  <a:pt x="2077" y="0"/>
                </a:cubicBezTo>
                <a:cubicBezTo>
                  <a:pt x="1410" y="553"/>
                  <a:pt x="744" y="1107"/>
                  <a:pt x="744" y="1107"/>
                </a:cubicBez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ddddd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rot="2467200">
            <a:off x="2811600" y="1437840"/>
            <a:ext cx="2833200" cy="5181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272" y="528"/>
                  <a:pt x="2943" y="5080"/>
                  <a:pt x="2943" y="10800"/>
                </a:cubicBezTo>
                <a:cubicBezTo>
                  <a:pt x="2943" y="16520"/>
                  <a:pt x="12272" y="2107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9c9c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rot="2428200">
            <a:off x="2874960" y="1931760"/>
            <a:ext cx="1506600" cy="276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272" y="528"/>
                  <a:pt x="2943" y="5080"/>
                  <a:pt x="2943" y="10800"/>
                </a:cubicBezTo>
                <a:cubicBezTo>
                  <a:pt x="2943" y="16520"/>
                  <a:pt x="12272" y="2107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9c9c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2752920" y="2020320"/>
            <a:ext cx="2873160" cy="89640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765520" y="2923920"/>
            <a:ext cx="3201840" cy="66240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748240" y="2925000"/>
            <a:ext cx="2171520" cy="217476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61560" y="2932560"/>
            <a:ext cx="123840" cy="289800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052720" y="2236680"/>
            <a:ext cx="1527120" cy="1207800"/>
            <a:chOff x="2052720" y="2236680"/>
            <a:chExt cx="1527120" cy="1207800"/>
          </a:xfrm>
        </p:grpSpPr>
        <p:sp>
          <p:nvSpPr>
            <p:cNvPr id="338" name=""/>
            <p:cNvSpPr/>
            <p:nvPr/>
          </p:nvSpPr>
          <p:spPr>
            <a:xfrm>
              <a:off x="2055960" y="2236680"/>
              <a:ext cx="1520640" cy="1207800"/>
            </a:xfrm>
            <a:prstGeom prst="blockArc">
              <a:avLst>
                <a:gd name="adj1" fmla="val 0"/>
                <a:gd name="adj2" fmla="val 10800000"/>
                <a:gd name="adj3" fmla="val 47065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663300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52720" y="2725560"/>
              <a:ext cx="1527120" cy="2556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2220840" y="1611360"/>
            <a:ext cx="1177920" cy="11779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2481120" y="2801880"/>
            <a:ext cx="641520" cy="10800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5221440" y="2944800"/>
            <a:ext cx="961920" cy="1009800"/>
            <a:chOff x="5221440" y="2944800"/>
            <a:chExt cx="961920" cy="1009800"/>
          </a:xfrm>
        </p:grpSpPr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5313240" y="3735720"/>
              <a:ext cx="79020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5221440" y="2944800"/>
              <a:ext cx="961920" cy="9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5221440" y="2944800"/>
              <a:ext cx="955440" cy="93204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90196"/>
                  </a:srgbClr>
                </a:gs>
                <a:gs pos="50000">
                  <a:srgbClr val="ccff99">
                    <a:alpha val="55294"/>
                  </a:srgbClr>
                </a:gs>
                <a:gs pos="100000">
                  <a:srgbClr val="cccc0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5299200" y="3621960"/>
              <a:ext cx="752400" cy="321840"/>
              <a:chOff x="5299200" y="3621960"/>
              <a:chExt cx="752400" cy="32184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5421600" y="3665520"/>
                <a:ext cx="630000" cy="254520"/>
                <a:chOff x="5421600" y="3665520"/>
                <a:chExt cx="630000" cy="254520"/>
              </a:xfrm>
            </p:grpSpPr>
            <p:sp>
              <p:nvSpPr>
                <p:cNvPr id="348" name=""/>
                <p:cNvSpPr/>
                <p:nvPr/>
              </p:nvSpPr>
              <p:spPr>
                <a:xfrm flipH="1" flipV="1" rot="4217400">
                  <a:off x="5765760" y="3565800"/>
                  <a:ext cx="108000" cy="453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 rot="5032800">
                  <a:off x="5694120" y="3588480"/>
                  <a:ext cx="10800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flipV="1" rot="5328600">
                  <a:off x="5650200" y="3591720"/>
                  <a:ext cx="10800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 rot="5860800">
                  <a:off x="5598720" y="3592800"/>
                  <a:ext cx="10800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5299200" y="3621960"/>
                <a:ext cx="615960" cy="321840"/>
                <a:chOff x="5299200" y="3621960"/>
                <a:chExt cx="615960" cy="321840"/>
              </a:xfrm>
            </p:grpSpPr>
            <p:sp>
              <p:nvSpPr>
                <p:cNvPr id="353" name=""/>
                <p:cNvSpPr/>
                <p:nvPr/>
              </p:nvSpPr>
              <p:spPr>
                <a:xfrm flipH="1" flipV="1" rot="5570400">
                  <a:off x="5631840" y="3594960"/>
                  <a:ext cx="108360" cy="453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flipV="1" rot="6385800">
                  <a:off x="5557320" y="3588840"/>
                  <a:ext cx="10836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 flipV="1" rot="6681600">
                  <a:off x="5515920" y="3575160"/>
                  <a:ext cx="10836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H="1" flipV="1" rot="7213800">
                  <a:off x="5466960" y="3556440"/>
                  <a:ext cx="10836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7" name=""/>
            <p:cNvSpPr/>
            <p:nvPr/>
          </p:nvSpPr>
          <p:spPr>
            <a:xfrm>
              <a:off x="5319720" y="2963880"/>
              <a:ext cx="750600" cy="3240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af6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5292720" y="32670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90920" y="2278080"/>
            <a:ext cx="1639800" cy="33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68600" y="2976480"/>
            <a:ext cx="1639800" cy="33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086280" y="3641760"/>
            <a:ext cx="1639800" cy="33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4010040"/>
            <a:ext cx="1640160" cy="33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973840" y="1779480"/>
            <a:ext cx="163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15040" y="3191040"/>
            <a:ext cx="163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519880" y="4782960"/>
            <a:ext cx="163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58920" y="603720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184720" y="1662120"/>
            <a:ext cx="723960" cy="758520"/>
            <a:chOff x="5184720" y="1662120"/>
            <a:chExt cx="723960" cy="758520"/>
          </a:xfrm>
        </p:grpSpPr>
        <p:pic>
          <p:nvPicPr>
            <p:cNvPr id="368" name="" descr=""/>
            <p:cNvPicPr/>
            <p:nvPr/>
          </p:nvPicPr>
          <p:blipFill>
            <a:blip r:embed="rId5"/>
            <a:stretch/>
          </p:blipFill>
          <p:spPr>
            <a:xfrm>
              <a:off x="5253840" y="2256480"/>
              <a:ext cx="594720" cy="1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6"/>
            <a:stretch/>
          </p:blipFill>
          <p:spPr>
            <a:xfrm>
              <a:off x="5184720" y="1662120"/>
              <a:ext cx="723960" cy="6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5184720" y="1662120"/>
              <a:ext cx="718920" cy="70020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90196"/>
                  </a:srgbClr>
                </a:gs>
                <a:gs pos="50000">
                  <a:srgbClr val="ccff99">
                    <a:alpha val="55294"/>
                  </a:srgbClr>
                </a:gs>
                <a:gs pos="100000">
                  <a:srgbClr val="cccc0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5243040" y="2171520"/>
              <a:ext cx="566280" cy="242280"/>
              <a:chOff x="5243040" y="2171520"/>
              <a:chExt cx="566280" cy="24228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5335200" y="2203560"/>
                <a:ext cx="474120" cy="191160"/>
                <a:chOff x="5335200" y="2203560"/>
                <a:chExt cx="474120" cy="191160"/>
              </a:xfrm>
            </p:grpSpPr>
            <p:sp>
              <p:nvSpPr>
                <p:cNvPr id="373" name=""/>
                <p:cNvSpPr/>
                <p:nvPr/>
              </p:nvSpPr>
              <p:spPr>
                <a:xfrm flipH="1" flipV="1" rot="4217400">
                  <a:off x="5594040" y="2128320"/>
                  <a:ext cx="81000" cy="34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 flipV="1" rot="5032800">
                  <a:off x="5540760" y="2144880"/>
                  <a:ext cx="81000" cy="34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 flipV="1" rot="5328600">
                  <a:off x="5508000" y="2147400"/>
                  <a:ext cx="81000" cy="34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 flipV="1" rot="5860800">
                  <a:off x="5469120" y="2148120"/>
                  <a:ext cx="81000" cy="341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5243040" y="2171520"/>
                <a:ext cx="464040" cy="242280"/>
                <a:chOff x="5243040" y="2171520"/>
                <a:chExt cx="464040" cy="242280"/>
              </a:xfrm>
            </p:grpSpPr>
            <p:sp>
              <p:nvSpPr>
                <p:cNvPr id="378" name=""/>
                <p:cNvSpPr/>
                <p:nvPr/>
              </p:nvSpPr>
              <p:spPr>
                <a:xfrm flipH="1" flipV="1" rot="5570400">
                  <a:off x="5493600" y="2151000"/>
                  <a:ext cx="81360" cy="34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H="1" flipV="1" rot="6385800">
                  <a:off x="5437440" y="2145240"/>
                  <a:ext cx="81360" cy="34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flipV="1" rot="6681600">
                  <a:off x="5406480" y="2135520"/>
                  <a:ext cx="81000" cy="34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 flipV="1" rot="7213800">
                  <a:off x="5370120" y="2121840"/>
                  <a:ext cx="81360" cy="34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2" name=""/>
            <p:cNvSpPr/>
            <p:nvPr/>
          </p:nvSpPr>
          <p:spPr>
            <a:xfrm>
              <a:off x="5258880" y="1676160"/>
              <a:ext cx="564840" cy="2433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af6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5162400" y="183996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262400" y="4384800"/>
            <a:ext cx="1193400" cy="1253160"/>
            <a:chOff x="4262400" y="4384800"/>
            <a:chExt cx="1193400" cy="1253160"/>
          </a:xfrm>
        </p:grpSpPr>
        <p:pic>
          <p:nvPicPr>
            <p:cNvPr id="385" name="" descr=""/>
            <p:cNvPicPr/>
            <p:nvPr/>
          </p:nvPicPr>
          <p:blipFill>
            <a:blip r:embed="rId7"/>
            <a:stretch/>
          </p:blipFill>
          <p:spPr>
            <a:xfrm>
              <a:off x="4376520" y="5366520"/>
              <a:ext cx="980640" cy="2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8"/>
            <a:stretch/>
          </p:blipFill>
          <p:spPr>
            <a:xfrm>
              <a:off x="4262400" y="4384800"/>
              <a:ext cx="1193400" cy="115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4262400" y="4384800"/>
              <a:ext cx="1185480" cy="115704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90196"/>
                  </a:srgbClr>
                </a:gs>
                <a:gs pos="50000">
                  <a:srgbClr val="ccff99">
                    <a:alpha val="55294"/>
                  </a:srgbClr>
                </a:gs>
                <a:gs pos="100000">
                  <a:srgbClr val="cccc0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4358520" y="5225760"/>
              <a:ext cx="934200" cy="398880"/>
              <a:chOff x="4358520" y="5225760"/>
              <a:chExt cx="934200" cy="39888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4510440" y="5280480"/>
                <a:ext cx="782280" cy="315360"/>
                <a:chOff x="4510440" y="5280480"/>
                <a:chExt cx="782280" cy="315360"/>
              </a:xfrm>
            </p:grpSpPr>
            <p:sp>
              <p:nvSpPr>
                <p:cNvPr id="390" name=""/>
                <p:cNvSpPr/>
                <p:nvPr/>
              </p:nvSpPr>
              <p:spPr>
                <a:xfrm flipH="1" flipV="1" rot="4217400">
                  <a:off x="4938480" y="5157000"/>
                  <a:ext cx="13356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flipV="1" rot="5032800">
                  <a:off x="4849560" y="5184360"/>
                  <a:ext cx="133560" cy="56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 flipV="1" rot="5328600">
                  <a:off x="4795560" y="5187600"/>
                  <a:ext cx="13356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 flipV="1" rot="5860800">
                  <a:off x="4730760" y="5190480"/>
                  <a:ext cx="13356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4358520" y="5225760"/>
                <a:ext cx="765360" cy="398880"/>
                <a:chOff x="4358520" y="5225760"/>
                <a:chExt cx="765360" cy="398880"/>
              </a:xfrm>
            </p:grpSpPr>
            <p:sp>
              <p:nvSpPr>
                <p:cNvPr id="395" name=""/>
                <p:cNvSpPr/>
                <p:nvPr/>
              </p:nvSpPr>
              <p:spPr>
                <a:xfrm flipH="1" flipV="1" rot="5570400">
                  <a:off x="4772520" y="5194080"/>
                  <a:ext cx="13464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 flipV="1" rot="6385800">
                  <a:off x="4678560" y="5185080"/>
                  <a:ext cx="13464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 flipV="1" rot="6681600">
                  <a:off x="4627800" y="5167800"/>
                  <a:ext cx="13464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 flipV="1" rot="7213800">
                  <a:off x="4567320" y="5144040"/>
                  <a:ext cx="13464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9" name=""/>
            <p:cNvSpPr/>
            <p:nvPr/>
          </p:nvSpPr>
          <p:spPr>
            <a:xfrm>
              <a:off x="4384440" y="4408200"/>
              <a:ext cx="931320" cy="402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af6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4395960" y="4767120"/>
            <a:ext cx="9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400480" y="5103720"/>
            <a:ext cx="892080" cy="936720"/>
            <a:chOff x="2400480" y="5103720"/>
            <a:chExt cx="892080" cy="936720"/>
          </a:xfrm>
        </p:grpSpPr>
        <p:pic>
          <p:nvPicPr>
            <p:cNvPr id="402" name="" descr=""/>
            <p:cNvPicPr/>
            <p:nvPr/>
          </p:nvPicPr>
          <p:blipFill>
            <a:blip r:embed="rId9"/>
            <a:stretch/>
          </p:blipFill>
          <p:spPr>
            <a:xfrm>
              <a:off x="2485800" y="5837400"/>
              <a:ext cx="732600" cy="2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10"/>
            <a:stretch/>
          </p:blipFill>
          <p:spPr>
            <a:xfrm>
              <a:off x="2400480" y="5103720"/>
              <a:ext cx="892080" cy="86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2400480" y="5103720"/>
              <a:ext cx="885960" cy="86436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90196"/>
                  </a:srgbClr>
                </a:gs>
                <a:gs pos="50000">
                  <a:srgbClr val="ccff99">
                    <a:alpha val="55294"/>
                  </a:srgbClr>
                </a:gs>
                <a:gs pos="100000">
                  <a:srgbClr val="cccc0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2472480" y="5732280"/>
              <a:ext cx="697680" cy="297720"/>
              <a:chOff x="2472480" y="5732280"/>
              <a:chExt cx="697680" cy="29772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2585880" y="5771520"/>
                <a:ext cx="584280" cy="236160"/>
                <a:chOff x="2585880" y="5771520"/>
                <a:chExt cx="584280" cy="236160"/>
              </a:xfrm>
            </p:grpSpPr>
            <p:sp>
              <p:nvSpPr>
                <p:cNvPr id="407" name=""/>
                <p:cNvSpPr/>
                <p:nvPr/>
              </p:nvSpPr>
              <p:spPr>
                <a:xfrm flipH="1" flipV="1" rot="4217400">
                  <a:off x="2905200" y="5679360"/>
                  <a:ext cx="100080" cy="420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 flipV="1" rot="5032800">
                  <a:off x="2838600" y="5700600"/>
                  <a:ext cx="100080" cy="420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H="1" flipV="1" rot="5328600">
                  <a:off x="2798640" y="5703480"/>
                  <a:ext cx="100080" cy="419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 flipV="1" rot="5860800">
                  <a:off x="2750040" y="5704200"/>
                  <a:ext cx="100080" cy="419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2472480" y="5732280"/>
                <a:ext cx="571320" cy="297720"/>
                <a:chOff x="2472480" y="5732280"/>
                <a:chExt cx="571320" cy="297720"/>
              </a:xfrm>
            </p:grpSpPr>
            <p:sp>
              <p:nvSpPr>
                <p:cNvPr id="412" name=""/>
                <p:cNvSpPr/>
                <p:nvPr/>
              </p:nvSpPr>
              <p:spPr>
                <a:xfrm flipH="1" flipV="1" rot="5570400">
                  <a:off x="2781000" y="5707800"/>
                  <a:ext cx="100440" cy="419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H="1" flipV="1" rot="6385800">
                  <a:off x="2710800" y="5701680"/>
                  <a:ext cx="100440" cy="419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H="1" flipV="1" rot="6681600">
                  <a:off x="2673360" y="5688360"/>
                  <a:ext cx="100440" cy="420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 flipV="1" rot="7213800">
                  <a:off x="2628720" y="5670720"/>
                  <a:ext cx="100440" cy="419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6" name=""/>
            <p:cNvSpPr/>
            <p:nvPr/>
          </p:nvSpPr>
          <p:spPr>
            <a:xfrm>
              <a:off x="2491920" y="5121360"/>
              <a:ext cx="695880" cy="3002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af6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2427120" y="537372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4920" y="17640"/>
            <a:ext cx="83358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0:36:03Z</dcterms:created>
  <dc:creator>Testpc1</dc:creator>
  <dc:description/>
  <dc:language>en-US</dc:language>
  <cp:lastModifiedBy>ThemeGallery</cp:lastModifiedBy>
  <dcterms:modified xsi:type="dcterms:W3CDTF">2005-12-01T04:33:23Z</dcterms:modified>
  <cp:revision>40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b000000000001024110</vt:lpwstr>
  </property>
</Properties>
</file>