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65BD-EA2C-4CEF-922F-8A49E8ACA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1DA4-DB04-48DA-BEF0-02A523526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218C-13A9-422B-A67B-386F2BBB6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8E91-32CD-4109-9B8E-6B007D0A3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F0980-711B-415C-A99B-F9D4E2C9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0081F-7D5A-4E39-961D-5D4D86C3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7CEA1-359A-469E-8A65-3D10407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6DDED-9264-4A03-9553-6BD0BD8E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0E60E-15A6-4955-8C1A-FF2A1E2B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DBBC5-7674-4EA2-A028-50D6E73D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B2972-0DFE-4DD7-A151-298E20F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07D4-3025-4195-8540-0FB39A7B1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4B87B-317B-4727-B417-7243602F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AB222-F065-4064-B9AC-3A55913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22915-A309-4FDD-8BBF-50EC6BA0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8422A-EFD4-46DA-8DC5-447B0A37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8B821-8095-41D3-AAB1-91971368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565E-AF03-4BB9-AB8E-518DC20C8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F91F-5C9E-4200-B42B-2AEC075DF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3E67-47C0-4A63-83ED-D0E82D72D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7096-E381-4AE4-80FD-068D3E5BD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149E-D0A6-4FDB-8489-A700849DD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1DAC-56E3-4A14-8C74-B979187C5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FA3F-A70B-4327-89D0-98319662B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969696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D396-1B0C-4F1F-9A52-B09A3559F338}" type="slidenum">
              <a:rPr b="0" lang="ko-KR" sz="1200" spc="-1" strike="noStrike">
                <a:solidFill>
                  <a:srgbClr val="969696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61320" y="659124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11360" cy="851040"/>
          </a:xfrm>
          <a:prstGeom prst="rect">
            <a:avLst/>
          </a:prstGeom>
          <a:gradFill rotWithShape="0">
            <a:gsLst>
              <a:gs pos="0">
                <a:srgbClr val="323001"/>
              </a:gs>
              <a:gs pos="100000">
                <a:srgbClr val="6d6a0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851040"/>
            <a:ext cx="698400" cy="600696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dcdfa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851040"/>
            <a:ext cx="0" cy="6006960"/>
          </a:xfrm>
          <a:prstGeom prst="line">
            <a:avLst/>
          </a:prstGeom>
          <a:ln w="9360">
            <a:solidFill>
              <a:srgbClr val="dcd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851040"/>
            <a:ext cx="685800" cy="5867280"/>
            <a:chOff x="6480" y="851040"/>
            <a:chExt cx="685800" cy="5867280"/>
          </a:xfrm>
        </p:grpSpPr>
        <p:grpSp>
          <p:nvGrpSpPr>
            <p:cNvPr id="6" name=""/>
            <p:cNvGrpSpPr/>
            <p:nvPr/>
          </p:nvGrpSpPr>
          <p:grpSpPr>
            <a:xfrm>
              <a:off x="6480" y="3873600"/>
              <a:ext cx="685800" cy="2844720"/>
              <a:chOff x="6480" y="3873600"/>
              <a:chExt cx="685800" cy="284472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67183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65404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63626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80" y="61848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60069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480" y="58294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80" y="56516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480" y="54738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80" y="52959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480" y="51181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6480" y="49402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480" y="47624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480" y="45846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480" y="44067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80" y="42292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480" y="40514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480" y="38736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480" y="851040"/>
              <a:ext cx="685800" cy="2844720"/>
              <a:chOff x="6480" y="851040"/>
              <a:chExt cx="685800" cy="2844720"/>
            </a:xfrm>
          </p:grpSpPr>
          <p:sp>
            <p:nvSpPr>
              <p:cNvPr id="25" name=""/>
              <p:cNvSpPr/>
              <p:nvPr/>
            </p:nvSpPr>
            <p:spPr>
              <a:xfrm>
                <a:off x="6480" y="36957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480" y="35179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480" y="33400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6480" y="31622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480" y="29844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480" y="28069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480" y="26290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480" y="24512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480" y="22734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480" y="209556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80" y="19177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480" y="17398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480" y="15620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480" y="138420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480" y="120672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480" y="102888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80" y="851040"/>
                <a:ext cx="68580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42" name=""/>
          <p:cNvSpPr/>
          <p:nvPr/>
        </p:nvSpPr>
        <p:spPr>
          <a:xfrm>
            <a:off x="698400" y="0"/>
            <a:ext cx="8445600" cy="85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8400" y="849240"/>
            <a:ext cx="8445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10560" y="6578640"/>
            <a:ext cx="63360" cy="279360"/>
          </a:xfrm>
          <a:prstGeom prst="rect">
            <a:avLst/>
          </a:prstGeom>
          <a:solidFill>
            <a:srgbClr val="5eca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9e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9a9e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eca5e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dcdfa3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941560" cy="446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1B3-F9CB-4F07-984D-A9FBC8CB41AE}" type="slidenum">
              <a:rPr b="0" lang="ko-KR" sz="1400" spc="-1" strike="noStrike">
                <a:solidFill>
                  <a:srgbClr val="969696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946240" cy="1816200"/>
          </a:xfrm>
          <a:prstGeom prst="rect">
            <a:avLst/>
          </a:prstGeom>
          <a:gradFill rotWithShape="0">
            <a:gsLst>
              <a:gs pos="0">
                <a:srgbClr val="323001"/>
              </a:gs>
              <a:gs pos="100000">
                <a:srgbClr val="6d6a0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720960"/>
            <a:ext cx="2946240" cy="313704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dcdfa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46240" y="3708360"/>
            <a:ext cx="6197760" cy="314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3733920"/>
            <a:ext cx="2933640" cy="3124080"/>
            <a:chOff x="0" y="3733920"/>
            <a:chExt cx="2933640" cy="3124080"/>
          </a:xfrm>
        </p:grpSpPr>
        <p:grpSp>
          <p:nvGrpSpPr>
            <p:cNvPr id="92" name=""/>
            <p:cNvGrpSpPr/>
            <p:nvPr/>
          </p:nvGrpSpPr>
          <p:grpSpPr>
            <a:xfrm>
              <a:off x="330120" y="3733920"/>
              <a:ext cx="2210040" cy="3124080"/>
              <a:chOff x="330120" y="3733920"/>
              <a:chExt cx="2210040" cy="3124080"/>
            </a:xfrm>
          </p:grpSpPr>
          <p:sp>
            <p:nvSpPr>
              <p:cNvPr id="93" name=""/>
              <p:cNvSpPr/>
              <p:nvPr/>
            </p:nvSpPr>
            <p:spPr>
              <a:xfrm>
                <a:off x="33012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840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6668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3496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80324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7188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40160" y="3733920"/>
                <a:ext cx="0" cy="312408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0" y="3873600"/>
              <a:ext cx="2933640" cy="2844720"/>
              <a:chOff x="0" y="3873600"/>
              <a:chExt cx="2933640" cy="2844720"/>
            </a:xfrm>
          </p:grpSpPr>
          <p:sp>
            <p:nvSpPr>
              <p:cNvPr id="101" name=""/>
              <p:cNvSpPr/>
              <p:nvPr/>
            </p:nvSpPr>
            <p:spPr>
              <a:xfrm>
                <a:off x="0" y="671832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5404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3626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618480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0696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8294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6516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547380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529596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11812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9402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7624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58460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40676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22928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05144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73600"/>
                <a:ext cx="2933640" cy="0"/>
              </a:xfrm>
              <a:prstGeom prst="line">
                <a:avLst/>
              </a:prstGeom>
              <a:ln w="9360">
                <a:solidFill>
                  <a:srgbClr val="dcd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119" name=""/>
            <p:cNvSpPr/>
            <p:nvPr/>
          </p:nvSpPr>
          <p:spPr>
            <a:xfrm>
              <a:off x="2412720" y="353052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12720" y="439344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5400000">
              <a:off x="198108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284472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6d6a0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40160" y="4371840"/>
            <a:ext cx="1368000" cy="2019240"/>
            <a:chOff x="2540160" y="4371840"/>
            <a:chExt cx="1368000" cy="2019240"/>
          </a:xfrm>
        </p:grpSpPr>
        <p:grpSp>
          <p:nvGrpSpPr>
            <p:cNvPr id="124" name=""/>
            <p:cNvGrpSpPr/>
            <p:nvPr/>
          </p:nvGrpSpPr>
          <p:grpSpPr>
            <a:xfrm>
              <a:off x="2540160" y="4371840"/>
              <a:ext cx="1368000" cy="2019240"/>
              <a:chOff x="2540160" y="4371840"/>
              <a:chExt cx="1368000" cy="2019240"/>
            </a:xfrm>
          </p:grpSpPr>
          <p:sp>
            <p:nvSpPr>
              <p:cNvPr id="125" name=""/>
              <p:cNvSpPr/>
              <p:nvPr/>
            </p:nvSpPr>
            <p:spPr>
              <a:xfrm>
                <a:off x="2540160" y="437184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43480" y="437184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0560" y="449892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98000" y="4626000"/>
                <a:ext cx="12636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22920" y="475272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50000" y="487980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77440" y="5006880"/>
                <a:ext cx="12636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7040" y="513396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34120" y="526104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61560" y="5387760"/>
                <a:ext cx="12636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81440" y="551484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9640" y="576900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19640" y="589572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46720" y="602280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46720" y="614988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46720" y="626436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19640" y="626436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2280" y="626436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5200" y="613728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5200" y="601020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48840" y="5883120"/>
                <a:ext cx="139320" cy="1396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8840" y="5756040"/>
                <a:ext cx="139320" cy="1396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21400" y="5629320"/>
                <a:ext cx="126720" cy="12672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82080" y="5743440"/>
                <a:ext cx="139320" cy="1396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7240" y="588168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540160" y="600228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40160" y="4498920"/>
                <a:ext cx="126720" cy="154944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73800" y="551484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46720" y="551484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19640" y="5514840"/>
                <a:ext cx="12672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93280" y="5514840"/>
                <a:ext cx="12636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93280" y="5641920"/>
                <a:ext cx="126360" cy="127080"/>
              </a:xfrm>
              <a:prstGeom prst="rect">
                <a:avLst/>
              </a:prstGeom>
              <a:solidFill>
                <a:srgbClr val="6d6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>
              <a:off x="2658240" y="4486320"/>
              <a:ext cx="1009800" cy="1781280"/>
            </a:xfrm>
            <a:custGeom>
              <a:avLst/>
              <a:gdLst/>
              <a:ahLst/>
              <a:rect l="l" t="t" r="r" b="b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5560" y="63360"/>
            <a:ext cx="10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5eca5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cdfa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98880" y="1117440"/>
            <a:ext cx="5879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굴림"/>
              </a:rPr>
              <a:t>PowerPoint </a:t>
            </a:r>
            <a:r>
              <a:rPr b="1" lang="en-US" sz="5400" spc="-1" strike="noStrike">
                <a:solidFill>
                  <a:srgbClr val="6d6a03"/>
                </a:solidFill>
                <a:latin typeface="Verdana"/>
                <a:ea typeface="굴림"/>
              </a:rPr>
              <a:t>Template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46240" y="0"/>
            <a:ext cx="6197760" cy="3720960"/>
          </a:xfrm>
          <a:prstGeom prst="rect">
            <a:avLst/>
          </a:prstGeom>
          <a:solidFill>
            <a:srgbClr val="9a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9a9e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98880" y="1117440"/>
            <a:ext cx="5879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dfa3"/>
                </a:solidFill>
                <a:latin typeface="Verdana"/>
                <a:ea typeface="굴림"/>
              </a:rPr>
              <a:t>Thank You!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298" name=""/>
            <p:cNvSpPr/>
            <p:nvPr/>
          </p:nvSpPr>
          <p:spPr>
            <a:xfrm>
              <a:off x="2412720" y="353052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412720" y="439344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5400000">
              <a:off x="198108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16200000">
              <a:off x="284472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9a9e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540160" y="4371840"/>
            <a:ext cx="1368000" cy="2019240"/>
            <a:chOff x="2540160" y="4371840"/>
            <a:chExt cx="1368000" cy="2019240"/>
          </a:xfrm>
        </p:grpSpPr>
        <p:sp>
          <p:nvSpPr>
            <p:cNvPr id="303" name=""/>
            <p:cNvSpPr/>
            <p:nvPr/>
          </p:nvSpPr>
          <p:spPr>
            <a:xfrm>
              <a:off x="2540160" y="437184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43480" y="437184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70560" y="449892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98000" y="4626000"/>
              <a:ext cx="12636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22920" y="475272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50000" y="487980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77440" y="5006880"/>
              <a:ext cx="12636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07040" y="513396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4120" y="526104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61560" y="5387760"/>
              <a:ext cx="12636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81440" y="551484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19640" y="576900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19640" y="589572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46720" y="602280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46720" y="614988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46720" y="626436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19640" y="626436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02280" y="626436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75200" y="613728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75200" y="601020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8840" y="5883120"/>
              <a:ext cx="139320" cy="1396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8840" y="5756040"/>
              <a:ext cx="139320" cy="1396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21400" y="5629320"/>
              <a:ext cx="126720" cy="12672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82080" y="5743440"/>
              <a:ext cx="139320" cy="1396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67240" y="588168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0160" y="600228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4498920"/>
              <a:ext cx="126720" cy="154944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3800" y="551484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46720" y="551484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9640" y="5514840"/>
              <a:ext cx="12672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93280" y="5514840"/>
              <a:ext cx="12636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93280" y="5641920"/>
              <a:ext cx="126360" cy="127080"/>
            </a:xfrm>
            <a:prstGeom prst="rect">
              <a:avLst/>
            </a:prstGeom>
            <a:solidFill>
              <a:srgbClr val="dcd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H="1">
            <a:off x="2658240" y="4486320"/>
            <a:ext cx="1009800" cy="1781280"/>
          </a:xfrm>
          <a:custGeom>
            <a:avLst/>
            <a:gdLst/>
            <a:ahLst/>
            <a:rect l="l" t="t" r="r" b="b"/>
            <a:pathLst>
              <a:path w="636" h="1122">
                <a:moveTo>
                  <a:pt x="231" y="1122"/>
                </a:moveTo>
                <a:lnTo>
                  <a:pt x="72" y="1122"/>
                </a:lnTo>
                <a:lnTo>
                  <a:pt x="72" y="969"/>
                </a:lnTo>
                <a:lnTo>
                  <a:pt x="153" y="969"/>
                </a:lnTo>
                <a:lnTo>
                  <a:pt x="153" y="807"/>
                </a:lnTo>
                <a:lnTo>
                  <a:pt x="237" y="807"/>
                </a:lnTo>
                <a:lnTo>
                  <a:pt x="237" y="648"/>
                </a:lnTo>
                <a:lnTo>
                  <a:pt x="0" y="648"/>
                </a:lnTo>
                <a:lnTo>
                  <a:pt x="0" y="567"/>
                </a:lnTo>
                <a:lnTo>
                  <a:pt x="81" y="567"/>
                </a:lnTo>
                <a:lnTo>
                  <a:pt x="81" y="483"/>
                </a:lnTo>
                <a:lnTo>
                  <a:pt x="162" y="483"/>
                </a:lnTo>
                <a:lnTo>
                  <a:pt x="162" y="408"/>
                </a:lnTo>
                <a:lnTo>
                  <a:pt x="243" y="408"/>
                </a:lnTo>
                <a:lnTo>
                  <a:pt x="243" y="324"/>
                </a:lnTo>
                <a:lnTo>
                  <a:pt x="324" y="324"/>
                </a:lnTo>
                <a:lnTo>
                  <a:pt x="324" y="243"/>
                </a:lnTo>
                <a:lnTo>
                  <a:pt x="405" y="243"/>
                </a:lnTo>
                <a:lnTo>
                  <a:pt x="405" y="165"/>
                </a:lnTo>
                <a:lnTo>
                  <a:pt x="483" y="165"/>
                </a:lnTo>
                <a:lnTo>
                  <a:pt x="483" y="84"/>
                </a:lnTo>
                <a:lnTo>
                  <a:pt x="564" y="84"/>
                </a:lnTo>
                <a:lnTo>
                  <a:pt x="564" y="0"/>
                </a:lnTo>
                <a:lnTo>
                  <a:pt x="636" y="0"/>
                </a:lnTo>
                <a:lnTo>
                  <a:pt x="636" y="882"/>
                </a:lnTo>
                <a:lnTo>
                  <a:pt x="549" y="882"/>
                </a:lnTo>
                <a:lnTo>
                  <a:pt x="549" y="798"/>
                </a:lnTo>
                <a:lnTo>
                  <a:pt x="468" y="798"/>
                </a:lnTo>
                <a:lnTo>
                  <a:pt x="468" y="720"/>
                </a:lnTo>
                <a:lnTo>
                  <a:pt x="390" y="720"/>
                </a:lnTo>
                <a:lnTo>
                  <a:pt x="390" y="801"/>
                </a:lnTo>
                <a:lnTo>
                  <a:pt x="309" y="801"/>
                </a:lnTo>
                <a:lnTo>
                  <a:pt x="309" y="963"/>
                </a:lnTo>
                <a:lnTo>
                  <a:pt x="231" y="963"/>
                </a:lnTo>
                <a:lnTo>
                  <a:pt x="231" y="1122"/>
                </a:lnTo>
                <a:close/>
              </a:path>
            </a:pathLst>
          </a:custGeom>
          <a:solidFill>
            <a:srgbClr val="9a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Related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02960" y="1371600"/>
            <a:ext cx="7581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9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9e00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9a9e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a9e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eca5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ca5e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9a9e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9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9e00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9a9e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a9e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Cont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60440" y="4432320"/>
            <a:ext cx="5283360" cy="812880"/>
            <a:chOff x="2260440" y="4432320"/>
            <a:chExt cx="5283360" cy="812880"/>
          </a:xfrm>
        </p:grpSpPr>
        <p:sp>
          <p:nvSpPr>
            <p:cNvPr id="204" name=""/>
            <p:cNvSpPr/>
            <p:nvPr/>
          </p:nvSpPr>
          <p:spPr>
            <a:xfrm>
              <a:off x="2590920" y="4525920"/>
              <a:ext cx="495288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260440" y="4432320"/>
              <a:ext cx="812880" cy="812880"/>
              <a:chOff x="2260440" y="4432320"/>
              <a:chExt cx="812880" cy="81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2260440" y="443232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87520" y="4554360"/>
                <a:ext cx="563760" cy="5637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2260440" y="2552760"/>
            <a:ext cx="5283360" cy="812880"/>
            <a:chOff x="2260440" y="2552760"/>
            <a:chExt cx="5283360" cy="812880"/>
          </a:xfrm>
        </p:grpSpPr>
        <p:sp>
          <p:nvSpPr>
            <p:cNvPr id="209" name=""/>
            <p:cNvSpPr/>
            <p:nvPr/>
          </p:nvSpPr>
          <p:spPr>
            <a:xfrm>
              <a:off x="2590920" y="2646360"/>
              <a:ext cx="495288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260440" y="2552760"/>
              <a:ext cx="812880" cy="812880"/>
              <a:chOff x="2260440" y="2552760"/>
              <a:chExt cx="812880" cy="812880"/>
            </a:xfrm>
          </p:grpSpPr>
          <p:sp>
            <p:nvSpPr>
              <p:cNvPr id="211" name=""/>
              <p:cNvSpPr/>
              <p:nvPr/>
            </p:nvSpPr>
            <p:spPr>
              <a:xfrm>
                <a:off x="2260440" y="25527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87520" y="2674800"/>
                <a:ext cx="563760" cy="56376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2260440" y="3492360"/>
            <a:ext cx="5283360" cy="812880"/>
            <a:chOff x="2260440" y="3492360"/>
            <a:chExt cx="5283360" cy="812880"/>
          </a:xfrm>
        </p:grpSpPr>
        <p:sp>
          <p:nvSpPr>
            <p:cNvPr id="214" name=""/>
            <p:cNvSpPr/>
            <p:nvPr/>
          </p:nvSpPr>
          <p:spPr>
            <a:xfrm>
              <a:off x="2590920" y="3586320"/>
              <a:ext cx="4952880" cy="591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a9e00"/>
                </a:gs>
                <a:gs pos="100000">
                  <a:srgbClr val="6d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260440" y="3492360"/>
              <a:ext cx="812880" cy="812880"/>
              <a:chOff x="2260440" y="3492360"/>
              <a:chExt cx="812880" cy="812880"/>
            </a:xfrm>
          </p:grpSpPr>
          <p:sp>
            <p:nvSpPr>
              <p:cNvPr id="216" name=""/>
              <p:cNvSpPr/>
              <p:nvPr/>
            </p:nvSpPr>
            <p:spPr>
              <a:xfrm>
                <a:off x="2260440" y="34923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87520" y="3614760"/>
                <a:ext cx="563760" cy="5634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3098880" y="2629080"/>
            <a:ext cx="3911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trateg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11480" y="3568680"/>
            <a:ext cx="39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hallengers Forwar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1480" y="4508640"/>
            <a:ext cx="389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onclus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6440" y="3645000"/>
            <a:ext cx="37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60440" y="1625760"/>
            <a:ext cx="5283360" cy="812520"/>
            <a:chOff x="2260440" y="1625760"/>
            <a:chExt cx="5283360" cy="812520"/>
          </a:xfrm>
        </p:grpSpPr>
        <p:sp>
          <p:nvSpPr>
            <p:cNvPr id="223" name=""/>
            <p:cNvSpPr/>
            <p:nvPr/>
          </p:nvSpPr>
          <p:spPr>
            <a:xfrm>
              <a:off x="2590920" y="1719360"/>
              <a:ext cx="495288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a9e00"/>
                </a:gs>
                <a:gs pos="100000">
                  <a:srgbClr val="6d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260440" y="1625760"/>
              <a:ext cx="812880" cy="812520"/>
              <a:chOff x="2260440" y="1625760"/>
              <a:chExt cx="812880" cy="812520"/>
            </a:xfrm>
          </p:grpSpPr>
          <p:sp>
            <p:nvSpPr>
              <p:cNvPr id="225" name=""/>
              <p:cNvSpPr/>
              <p:nvPr/>
            </p:nvSpPr>
            <p:spPr>
              <a:xfrm>
                <a:off x="2260440" y="1625760"/>
                <a:ext cx="812880" cy="81252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87520" y="1747800"/>
                <a:ext cx="563760" cy="56376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3086280" y="1701720"/>
            <a:ext cx="392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Introduc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63840" y="17906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63840" y="27050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63840" y="4597560"/>
            <a:ext cx="36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49440" y="1695600"/>
            <a:ext cx="6794640" cy="4209840"/>
          </a:xfrm>
          <a:prstGeom prst="roundRect">
            <a:avLst>
              <a:gd name="adj" fmla="val 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89160" y="1473120"/>
            <a:ext cx="5293800" cy="620640"/>
            <a:chOff x="1289160" y="1473120"/>
            <a:chExt cx="5293800" cy="620640"/>
          </a:xfrm>
        </p:grpSpPr>
        <p:sp>
          <p:nvSpPr>
            <p:cNvPr id="233" name=""/>
            <p:cNvSpPr/>
            <p:nvPr/>
          </p:nvSpPr>
          <p:spPr>
            <a:xfrm>
              <a:off x="1422360" y="1490760"/>
              <a:ext cx="5160600" cy="414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289160" y="1473120"/>
              <a:ext cx="596880" cy="620640"/>
              <a:chOff x="1289160" y="1473120"/>
              <a:chExt cx="596880" cy="620640"/>
            </a:xfrm>
          </p:grpSpPr>
          <p:sp>
            <p:nvSpPr>
              <p:cNvPr id="235" name=""/>
              <p:cNvSpPr/>
              <p:nvPr/>
            </p:nvSpPr>
            <p:spPr>
              <a:xfrm>
                <a:off x="1297080" y="1504800"/>
                <a:ext cx="58860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289160" y="1473120"/>
                <a:ext cx="596880" cy="596880"/>
                <a:chOff x="1289160" y="1473120"/>
                <a:chExt cx="596880" cy="596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89160" y="147312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27040" y="1601640"/>
                  <a:ext cx="33624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9" name=""/>
          <p:cNvSpPr/>
          <p:nvPr/>
        </p:nvSpPr>
        <p:spPr>
          <a:xfrm>
            <a:off x="1892160" y="1536840"/>
            <a:ext cx="3760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84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 rot="16200000">
            <a:off x="4691520" y="3613320"/>
            <a:ext cx="685800" cy="63972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5eca5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22400" y="1397160"/>
            <a:ext cx="5293800" cy="620640"/>
            <a:chOff x="1022400" y="1397160"/>
            <a:chExt cx="5293800" cy="620640"/>
          </a:xfrm>
        </p:grpSpPr>
        <p:sp>
          <p:nvSpPr>
            <p:cNvPr id="246" name=""/>
            <p:cNvSpPr/>
            <p:nvPr/>
          </p:nvSpPr>
          <p:spPr>
            <a:xfrm>
              <a:off x="1155600" y="1414800"/>
              <a:ext cx="5160600" cy="414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022400" y="1397160"/>
              <a:ext cx="596880" cy="620640"/>
              <a:chOff x="1022400" y="1397160"/>
              <a:chExt cx="596880" cy="620640"/>
            </a:xfrm>
          </p:grpSpPr>
          <p:sp>
            <p:nvSpPr>
              <p:cNvPr id="248" name=""/>
              <p:cNvSpPr/>
              <p:nvPr/>
            </p:nvSpPr>
            <p:spPr>
              <a:xfrm>
                <a:off x="1030320" y="1428840"/>
                <a:ext cx="58860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1022400" y="1397160"/>
                <a:ext cx="596880" cy="596880"/>
                <a:chOff x="1022400" y="1397160"/>
                <a:chExt cx="596880" cy="596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022400" y="139716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160280" y="1525680"/>
                  <a:ext cx="33624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"/>
          <p:cNvSpPr/>
          <p:nvPr/>
        </p:nvSpPr>
        <p:spPr>
          <a:xfrm>
            <a:off x="1625760" y="1460520"/>
            <a:ext cx="3760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858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858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858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858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2416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2416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2416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2416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62440" y="20588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62440" y="280512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62440" y="3551400"/>
            <a:ext cx="153684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62440" y="4295880"/>
            <a:ext cx="153684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992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992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992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992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01680" y="20588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A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1680" y="280512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B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01680" y="3551400"/>
            <a:ext cx="1386000" cy="74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01680" y="4295880"/>
            <a:ext cx="1386000" cy="74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858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2416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62440" y="1676520"/>
            <a:ext cx="153684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01680" y="1676520"/>
            <a:ext cx="1386000" cy="395280"/>
          </a:xfrm>
          <a:prstGeom prst="rect">
            <a:avLst/>
          </a:prstGeom>
          <a:gradFill rotWithShape="0">
            <a:gsLst>
              <a:gs pos="0">
                <a:srgbClr val="dcdfa3"/>
              </a:gs>
              <a:gs pos="100000">
                <a:srgbClr val="9a9e00"/>
              </a:gs>
            </a:gsLst>
            <a:lin ang="13500000"/>
          </a:gradFill>
          <a:ln w="28440">
            <a:solidFill>
              <a:srgbClr val="9a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858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2416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2440" y="50450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992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01680" y="50450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704960" y="1249200"/>
          <a:ext cx="6724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1249200"/>
                    <a:ext cx="6724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351080" y="1335240"/>
          <a:ext cx="715320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1335240"/>
                    <a:ext cx="715320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390680" y="1341360"/>
          <a:ext cx="735336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341360"/>
                    <a:ext cx="735336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a03"/>
                </a:solidFill>
                <a:latin typeface="Verdana"/>
                <a:ea typeface="굴림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6:44:40Z</dcterms:created>
  <dc:creator>keke</dc:creator>
  <dc:description/>
  <dc:language>en-US</dc:language>
  <cp:lastModifiedBy>sqx</cp:lastModifiedBy>
  <dcterms:modified xsi:type="dcterms:W3CDTF">2011-04-26T06:26:21Z</dcterms:modified>
  <cp:revision>3</cp:revision>
  <dc:subject/>
  <dc:title>幻灯片 1</dc:title>
</cp:coreProperties>
</file>