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9C4-FCB9-4329-99AC-900C620E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3CD-C4BA-4874-AFB9-581323D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0B6-351D-4CBE-B685-DB36C02D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E9A-932E-40A7-ADFC-CA63FC08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97D7-FE4C-4AE2-B296-0D9E187A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5B15-34E7-4BB1-B92C-EA808D54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32AC-83F0-4DFE-86F7-86DE14D9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B2F4-A48E-4DA4-9910-06EB230F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FB25-7657-4327-A94B-A5A2879A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4AB8-6957-4FDA-8E6D-1DD86CE4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C25A-6645-4E97-91D3-D59D9734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3BF-770A-43E3-B2DF-036B3D85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E652-EDEA-49D6-B13E-4FA74CF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F26D-1ACE-4FD3-BF26-9BEFE0C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0C36-BFA6-4B68-87B7-DD3B8E5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1A0-CA70-49C3-823D-8833A392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A5C4-62DB-481D-8FF4-4618CA38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2EE-1025-48E7-8559-1FD9444D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6EA-91D1-491F-9ED3-4B749101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B35-25BB-4229-B6B9-653DD5B9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E03-6BA1-483D-A690-DCEFA32F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CD8-8579-4A0E-8A58-D014955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A5A-C10E-43AE-8C71-04F618C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B58-935F-4153-B264-6E1CD4E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跑道内页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3657-8E6B-40E0-B510-028D82B5E8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跑道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08D-D89E-4ECD-AC99-5F8BE52FF7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81400" y="4357800"/>
            <a:ext cx="691992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Keep on walking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81040" y="4954320"/>
            <a:ext cx="693396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——</a:t>
            </a: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XXX</a:t>
            </a:r>
            <a:r>
              <a:rPr b="0" lang="zh-CN" sz="1600" spc="-1" strike="noStrike">
                <a:solidFill>
                  <a:srgbClr val="595959"/>
                </a:solidFill>
                <a:latin typeface="华文细黑"/>
              </a:rPr>
              <a:t>述职报告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82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2" autoRev="1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4" fill="hold">
                                          <p:stCondLst>
                                            <p:cond delay="34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模板中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，更换您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权说明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此模板为免费模板，请不要用于任何形式的付费下载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1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1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1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1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3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1">
                                  <p:stCondLst>
                                    <p:cond delay="3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1">
                                  <p:stCondLst>
                                    <p:cond delay="4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1">
                                  <p:stCondLst>
                                    <p:cond delay="4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350"/>
                            </p:stCondLst>
                            <p:childTnLst>
                              <p:par>
                                <p:cTn id="9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7">
                                  <p:stCondLst>
                                    <p:cond delay="6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37">
                                  <p:stCondLst>
                                    <p:cond delay="11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7">
                                  <p:stCondLst>
                                    <p:cond delay="15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37">
                                  <p:stCondLst>
                                    <p:cond delay="1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7">
                                  <p:stCondLst>
                                    <p:cond delay="2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7">
                                  <p:stCondLst>
                                    <p:cond delay="2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7">
                                  <p:stCondLst>
                                    <p:cond delay="3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37">
                                  <p:stCondLst>
                                    <p:cond delay="3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7">
                                  <p:stCondLst>
                                    <p:cond delay="4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81400" y="4357800"/>
            <a:ext cx="691992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细黑"/>
              </a:rPr>
              <a:t>感谢聆听！</a:t>
            </a:r>
            <a:r>
              <a:rPr b="1" i="1" lang="en-US" sz="3200" spc="-1" strike="noStrike">
                <a:solidFill>
                  <a:srgbClr val="000000"/>
                </a:solidFill>
                <a:latin typeface="华文细黑"/>
              </a:rPr>
              <a:t>ASP</a:t>
            </a:r>
            <a:r>
              <a:rPr b="1" i="1" lang="zh-CN" sz="3200" spc="-1" strike="noStrike">
                <a:solidFill>
                  <a:srgbClr val="000000"/>
                </a:solidFill>
                <a:latin typeface="华文细黑"/>
              </a:rPr>
              <a:t>集中营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81040" y="4954320"/>
            <a:ext cx="693396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Thanks for your time</a:t>
            </a:r>
            <a:r>
              <a:rPr b="0" lang="zh-CN" sz="1600" spc="-1" strike="noStrike">
                <a:solidFill>
                  <a:srgbClr val="595959"/>
                </a:solidFill>
                <a:latin typeface="华文细黑"/>
              </a:rPr>
              <a:t>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7:03Z</dcterms:created>
  <dc:creator>Ideappt</dc:creator>
  <dc:description>www.ideappt.com</dc:description>
  <dc:language>en-US</dc:language>
  <cp:lastModifiedBy>吴继业</cp:lastModifiedBy>
  <dcterms:modified xsi:type="dcterms:W3CDTF">2009-02-26T01:08:27Z</dcterms:modified>
  <cp:revision>9</cp:revision>
  <dc:subject/>
  <dc:title>述职报告ID20080009</dc:title>
</cp:coreProperties>
</file>