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F3D-9D54-413F-BAD3-7C2D426B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27600"/>
            <a:ext cx="77724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2CA-AC8A-4C08-B6F6-6D44393B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2760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2760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49D-EDDC-42C8-B0D4-F216BAA1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27600"/>
            <a:ext cx="25023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27600"/>
            <a:ext cx="25023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27600"/>
            <a:ext cx="25023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881-1E3D-4E72-91B7-B041AC63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DB2B-2842-4F11-AA34-9F541121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C6CE-7C88-4C61-B2B6-08D79AF6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4496-3ADE-4560-AEAF-E807CB42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8184-F9D9-4EF2-A24B-7DCDBAA7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A79B-8565-43A0-8F87-CFE3A75C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393E-5267-41B2-BBC7-F792B9B7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2760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7584-1E9B-4668-9AE9-2E5F310A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44C-65B3-4390-B6CE-E5DC7B07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92760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6405-1E0E-4F00-AE7B-0C2B90B1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27600"/>
            <a:ext cx="77724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D701-AB33-4194-8A11-2471A5A4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27600"/>
            <a:ext cx="77724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D3C6-3D22-44F8-BC5D-495A23B0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2760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92760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56BA-DC74-4836-922D-116CD110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27600"/>
            <a:ext cx="25023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927600"/>
            <a:ext cx="25023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927600"/>
            <a:ext cx="25023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D5D3-B2A2-4080-BDA7-27F3A36E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74A-68AD-4BCE-B3EA-E492FE9B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39D-147D-4E07-ABD7-E0726478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A6F-E34F-4E34-9E7E-BECE9604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F64-8A0C-44BB-9D26-6E3D9437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2760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6B2-C674-452F-BC62-6895E7D7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2760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EDD6-F5AF-4434-B825-8A3D2B5D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27600"/>
            <a:ext cx="77724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2E3-A82B-4320-8D2F-0D1EC640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48F3-7E14-4F1A-9ABD-642F5C32BD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724A-87BF-4C18-B284-1B81E692BD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Your Subtopics Go Her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opics Go Her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86" name="Picture 4" descr="maple_leaf_shake_lg_wht"/>
          <p:cNvPicPr/>
          <p:nvPr/>
        </p:nvPicPr>
        <p:blipFill>
          <a:blip r:embed="rId2"/>
          <a:stretch/>
        </p:blipFill>
        <p:spPr>
          <a:xfrm>
            <a:off x="914400" y="5248440"/>
            <a:ext cx="160956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352320"/>
            <a:ext cx="403884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Transitional P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1:11:37Z</dcterms:created>
  <dc:creator>lab8.cn</dc:creator>
  <dc:description/>
  <dc:language>en-US</dc:language>
  <cp:lastModifiedBy>Microsoft China</cp:lastModifiedBy>
  <dcterms:modified xsi:type="dcterms:W3CDTF">2011-10-21T09:36:38Z</dcterms:modified>
  <cp:revision>3</cp:revision>
  <dc:subject/>
  <dc:title>幻灯片 1</dc:title>
</cp:coreProperties>
</file>