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8520" y="304920"/>
            <a:ext cx="7775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62120" y="40748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8520" y="304920"/>
            <a:ext cx="7775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2120" y="40748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44800" y="40748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8520" y="304920"/>
            <a:ext cx="7775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90120" y="1447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17760" y="1447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62120" y="40748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90120" y="40748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17760" y="40748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58520" y="304920"/>
            <a:ext cx="7775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76212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8520" y="304920"/>
            <a:ext cx="7775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8520" y="304920"/>
            <a:ext cx="7775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8520" y="304920"/>
            <a:ext cx="7775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58520" y="304920"/>
            <a:ext cx="7775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8520" y="304920"/>
            <a:ext cx="7775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762120" y="40748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8520" y="304920"/>
            <a:ext cx="7775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6212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8520" y="304920"/>
            <a:ext cx="7775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44800" y="40748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8520" y="304920"/>
            <a:ext cx="7775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62120" y="40748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8520" y="304920"/>
            <a:ext cx="7775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762120" y="40748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8520" y="304920"/>
            <a:ext cx="7775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40748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744800" y="40748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8520" y="304920"/>
            <a:ext cx="7775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90120" y="1447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17760" y="1447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762120" y="40748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90120" y="40748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17760" y="40748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58520" y="304920"/>
            <a:ext cx="7775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8520" y="304920"/>
            <a:ext cx="7775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8520" y="304920"/>
            <a:ext cx="7775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58520" y="304920"/>
            <a:ext cx="7775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8520" y="304920"/>
            <a:ext cx="7775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62120" y="40748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8520" y="304920"/>
            <a:ext cx="7775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44800" y="40748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8520" y="304920"/>
            <a:ext cx="7775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62120" y="40748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8520" y="304920"/>
            <a:ext cx="777564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5441b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5c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5c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5c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5c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5c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66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66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99840" y="2819160"/>
            <a:ext cx="6705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5441b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6699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5c337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6699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f5c337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99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6699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f5c337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99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6699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66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99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6699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66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99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6699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8520" y="304920"/>
            <a:ext cx="777564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5441b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3809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24280" y="1447920"/>
            <a:ext cx="3810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2T05:36:26Z</dcterms:created>
  <dc:creator>Ian Agnew</dc:creator>
  <dc:description/>
  <dc:language>en-US</dc:language>
  <cp:lastModifiedBy>sqx</cp:lastModifiedBy>
  <dcterms:modified xsi:type="dcterms:W3CDTF">2011-04-26T09:33:54Z</dcterms:modified>
  <cp:revision>101</cp:revision>
  <dc:subject/>
  <dc:title>PowerPoint Presentation</dc:title>
</cp:coreProperties>
</file>