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072-8DAD-48D4-A045-CD799764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6AE-E57D-4612-B37F-FA65ACED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73B-7F27-4CC2-AEC8-F27A50A7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ABC-3E36-41AD-8221-20BABD41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A39A-684E-4CCE-ABF3-4899104B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571D-C0D8-445B-A259-F1968FE9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BE4D-5048-4E4B-A949-1DE45A4C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3F7B-D120-4859-A41A-48F47D16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8E3-C84B-4618-B521-1EB54E9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BC3E-A255-4F5E-AC3D-CF51B714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209D-8440-43EF-ACC1-B204F649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940-9BBE-4E4D-9926-CCE5511B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BD82-EAED-4D17-A51D-7AB289BC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6F43-E6E9-4ED5-A099-7D6C2D7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F79A-46CF-4A58-8045-D37E6EFD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421B-F3EC-4C90-A8A6-BFF4F6AA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548D-FAE1-4B7D-9CCB-5F0C0561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A4E-34D4-4937-A028-A995B8E8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B53-3CFC-4461-AF60-0FD203E1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6E6-B43B-4229-9921-5CE9479F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094-13BA-414A-ADC9-B6AD52F0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A28-BCEB-46BD-B22C-249CC2DD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EBA-71FE-4B23-A04F-5D4AD322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8E7-E80B-4FC4-8F5A-909816A2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4513320"/>
            <a:ext cx="9144000" cy="234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185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92CB-EF05-4957-B481-F5FDA0F07BC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9DA6-6DBE-4D42-9F46-7AE5C780A2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185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3F82-6001-4E9F-9C64-0314A4BC0D4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26CF-2D30-4FCA-AC8C-428FA56A81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标题 1" descr=""/>
          <p:cNvPicPr/>
          <p:nvPr/>
        </p:nvPicPr>
        <p:blipFill>
          <a:blip r:embed="rId2"/>
          <a:stretch/>
        </p:blipFill>
        <p:spPr>
          <a:xfrm>
            <a:off x="341280" y="1663560"/>
            <a:ext cx="73818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标题 1" descr=""/>
          <p:cNvPicPr/>
          <p:nvPr/>
        </p:nvPicPr>
        <p:blipFill>
          <a:blip r:embed="rId1"/>
          <a:stretch/>
        </p:blipFill>
        <p:spPr>
          <a:xfrm>
            <a:off x="298440" y="208080"/>
            <a:ext cx="3419640" cy="1590480"/>
          </a:xfrm>
          <a:prstGeom prst="rect">
            <a:avLst/>
          </a:prstGeom>
          <a:ln w="0">
            <a:noFill/>
          </a:ln>
        </p:spPr>
      </p:pic>
      <p:pic>
        <p:nvPicPr>
          <p:cNvPr id="85" name="图示 5" descr=""/>
          <p:cNvPicPr/>
          <p:nvPr/>
        </p:nvPicPr>
        <p:blipFill>
          <a:blip r:embed="rId2"/>
          <a:stretch/>
        </p:blipFill>
        <p:spPr>
          <a:xfrm>
            <a:off x="762120" y="1932120"/>
            <a:ext cx="4821120" cy="3444840"/>
          </a:xfrm>
          <a:prstGeom prst="rect">
            <a:avLst/>
          </a:prstGeom>
          <a:ln w="0">
            <a:noFill/>
          </a:ln>
        </p:spPr>
      </p:pic>
      <p:cxnSp>
        <p:nvCxnSpPr>
          <p:cNvPr id="86" name="直接箭头连接符 6"/>
          <p:cNvCxnSpPr/>
          <p:nvPr/>
        </p:nvCxnSpPr>
        <p:spPr>
          <a:xfrm>
            <a:off x="5572080" y="2511360"/>
            <a:ext cx="1215360" cy="6433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87" name="直接箭头连接符 7"/>
          <p:cNvCxnSpPr/>
          <p:nvPr/>
        </p:nvCxnSpPr>
        <p:spPr>
          <a:xfrm flipV="1">
            <a:off x="5572080" y="3296520"/>
            <a:ext cx="1215360" cy="50076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88" name="直接箭头连接符 8"/>
          <p:cNvCxnSpPr/>
          <p:nvPr/>
        </p:nvCxnSpPr>
        <p:spPr>
          <a:xfrm flipV="1">
            <a:off x="5572080" y="3439800"/>
            <a:ext cx="1357920" cy="17150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89" name="TextBox 9"/>
          <p:cNvSpPr/>
          <p:nvPr/>
        </p:nvSpPr>
        <p:spPr>
          <a:xfrm>
            <a:off x="7072200" y="30830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示 4" descr=""/>
          <p:cNvPicPr/>
          <p:nvPr/>
        </p:nvPicPr>
        <p:blipFill>
          <a:blip r:embed="rId1"/>
          <a:stretch/>
        </p:blipFill>
        <p:spPr>
          <a:xfrm>
            <a:off x="963720" y="208080"/>
            <a:ext cx="7070760" cy="5443560"/>
          </a:xfrm>
          <a:prstGeom prst="rect">
            <a:avLst/>
          </a:prstGeom>
          <a:ln w="0">
            <a:noFill/>
          </a:ln>
        </p:spPr>
      </p:pic>
      <p:pic>
        <p:nvPicPr>
          <p:cNvPr id="91" name="标题 1" descr=""/>
          <p:cNvPicPr/>
          <p:nvPr/>
        </p:nvPicPr>
        <p:blipFill>
          <a:blip r:embed="rId2"/>
          <a:stretch/>
        </p:blipFill>
        <p:spPr>
          <a:xfrm>
            <a:off x="298440" y="208080"/>
            <a:ext cx="34196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标题 8" descr=""/>
          <p:cNvPicPr/>
          <p:nvPr/>
        </p:nvPicPr>
        <p:blipFill>
          <a:blip r:embed="rId2"/>
          <a:stretch/>
        </p:blipFill>
        <p:spPr>
          <a:xfrm>
            <a:off x="1779480" y="1712880"/>
            <a:ext cx="5085000" cy="1901880"/>
          </a:xfrm>
          <a:prstGeom prst="rect">
            <a:avLst/>
          </a:prstGeom>
          <a:ln w="0">
            <a:noFill/>
          </a:ln>
        </p:spPr>
      </p:pic>
      <p:sp>
        <p:nvSpPr>
          <p:cNvPr id="93" name="副标题 9"/>
          <p:cNvSpPr/>
          <p:nvPr/>
        </p:nvSpPr>
        <p:spPr>
          <a:xfrm>
            <a:off x="2000160" y="2928960"/>
            <a:ext cx="4786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4:36:01Z</dcterms:created>
  <dc:creator>YlmF</dc:creator>
  <dc:description/>
  <dc:language>en-US</dc:language>
  <cp:lastModifiedBy>sqx</cp:lastModifiedBy>
  <dcterms:modified xsi:type="dcterms:W3CDTF">2011-04-26T09:31:15Z</dcterms:modified>
  <cp:revision>12</cp:revision>
  <dc:subject/>
  <dc:title>Power Point Template</dc:title>
</cp:coreProperties>
</file>