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F75-519F-4FBA-A5FF-D2A7EB64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811-AEAF-4B6F-B6E8-D6E13CF6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B69-C1A9-4852-95D8-09DADD9D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91A-5728-41BB-8488-8DD6561E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3446-5A21-4B03-8AC0-DF6DF097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6E94-A955-499B-9B10-011238B2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8ACA-97D4-4949-9A24-425C9074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30BA-35EC-4109-839C-9BCA377A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8518-B6CB-4663-8CA6-F1E08027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79640" y="2707920"/>
            <a:ext cx="439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E10E-7A0A-4EBC-A651-24DC4AC4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FC59-C3D9-4CF3-98D5-3F47B7FF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7DE-43FC-4A0C-A9F8-A82157D1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C417-3864-4771-BB69-D044AEFC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07F9-ECF0-4932-8B6B-2E7510C1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1DA0-D3EA-419C-8566-76707537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AF07-00B3-453D-B3AA-D9906679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7EF5-0A4F-4B6D-BAD1-943004FB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8AC3-94DB-4AEF-817E-FE20FBF7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389F5-CB15-47F6-AF38-39BBE0DD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D58E2-B164-4468-9800-FCE47E17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F81B9-90A4-45C8-879E-5922FD90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EAFD6-2BC2-4532-8C00-E5297F5F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711-7947-42DE-9DB6-6D9D4781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979640" y="2707920"/>
            <a:ext cx="439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D0FB-A688-4C6D-B64C-1C8E92B0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3CD6B-4D75-41C2-AAD5-02AEA676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3232F-6773-4665-8030-410B05C8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618E8-9128-4286-9840-F6F30DA2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060EE-1DF3-49CA-8508-41217F05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58B4A-55E3-43BF-8EC6-EFB9CBE3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01A10-AD46-490B-97DE-9B43DDE3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927-0D97-4447-9F96-4F041EE1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197-180E-47C7-8ABE-17724A6B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79640" y="2707920"/>
            <a:ext cx="439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9A7-EC2B-43C4-A26B-917B5FF8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B1B4-E110-4949-B879-7C54F8AA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BE7-BA8F-4A0B-81AF-8AA2FC4E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C81-317D-44BB-8F55-F1C9ACD5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 rot="19911600">
            <a:off x="7669080" y="5444640"/>
            <a:ext cx="1257480" cy="1222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42284" t="71184" r="0" b="22772"/>
          <a:stretch/>
        </p:blipFill>
        <p:spPr>
          <a:xfrm>
            <a:off x="0" y="0"/>
            <a:ext cx="9144000" cy="934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-7130880" y="0"/>
            <a:ext cx="16274880" cy="981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6f6f6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000" y="1341360"/>
            <a:ext cx="8496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37FC-AFFC-4E00-9872-5DECEB21FF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gradFill rotWithShape="0">
            <a:gsLst>
              <a:gs pos="0">
                <a:srgbClr val="bc7d00">
                  <a:alpha val="90196"/>
                </a:srgbClr>
              </a:gs>
              <a:gs pos="100000">
                <a:srgbClr val="563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0" t="0" r="0" b="47710"/>
          <a:stretch/>
        </p:blipFill>
        <p:spPr>
          <a:xfrm>
            <a:off x="0" y="0"/>
            <a:ext cx="9144000" cy="4005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21395400">
            <a:off x="-252000" y="3357360"/>
            <a:ext cx="9578880" cy="4827600"/>
          </a:xfrm>
          <a:custGeom>
            <a:avLst/>
            <a:gdLst>
              <a:gd name="textAreaLeft" fmla="*/ 26280 w 9578880"/>
              <a:gd name="textAreaRight" fmla="*/ 9552600 w 9578880"/>
              <a:gd name="textAreaTop" fmla="*/ 795600 h 4827600"/>
              <a:gd name="textAreaBottom" fmla="*/ 4032000 h 4827600"/>
            </a:gdLst>
            <a:ahLst/>
            <a:rect l="textAreaLeft" t="textAreaTop" r="textAreaRight" b="textAreaBottom"/>
            <a:pathLst>
              <a:path w="21600" h="21600">
                <a:moveTo>
                  <a:pt x="0" y="1780"/>
                </a:moveTo>
                <a:cubicBezTo>
                  <a:pt x="7170" y="-4526"/>
                  <a:pt x="14370" y="8086"/>
                  <a:pt x="21540" y="1780"/>
                </a:cubicBezTo>
                <a:lnTo>
                  <a:pt x="21600" y="19820"/>
                </a:lnTo>
                <a:cubicBezTo>
                  <a:pt x="14430" y="26126"/>
                  <a:pt x="7230" y="13514"/>
                  <a:pt x="60" y="1982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11004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3280" y="4508280"/>
            <a:ext cx="64803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6800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20508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59640" y="662004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6CB9-8962-48D2-AAEA-61E6913634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79640" y="2133720"/>
            <a:ext cx="8064360" cy="2158920"/>
          </a:xfrm>
          <a:custGeom>
            <a:avLst/>
            <a:gdLst>
              <a:gd name="textAreaLeft" fmla="*/ 0 w 8064360"/>
              <a:gd name="textAreaRight" fmla="*/ 8064720 w 8064360"/>
              <a:gd name="textAreaTop" fmla="*/ 279720 h 2158920"/>
              <a:gd name="textAreaBottom" fmla="*/ 187920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 rot="19911600">
            <a:off x="7667640" y="5373360"/>
            <a:ext cx="1257120" cy="1222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406F-B656-4178-AA5D-0D688B3F9A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989000"/>
            <a:ext cx="13177800" cy="2374920"/>
          </a:xfrm>
          <a:prstGeom prst="rect">
            <a:avLst/>
          </a:prstGeom>
          <a:gradFill rotWithShape="0">
            <a:gsLst>
              <a:gs pos="0">
                <a:srgbClr val="6f6f6f">
                  <a:alpha val="0"/>
                </a:srgbClr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gradFill rotWithShape="0">
            <a:gsLst>
              <a:gs pos="0">
                <a:srgbClr val="bc7d00">
                  <a:alpha val="90196"/>
                </a:srgbClr>
              </a:gs>
              <a:gs pos="100000">
                <a:srgbClr val="563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9000"/>
            <a:ext cx="8748720" cy="287280"/>
          </a:xfrm>
          <a:custGeom>
            <a:avLst/>
            <a:gdLst>
              <a:gd name="textAreaLeft" fmla="*/ 0 w 8748720"/>
              <a:gd name="textAreaRight" fmla="*/ 8749080 w 8748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12" y="0"/>
                </a:lnTo>
                <a:lnTo>
                  <a:pt x="21600" y="10800"/>
                </a:lnTo>
                <a:lnTo>
                  <a:pt x="2101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1979640" y="270792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549360"/>
            <a:ext cx="38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  <a:ea typeface="汉仪雁翎体简"/>
              </a:rPr>
              <a:t>The 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916360" y="5516280"/>
            <a:ext cx="5689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而我还在原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763280" y="4508280"/>
            <a:ext cx="64803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85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1989000"/>
            <a:ext cx="3887640" cy="576360"/>
          </a:xfrm>
          <a:prstGeom prst="flowChartTerminator">
            <a:avLst/>
          </a:prstGeom>
          <a:gradFill rotWithShape="0">
            <a:gsLst>
              <a:gs pos="0">
                <a:srgbClr val="ffffd9"/>
              </a:gs>
              <a:gs pos="100000">
                <a:srgbClr val="ff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3068640"/>
            <a:ext cx="3816360" cy="576360"/>
          </a:xfrm>
          <a:prstGeom prst="flowChartTerminator">
            <a:avLst/>
          </a:prstGeom>
          <a:gradFill rotWithShape="0">
            <a:gsLst>
              <a:gs pos="0">
                <a:srgbClr val="cc99ff"/>
              </a:gs>
              <a:gs pos="100000">
                <a:srgbClr val="ffffd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4076640"/>
            <a:ext cx="3816360" cy="577800"/>
          </a:xfrm>
          <a:prstGeom prst="flowChartTerminator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1916280"/>
            <a:ext cx="43200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華康墨字體"/>
                <a:ea typeface="華康墨字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2924280"/>
            <a:ext cx="43200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華康墨字體"/>
                <a:ea typeface="華康墨字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005360"/>
            <a:ext cx="43200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華康墨字體"/>
                <a:ea typeface="華康墨字體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63640" y="263664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華康娃娃體"/>
                <a:ea typeface="華康娃娃體"/>
              </a:rPr>
              <a:t>Thank  You!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06:03:36Z</dcterms:created>
  <dc:creator>daisy</dc:creator>
  <dc:description/>
  <dc:language>en-US</dc:language>
  <cp:lastModifiedBy>keke</cp:lastModifiedBy>
  <dcterms:modified xsi:type="dcterms:W3CDTF">2010-09-08T07:07:48Z</dcterms:modified>
  <cp:revision>4</cp:revision>
  <dc:subject/>
  <dc:title>春天就要远去</dc:title>
</cp:coreProperties>
</file>