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6F48-410B-45CD-B0C0-5B323BF26789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91DD-AE1D-4799-9B67-2B634BF12EF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34F4986-7C7B-45C7-9644-D47378291C3B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去除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板上的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无忧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整理发布的文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首先打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板，选择视图，然后选择幻灯片母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然后再在幻灯片母版视图中点击“无忧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整理发布”的文字文本框，删除，保存即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更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板资源，请访问</a:t>
            </a:r>
            <a:r>
              <a:rPr b="1" lang="zh-CN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无忧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PT</a:t>
            </a:r>
            <a:r>
              <a:rPr b="1" lang="zh-CN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网站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-http://www.51ppt.com.c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使用时删除本备注即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将此幻灯片插入到演示文稿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将此模板作为演示文稿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文件）保存到计算机上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打开将包含该图像幻灯片的演示文稿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在“幻灯片”选项卡上，将插入点置于将位于该图像幻灯片之前的幻灯片之后。（确保不要选择幻灯片。插入点应位于幻灯片之间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在“插入”菜单上，单击“幻灯片（从文件）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在“幻灯片搜索器”对话框中，单击“搜索演示文稿”选项卡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单击“浏览”，找到并选择包含该图像幻灯片的演示文稿，然后单击“打开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在“幻灯片（从文件）”对话框中，选择该图像幻灯片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选中“保留源格式”复选框。如果不选中此复选框，复制的幻灯片将继承在演示文稿中位于它之前的幻灯片的设计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单击“插入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单击“关闭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6B77-0860-4450-80EE-A4103DBA6DE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D83CB970-A05B-479B-AC55-D3F51B18305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矩形 5" descr=""/>
          <p:cNvPicPr/>
          <p:nvPr/>
        </p:nvPicPr>
        <p:blipFill>
          <a:blip r:embed="rId3"/>
          <a:stretch/>
        </p:blipFill>
        <p:spPr>
          <a:xfrm>
            <a:off x="6229440" y="5967360"/>
            <a:ext cx="2719440" cy="51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6" descr=""/>
          <p:cNvPicPr/>
          <p:nvPr/>
        </p:nvPicPr>
        <p:blipFill>
          <a:blip r:embed="rId3"/>
          <a:stretch/>
        </p:blipFill>
        <p:spPr>
          <a:xfrm>
            <a:off x="6229440" y="5967360"/>
            <a:ext cx="2719440" cy="51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4400" y="1309320"/>
            <a:ext cx="7118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74400" y="2472840"/>
            <a:ext cx="714204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Enter your subtitle or main author‘s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Microsoft China</cp:lastModifiedBy>
  <dcterms:modified xsi:type="dcterms:W3CDTF">2011-10-20T06:31:15Z</dcterms:modified>
  <cp:revision>69</cp:revision>
  <dc:subject/>
  <dc:title>PowerPoint Template</dc:title>
</cp:coreProperties>
</file>