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03280" y="1314000"/>
            <a:ext cx="77407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03280" y="3901680"/>
            <a:ext cx="77407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03280" y="1314000"/>
            <a:ext cx="37771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69760" y="1314000"/>
            <a:ext cx="37771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03280" y="3901680"/>
            <a:ext cx="37771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69760" y="3901680"/>
            <a:ext cx="37771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03280" y="1314000"/>
            <a:ext cx="24922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020480" y="1314000"/>
            <a:ext cx="24922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7680" y="1314000"/>
            <a:ext cx="24922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03280" y="3901680"/>
            <a:ext cx="24922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020480" y="3901680"/>
            <a:ext cx="24922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7680" y="3901680"/>
            <a:ext cx="24922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03280" y="1314000"/>
            <a:ext cx="77407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03280" y="1314000"/>
            <a:ext cx="7740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03280" y="1314000"/>
            <a:ext cx="3777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69760" y="1314000"/>
            <a:ext cx="3777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32000" y="98280"/>
            <a:ext cx="69292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03280" y="1314000"/>
            <a:ext cx="37771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369760" y="1314000"/>
            <a:ext cx="3777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403280" y="3901680"/>
            <a:ext cx="37771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03280" y="1314000"/>
            <a:ext cx="77407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03280" y="1314000"/>
            <a:ext cx="3777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69760" y="1314000"/>
            <a:ext cx="37771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69760" y="3901680"/>
            <a:ext cx="37771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03280" y="1314000"/>
            <a:ext cx="37771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69760" y="1314000"/>
            <a:ext cx="37771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03280" y="3901680"/>
            <a:ext cx="77407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03280" y="1314000"/>
            <a:ext cx="77407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403280" y="3901680"/>
            <a:ext cx="77407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03280" y="1314000"/>
            <a:ext cx="37771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369760" y="1314000"/>
            <a:ext cx="37771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403280" y="3901680"/>
            <a:ext cx="37771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69760" y="3901680"/>
            <a:ext cx="37771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03280" y="1314000"/>
            <a:ext cx="24922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020480" y="1314000"/>
            <a:ext cx="24922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637680" y="1314000"/>
            <a:ext cx="24922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403280" y="3901680"/>
            <a:ext cx="24922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020480" y="3901680"/>
            <a:ext cx="24922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637680" y="3901680"/>
            <a:ext cx="24922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03280" y="1314000"/>
            <a:ext cx="7740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03280" y="1314000"/>
            <a:ext cx="3777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69760" y="1314000"/>
            <a:ext cx="3777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32000" y="98280"/>
            <a:ext cx="69292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03280" y="1314000"/>
            <a:ext cx="37771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69760" y="1314000"/>
            <a:ext cx="3777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03280" y="3901680"/>
            <a:ext cx="37771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03280" y="1314000"/>
            <a:ext cx="3777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69760" y="1314000"/>
            <a:ext cx="37771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69760" y="3901680"/>
            <a:ext cx="37771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03280" y="1314000"/>
            <a:ext cx="37771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69760" y="1314000"/>
            <a:ext cx="37771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03280" y="3901680"/>
            <a:ext cx="77407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03280" y="1314000"/>
            <a:ext cx="7740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b5e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33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958080" y="6583320"/>
            <a:ext cx="218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  <a:ea typeface="HY견고딕"/>
              </a:rPr>
              <a:t>Your site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1197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 flipH="1" rot="16248600">
            <a:off x="4393080" y="-3526560"/>
            <a:ext cx="358560" cy="913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1568" y="275"/>
                  <a:pt x="1535" y="5080"/>
                  <a:pt x="1535" y="10800"/>
                </a:cubicBezTo>
                <a:cubicBezTo>
                  <a:pt x="1535" y="16520"/>
                  <a:pt x="11568" y="2132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8f8f8"/>
              </a:gs>
              <a:gs pos="100000">
                <a:srgbClr val="727272"/>
              </a:gs>
            </a:gsLst>
            <a:lin ang="4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233280"/>
            <a:ext cx="119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 Unicode"/>
                <a:ea typeface="굴림"/>
              </a:rPr>
              <a:t>LO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8352000" y="219240"/>
            <a:ext cx="630000" cy="46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 flipH="1" rot="2065800">
            <a:off x="2382120" y="-2427120"/>
            <a:ext cx="5116680" cy="10223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0894" y="34"/>
                  <a:pt x="188" y="5080"/>
                  <a:pt x="188" y="10800"/>
                </a:cubicBezTo>
                <a:cubicBezTo>
                  <a:pt x="188" y="16520"/>
                  <a:pt x="10894" y="2156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 rot="2065800">
            <a:off x="2642760" y="-2939760"/>
            <a:ext cx="5389560" cy="11033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0881" y="29"/>
                  <a:pt x="161" y="5080"/>
                  <a:pt x="161" y="10800"/>
                </a:cubicBezTo>
                <a:cubicBezTo>
                  <a:pt x="161" y="16520"/>
                  <a:pt x="10881" y="2157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 rot="2065800">
            <a:off x="2739240" y="-3408480"/>
            <a:ext cx="5837400" cy="11742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0897" y="35"/>
                  <a:pt x="193" y="5080"/>
                  <a:pt x="193" y="10800"/>
                </a:cubicBezTo>
                <a:cubicBezTo>
                  <a:pt x="193" y="16520"/>
                  <a:pt x="10897" y="2156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 rot="14940000">
            <a:off x="506880" y="-577800"/>
            <a:ext cx="1922400" cy="354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0894" y="34"/>
                  <a:pt x="188" y="5080"/>
                  <a:pt x="188" y="10800"/>
                </a:cubicBezTo>
                <a:cubicBezTo>
                  <a:pt x="188" y="16520"/>
                  <a:pt x="10894" y="2156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rot="14940000">
            <a:off x="540000" y="-500760"/>
            <a:ext cx="1927440" cy="354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0894" y="34"/>
                  <a:pt x="188" y="5080"/>
                  <a:pt x="188" y="10800"/>
                </a:cubicBezTo>
                <a:cubicBezTo>
                  <a:pt x="188" y="16520"/>
                  <a:pt x="10894" y="2156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rot="14940000">
            <a:off x="574560" y="-421560"/>
            <a:ext cx="1926720" cy="354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0894" y="34"/>
                  <a:pt x="188" y="5080"/>
                  <a:pt x="188" y="10800"/>
                </a:cubicBezTo>
                <a:cubicBezTo>
                  <a:pt x="188" y="16520"/>
                  <a:pt x="10894" y="2156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360" y="2758680"/>
            <a:ext cx="8153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97000" y="4508640"/>
            <a:ext cx="3825720" cy="1663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b5e6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3366ff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11280" y="3429000"/>
            <a:ext cx="6400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굴림"/>
              </a:rPr>
              <a:t>Your company sloga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굴림"/>
              </a:rPr>
              <a:t>Related Docum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03280" y="1314000"/>
            <a:ext cx="7740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5e6ff"/>
                </a:solidFill>
                <a:latin typeface="Verdana"/>
                <a:ea typeface="굴림"/>
              </a:rPr>
              <a:t>Competito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굴림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굴림"/>
              </a:rPr>
              <a:t>You may want to allocate one slide per competito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5e6ff"/>
                </a:solidFill>
                <a:latin typeface="Verdana"/>
                <a:ea typeface="굴림"/>
              </a:rPr>
              <a:t>Strengths</a:t>
            </a:r>
            <a:r>
              <a:rPr b="1" lang="en-US" sz="2400" spc="-1" strike="noStrike">
                <a:solidFill>
                  <a:srgbClr val="b5e6ff"/>
                </a:solidFill>
                <a:latin typeface="Verdana"/>
                <a:ea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굴림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굴림"/>
              </a:rPr>
              <a:t>Your strengths relative to competito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5e6ff"/>
                </a:solidFill>
                <a:latin typeface="Verdana"/>
                <a:ea typeface="굴림"/>
              </a:rPr>
              <a:t>Weakness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굴림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굴림"/>
              </a:rPr>
              <a:t>Your Weaknesses relative to competito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굴림"/>
              </a:rPr>
              <a:t>Table of Cont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2550960" y="1326600"/>
            <a:ext cx="498600" cy="1549440"/>
          </a:xfrm>
          <a:custGeom>
            <a:avLst/>
            <a:gdLst>
              <a:gd name="textAreaLeft" fmla="*/ 24120 w 498600"/>
              <a:gd name="textAreaRight" fmla="*/ 474480 w 498600"/>
              <a:gd name="textAreaTop" fmla="*/ 24120 h 1549440"/>
              <a:gd name="textAreaBottom" fmla="*/ 1525320 h 1549440"/>
            </a:gdLst>
            <a:ahLst/>
            <a:rect l="textAreaLeft" t="textAreaTop" r="textAreaRight" b="textAreaBottom"/>
            <a:pathLst>
              <a:path w="21600" h="67091">
                <a:moveTo>
                  <a:pt x="3600" y="0"/>
                </a:moveTo>
                <a:arcTo wR="3600" hR="3600" stAng="16200000" swAng="-5400000"/>
                <a:lnTo>
                  <a:pt x="0" y="63491"/>
                </a:lnTo>
                <a:arcTo wR="3600" hR="3600" stAng="10800000" swAng="-5400000"/>
                <a:lnTo>
                  <a:pt x="18000" y="670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6200000">
            <a:off x="4869000" y="-407520"/>
            <a:ext cx="582480" cy="5014800"/>
          </a:xfrm>
          <a:custGeom>
            <a:avLst/>
            <a:gdLst>
              <a:gd name="textAreaLeft" fmla="*/ 28440 w 582480"/>
              <a:gd name="textAreaRight" fmla="*/ 554040 w 582480"/>
              <a:gd name="textAreaTop" fmla="*/ 28440 h 5014800"/>
              <a:gd name="textAreaBottom" fmla="*/ 4986360 h 5014800"/>
            </a:gdLst>
            <a:ahLst/>
            <a:rect l="textAreaLeft" t="textAreaTop" r="textAreaRight" b="textAreaBottom"/>
            <a:pathLst>
              <a:path w="21600" h="185861">
                <a:moveTo>
                  <a:pt x="3600" y="0"/>
                </a:moveTo>
                <a:arcTo wR="3600" hR="3600" stAng="16200000" swAng="-5400000"/>
                <a:lnTo>
                  <a:pt x="0" y="182261"/>
                </a:lnTo>
                <a:arcTo wR="3600" hR="3600" stAng="10800000" swAng="-5400000"/>
                <a:lnTo>
                  <a:pt x="18000" y="1858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162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25720" y="1898640"/>
            <a:ext cx="564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Verdana"/>
                <a:ea typeface="굴림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굴림"/>
              </a:rPr>
              <a:t>1.      Introdu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6200000">
            <a:off x="2551320" y="2344680"/>
            <a:ext cx="498240" cy="1549440"/>
          </a:xfrm>
          <a:custGeom>
            <a:avLst/>
            <a:gdLst>
              <a:gd name="textAreaLeft" fmla="*/ 24120 w 498240"/>
              <a:gd name="textAreaRight" fmla="*/ 474120 w 498240"/>
              <a:gd name="textAreaTop" fmla="*/ 24120 h 1549440"/>
              <a:gd name="textAreaBottom" fmla="*/ 1525320 h 1549440"/>
            </a:gdLst>
            <a:ahLst/>
            <a:rect l="textAreaLeft" t="textAreaTop" r="textAreaRight" b="textAreaBottom"/>
            <a:pathLst>
              <a:path w="21600" h="67139">
                <a:moveTo>
                  <a:pt x="3600" y="0"/>
                </a:moveTo>
                <a:arcTo wR="3600" hR="3600" stAng="16200000" swAng="-5400000"/>
                <a:lnTo>
                  <a:pt x="0" y="63539"/>
                </a:lnTo>
                <a:arcTo wR="3600" hR="3600" stAng="10800000" swAng="-5400000"/>
                <a:lnTo>
                  <a:pt x="18000" y="671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16200000">
            <a:off x="4868640" y="609120"/>
            <a:ext cx="582840" cy="5014800"/>
          </a:xfrm>
          <a:custGeom>
            <a:avLst/>
            <a:gdLst>
              <a:gd name="textAreaLeft" fmla="*/ 28440 w 582840"/>
              <a:gd name="textAreaRight" fmla="*/ 554400 w 582840"/>
              <a:gd name="textAreaTop" fmla="*/ 28440 h 5014800"/>
              <a:gd name="textAreaBottom" fmla="*/ 4986360 h 5014800"/>
            </a:gdLst>
            <a:ahLst/>
            <a:rect l="textAreaLeft" t="textAreaTop" r="textAreaRight" b="textAreaBottom"/>
            <a:pathLst>
              <a:path w="21600" h="185747">
                <a:moveTo>
                  <a:pt x="3600" y="0"/>
                </a:moveTo>
                <a:arcTo wR="3600" hR="3600" stAng="16200000" swAng="-5400000"/>
                <a:lnTo>
                  <a:pt x="0" y="182147"/>
                </a:lnTo>
                <a:arcTo wR="3600" hR="3600" stAng="10800000" swAng="-5400000"/>
                <a:lnTo>
                  <a:pt x="18000" y="1857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162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025720" y="2917800"/>
            <a:ext cx="564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Verdana"/>
                <a:ea typeface="굴림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굴림"/>
              </a:rPr>
              <a:t>2.      Strate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2550960" y="3364920"/>
            <a:ext cx="498600" cy="1549440"/>
          </a:xfrm>
          <a:custGeom>
            <a:avLst/>
            <a:gdLst>
              <a:gd name="textAreaLeft" fmla="*/ 24120 w 498600"/>
              <a:gd name="textAreaRight" fmla="*/ 474480 w 498600"/>
              <a:gd name="textAreaTop" fmla="*/ 24120 h 1549440"/>
              <a:gd name="textAreaBottom" fmla="*/ 1525320 h 1549440"/>
            </a:gdLst>
            <a:ahLst/>
            <a:rect l="textAreaLeft" t="textAreaTop" r="textAreaRight" b="textAreaBottom"/>
            <a:pathLst>
              <a:path w="21600" h="67091">
                <a:moveTo>
                  <a:pt x="3600" y="0"/>
                </a:moveTo>
                <a:arcTo wR="3600" hR="3600" stAng="16200000" swAng="-5400000"/>
                <a:lnTo>
                  <a:pt x="0" y="63491"/>
                </a:lnTo>
                <a:arcTo wR="3600" hR="3600" stAng="10800000" swAng="-5400000"/>
                <a:lnTo>
                  <a:pt x="18000" y="670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6200000">
            <a:off x="4869000" y="1630440"/>
            <a:ext cx="582480" cy="5014800"/>
          </a:xfrm>
          <a:custGeom>
            <a:avLst/>
            <a:gdLst>
              <a:gd name="textAreaLeft" fmla="*/ 28440 w 582480"/>
              <a:gd name="textAreaRight" fmla="*/ 554040 w 582480"/>
              <a:gd name="textAreaTop" fmla="*/ 28440 h 5014800"/>
              <a:gd name="textAreaBottom" fmla="*/ 4986360 h 5014800"/>
            </a:gdLst>
            <a:ahLst/>
            <a:rect l="textAreaLeft" t="textAreaTop" r="textAreaRight" b="textAreaBottom"/>
            <a:pathLst>
              <a:path w="21600" h="185861">
                <a:moveTo>
                  <a:pt x="3600" y="0"/>
                </a:moveTo>
                <a:arcTo wR="3600" hR="3600" stAng="16200000" swAng="-5400000"/>
                <a:lnTo>
                  <a:pt x="0" y="182261"/>
                </a:lnTo>
                <a:arcTo wR="3600" hR="3600" stAng="10800000" swAng="-5400000"/>
                <a:lnTo>
                  <a:pt x="18000" y="1858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162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025720" y="3938760"/>
            <a:ext cx="564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Verdana"/>
                <a:ea typeface="굴림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굴림"/>
              </a:rPr>
              <a:t>3.      Challengers For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2551320" y="4386240"/>
            <a:ext cx="498240" cy="1549440"/>
          </a:xfrm>
          <a:custGeom>
            <a:avLst/>
            <a:gdLst>
              <a:gd name="textAreaLeft" fmla="*/ 24120 w 498240"/>
              <a:gd name="textAreaRight" fmla="*/ 474120 w 498240"/>
              <a:gd name="textAreaTop" fmla="*/ 24120 h 1549440"/>
              <a:gd name="textAreaBottom" fmla="*/ 1525320 h 1549440"/>
            </a:gdLst>
            <a:ahLst/>
            <a:rect l="textAreaLeft" t="textAreaTop" r="textAreaRight" b="textAreaBottom"/>
            <a:pathLst>
              <a:path w="21600" h="67139">
                <a:moveTo>
                  <a:pt x="3600" y="0"/>
                </a:moveTo>
                <a:arcTo wR="3600" hR="3600" stAng="16200000" swAng="-5400000"/>
                <a:lnTo>
                  <a:pt x="0" y="63539"/>
                </a:lnTo>
                <a:arcTo wR="3600" hR="3600" stAng="10800000" swAng="-5400000"/>
                <a:lnTo>
                  <a:pt x="18000" y="671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4868640" y="2650680"/>
            <a:ext cx="582840" cy="5014800"/>
          </a:xfrm>
          <a:custGeom>
            <a:avLst/>
            <a:gdLst>
              <a:gd name="textAreaLeft" fmla="*/ 28440 w 582840"/>
              <a:gd name="textAreaRight" fmla="*/ 554400 w 582840"/>
              <a:gd name="textAreaTop" fmla="*/ 28440 h 5014800"/>
              <a:gd name="textAreaBottom" fmla="*/ 4986360 h 5014800"/>
            </a:gdLst>
            <a:ahLst/>
            <a:rect l="textAreaLeft" t="textAreaTop" r="textAreaRight" b="textAreaBottom"/>
            <a:pathLst>
              <a:path w="21600" h="185747">
                <a:moveTo>
                  <a:pt x="3600" y="0"/>
                </a:moveTo>
                <a:arcTo wR="3600" hR="3600" stAng="16200000" swAng="-5400000"/>
                <a:lnTo>
                  <a:pt x="0" y="182147"/>
                </a:lnTo>
                <a:arcTo wR="3600" hR="3600" stAng="10800000" swAng="-5400000"/>
                <a:lnTo>
                  <a:pt x="18000" y="1857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162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025720" y="4959360"/>
            <a:ext cx="564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Verdana"/>
                <a:ea typeface="굴림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굴림"/>
              </a:rPr>
              <a:t>4.      Conclu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굴림"/>
              </a:rPr>
              <a:t>Related Docum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2882880" y="4017960"/>
            <a:ext cx="378000" cy="311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6033960" y="4017960"/>
            <a:ext cx="378000" cy="311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403280" y="1190520"/>
            <a:ext cx="2343240" cy="368280"/>
            <a:chOff x="1403280" y="1190520"/>
            <a:chExt cx="2343240" cy="368280"/>
          </a:xfrm>
        </p:grpSpPr>
        <p:sp>
          <p:nvSpPr>
            <p:cNvPr id="108" name=""/>
            <p:cNvSpPr/>
            <p:nvPr/>
          </p:nvSpPr>
          <p:spPr>
            <a:xfrm>
              <a:off x="1720800" y="1190520"/>
              <a:ext cx="202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굴림"/>
                </a:rPr>
                <a:t>Sub titl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1403280" y="1280880"/>
              <a:ext cx="272880" cy="205920"/>
              <a:chOff x="1403280" y="1280880"/>
              <a:chExt cx="272880" cy="205920"/>
            </a:xfrm>
          </p:grpSpPr>
          <p:sp>
            <p:nvSpPr>
              <p:cNvPr id="110" name=""/>
              <p:cNvSpPr/>
              <p:nvPr/>
            </p:nvSpPr>
            <p:spPr>
              <a:xfrm>
                <a:off x="1479240" y="1280880"/>
                <a:ext cx="119520" cy="79920"/>
              </a:xfrm>
              <a:prstGeom prst="flowChartDecision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403280" y="1342440"/>
                <a:ext cx="120960" cy="81360"/>
              </a:xfrm>
              <a:prstGeom prst="flowChartDecision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556640" y="1342440"/>
                <a:ext cx="119520" cy="81360"/>
              </a:xfrm>
              <a:prstGeom prst="flowChartDecision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479240" y="1406880"/>
                <a:ext cx="119520" cy="79920"/>
              </a:xfrm>
              <a:prstGeom prst="flowChartDecision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14" name=""/>
          <p:cNvGrpSpPr/>
          <p:nvPr/>
        </p:nvGrpSpPr>
        <p:grpSpPr>
          <a:xfrm>
            <a:off x="284040" y="1771560"/>
            <a:ext cx="2527560" cy="4610160"/>
            <a:chOff x="284040" y="1771560"/>
            <a:chExt cx="2527560" cy="4610160"/>
          </a:xfrm>
        </p:grpSpPr>
        <p:sp>
          <p:nvSpPr>
            <p:cNvPr id="115" name=""/>
            <p:cNvSpPr/>
            <p:nvPr/>
          </p:nvSpPr>
          <p:spPr>
            <a:xfrm>
              <a:off x="498600" y="1771560"/>
              <a:ext cx="2095200" cy="12956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24000" y="2255760"/>
              <a:ext cx="2447640" cy="3792600"/>
            </a:xfrm>
            <a:custGeom>
              <a:avLst/>
              <a:gdLst>
                <a:gd name="textAreaLeft" fmla="*/ 119160 w 2447640"/>
                <a:gd name="textAreaRight" fmla="*/ 2328480 w 2447640"/>
                <a:gd name="textAreaTop" fmla="*/ 119160 h 3792600"/>
                <a:gd name="textAreaBottom" fmla="*/ 3673440 h 3792600"/>
              </a:gdLst>
              <a:ahLst/>
              <a:rect l="textAreaLeft" t="textAreaTop" r="textAreaRight" b="textAreaBottom"/>
              <a:pathLst>
                <a:path w="21600" h="33467">
                  <a:moveTo>
                    <a:pt x="3600" y="0"/>
                  </a:moveTo>
                  <a:arcTo wR="3600" hR="3600" stAng="16200000" swAng="-5400000"/>
                  <a:lnTo>
                    <a:pt x="0" y="29867"/>
                  </a:lnTo>
                  <a:arcTo wR="3600" hR="3600" stAng="10800000" swAng="-5400000"/>
                  <a:lnTo>
                    <a:pt x="18000" y="334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174675"/>
                </a:gs>
                <a:gs pos="50000">
                  <a:srgbClr val="3399ff"/>
                </a:gs>
                <a:gs pos="100000">
                  <a:srgbClr val="174675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113480" y="1841400"/>
              <a:ext cx="66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  <a:ea typeface="굴림"/>
                </a:rPr>
                <a:t>text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284040" y="6165720"/>
              <a:ext cx="2527560" cy="21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" name=""/>
          <p:cNvGrpSpPr/>
          <p:nvPr/>
        </p:nvGrpSpPr>
        <p:grpSpPr>
          <a:xfrm>
            <a:off x="3308400" y="1771560"/>
            <a:ext cx="2527200" cy="4610160"/>
            <a:chOff x="3308400" y="1771560"/>
            <a:chExt cx="2527200" cy="4610160"/>
          </a:xfrm>
        </p:grpSpPr>
        <p:sp>
          <p:nvSpPr>
            <p:cNvPr id="120" name=""/>
            <p:cNvSpPr/>
            <p:nvPr/>
          </p:nvSpPr>
          <p:spPr>
            <a:xfrm>
              <a:off x="3522600" y="1771560"/>
              <a:ext cx="2095560" cy="12956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348000" y="2255760"/>
              <a:ext cx="2448000" cy="3792600"/>
            </a:xfrm>
            <a:custGeom>
              <a:avLst/>
              <a:gdLst>
                <a:gd name="textAreaLeft" fmla="*/ 119520 w 2448000"/>
                <a:gd name="textAreaRight" fmla="*/ 2328480 w 2448000"/>
                <a:gd name="textAreaTop" fmla="*/ 119520 h 3792600"/>
                <a:gd name="textAreaBottom" fmla="*/ 3673080 h 3792600"/>
              </a:gdLst>
              <a:ahLst/>
              <a:rect l="textAreaLeft" t="textAreaTop" r="textAreaRight" b="textAreaBottom"/>
              <a:pathLst>
                <a:path w="21600" h="33462">
                  <a:moveTo>
                    <a:pt x="3600" y="0"/>
                  </a:moveTo>
                  <a:arcTo wR="3600" hR="3600" stAng="16200000" swAng="-5400000"/>
                  <a:lnTo>
                    <a:pt x="0" y="29862"/>
                  </a:lnTo>
                  <a:arcTo wR="3600" hR="3600" stAng="10800000" swAng="-5400000"/>
                  <a:lnTo>
                    <a:pt x="18000" y="334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174675"/>
                </a:gs>
                <a:gs pos="50000">
                  <a:srgbClr val="3399ff"/>
                </a:gs>
                <a:gs pos="100000">
                  <a:srgbClr val="174675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37840" y="1841400"/>
              <a:ext cx="66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  <a:ea typeface="굴림"/>
                </a:rPr>
                <a:t>text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3308400" y="6165720"/>
              <a:ext cx="2527200" cy="21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4" name=""/>
          <p:cNvGrpSpPr/>
          <p:nvPr/>
        </p:nvGrpSpPr>
        <p:grpSpPr>
          <a:xfrm>
            <a:off x="6483240" y="1771560"/>
            <a:ext cx="2552760" cy="4610160"/>
            <a:chOff x="6483240" y="1771560"/>
            <a:chExt cx="2552760" cy="4610160"/>
          </a:xfrm>
        </p:grpSpPr>
        <p:sp>
          <p:nvSpPr>
            <p:cNvPr id="125" name=""/>
            <p:cNvSpPr/>
            <p:nvPr/>
          </p:nvSpPr>
          <p:spPr>
            <a:xfrm>
              <a:off x="6657840" y="1771560"/>
              <a:ext cx="2095560" cy="12956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483240" y="2255760"/>
              <a:ext cx="2448000" cy="3792600"/>
            </a:xfrm>
            <a:custGeom>
              <a:avLst/>
              <a:gdLst>
                <a:gd name="textAreaLeft" fmla="*/ 119520 w 2448000"/>
                <a:gd name="textAreaRight" fmla="*/ 2328480 w 2448000"/>
                <a:gd name="textAreaTop" fmla="*/ 119520 h 3792600"/>
                <a:gd name="textAreaBottom" fmla="*/ 3673080 h 3792600"/>
              </a:gdLst>
              <a:ahLst/>
              <a:rect l="textAreaLeft" t="textAreaTop" r="textAreaRight" b="textAreaBottom"/>
              <a:pathLst>
                <a:path w="21600" h="33462">
                  <a:moveTo>
                    <a:pt x="3600" y="0"/>
                  </a:moveTo>
                  <a:arcTo wR="3600" hR="3600" stAng="16200000" swAng="-5400000"/>
                  <a:lnTo>
                    <a:pt x="0" y="29862"/>
                  </a:lnTo>
                  <a:arcTo wR="3600" hR="3600" stAng="10800000" swAng="-5400000"/>
                  <a:lnTo>
                    <a:pt x="18000" y="334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174675"/>
                </a:gs>
                <a:gs pos="50000">
                  <a:srgbClr val="3399ff"/>
                </a:gs>
                <a:gs pos="100000">
                  <a:srgbClr val="174675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273080" y="1841400"/>
              <a:ext cx="66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  <a:ea typeface="굴림"/>
                </a:rPr>
                <a:t>text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8" name="" descr=""/>
            <p:cNvPicPr/>
            <p:nvPr/>
          </p:nvPicPr>
          <p:blipFill>
            <a:blip r:embed="rId3"/>
            <a:stretch/>
          </p:blipFill>
          <p:spPr>
            <a:xfrm>
              <a:off x="6508800" y="6165720"/>
              <a:ext cx="2527200" cy="216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굴림"/>
              </a:rPr>
              <a:t>Related Docum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403280" y="1190520"/>
            <a:ext cx="2343240" cy="368280"/>
            <a:chOff x="1403280" y="1190520"/>
            <a:chExt cx="2343240" cy="368280"/>
          </a:xfrm>
        </p:grpSpPr>
        <p:sp>
          <p:nvSpPr>
            <p:cNvPr id="131" name=""/>
            <p:cNvSpPr/>
            <p:nvPr/>
          </p:nvSpPr>
          <p:spPr>
            <a:xfrm>
              <a:off x="1720800" y="1190520"/>
              <a:ext cx="202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굴림"/>
                </a:rPr>
                <a:t>Sub titl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1403280" y="1280880"/>
              <a:ext cx="272880" cy="205920"/>
              <a:chOff x="1403280" y="1280880"/>
              <a:chExt cx="272880" cy="205920"/>
            </a:xfrm>
          </p:grpSpPr>
          <p:sp>
            <p:nvSpPr>
              <p:cNvPr id="133" name=""/>
              <p:cNvSpPr/>
              <p:nvPr/>
            </p:nvSpPr>
            <p:spPr>
              <a:xfrm>
                <a:off x="1479240" y="1280880"/>
                <a:ext cx="119520" cy="79920"/>
              </a:xfrm>
              <a:prstGeom prst="flowChartDecision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403280" y="1342440"/>
                <a:ext cx="120960" cy="81360"/>
              </a:xfrm>
              <a:prstGeom prst="flowChartDecision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556640" y="1342440"/>
                <a:ext cx="119520" cy="81360"/>
              </a:xfrm>
              <a:prstGeom prst="flowChartDecision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479240" y="1406880"/>
                <a:ext cx="119520" cy="79920"/>
              </a:xfrm>
              <a:prstGeom prst="flowChartDecision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37" name=""/>
          <p:cNvGrpSpPr/>
          <p:nvPr/>
        </p:nvGrpSpPr>
        <p:grpSpPr>
          <a:xfrm>
            <a:off x="1810800" y="2104560"/>
            <a:ext cx="6289920" cy="4060800"/>
            <a:chOff x="1810800" y="2104560"/>
            <a:chExt cx="6289920" cy="4060800"/>
          </a:xfrm>
        </p:grpSpPr>
        <p:sp>
          <p:nvSpPr>
            <p:cNvPr id="138" name=""/>
            <p:cNvSpPr/>
            <p:nvPr/>
          </p:nvSpPr>
          <p:spPr>
            <a:xfrm flipH="1" flipV="1" rot="16200000">
              <a:off x="2346480" y="3580560"/>
              <a:ext cx="2048400" cy="3120840"/>
            </a:xfrm>
            <a:prstGeom prst="flowChartPunchedCard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 rot="5400000">
              <a:off x="5492160" y="3556800"/>
              <a:ext cx="2048400" cy="3168720"/>
            </a:xfrm>
            <a:prstGeom prst="flowChartPunchedCard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rot="5400000">
              <a:off x="2366640" y="1548000"/>
              <a:ext cx="2008440" cy="3120840"/>
            </a:xfrm>
            <a:prstGeom prst="flowChartPunchedCard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6200000">
              <a:off x="5516280" y="1532160"/>
              <a:ext cx="2000160" cy="3168720"/>
            </a:xfrm>
            <a:prstGeom prst="flowChartPunchedCard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42" name="" descr=""/>
            <p:cNvPicPr/>
            <p:nvPr/>
          </p:nvPicPr>
          <p:blipFill>
            <a:blip r:embed="rId5"/>
            <a:stretch/>
          </p:blipFill>
          <p:spPr>
            <a:xfrm flipH="1">
              <a:off x="3760920" y="2940120"/>
              <a:ext cx="1170720" cy="12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6"/>
            <a:stretch/>
          </p:blipFill>
          <p:spPr>
            <a:xfrm rot="10800000">
              <a:off x="3760920" y="4102560"/>
              <a:ext cx="1170720" cy="113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7"/>
            <a:stretch/>
          </p:blipFill>
          <p:spPr>
            <a:xfrm flipH="1" rot="10800000">
              <a:off x="4932000" y="4102560"/>
              <a:ext cx="1168920" cy="113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8"/>
            <a:stretch/>
          </p:blipFill>
          <p:spPr>
            <a:xfrm>
              <a:off x="4932000" y="2940120"/>
              <a:ext cx="1168920" cy="12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9"/>
            <a:stretch/>
          </p:blipFill>
          <p:spPr>
            <a:xfrm>
              <a:off x="4152600" y="3315600"/>
              <a:ext cx="1558440" cy="156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2686680" y="2724120"/>
              <a:ext cx="66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  <a:ea typeface="굴림"/>
                </a:rPr>
                <a:t>text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420240" y="2724120"/>
              <a:ext cx="66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  <a:ea typeface="굴림"/>
                </a:rPr>
                <a:t>text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420240" y="5102280"/>
              <a:ext cx="66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  <a:ea typeface="굴림"/>
                </a:rPr>
                <a:t>text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686680" y="5102280"/>
              <a:ext cx="66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  <a:ea typeface="굴림"/>
                </a:rPr>
                <a:t>text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굴림"/>
              </a:rPr>
              <a:t>Related Docum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8920" y="5805360"/>
            <a:ext cx="8424720" cy="503280"/>
          </a:xfrm>
          <a:custGeom>
            <a:avLst/>
            <a:gdLst>
              <a:gd name="textAreaLeft" fmla="*/ 1316160 w 8424720"/>
              <a:gd name="textAreaRight" fmla="*/ 8102520 w 8424720"/>
              <a:gd name="textAreaTop" fmla="*/ 112680 h 503280"/>
              <a:gd name="textAreaBottom" fmla="*/ 390600 h 503280"/>
            </a:gdLst>
            <a:ahLst/>
            <a:rect l="textAreaLeft" t="textAreaTop" r="textAreaRight" b="textAreaBottom"/>
            <a:pathLst>
              <a:path w="21600" h="21600">
                <a:moveTo>
                  <a:pt x="3375" y="4838"/>
                </a:moveTo>
                <a:lnTo>
                  <a:pt x="20102" y="4838"/>
                </a:lnTo>
                <a:lnTo>
                  <a:pt x="20102" y="0"/>
                </a:lnTo>
                <a:lnTo>
                  <a:pt x="21600" y="10800"/>
                </a:lnTo>
                <a:lnTo>
                  <a:pt x="20102" y="21600"/>
                </a:lnTo>
                <a:lnTo>
                  <a:pt x="20102" y="16762"/>
                </a:lnTo>
                <a:lnTo>
                  <a:pt x="3375" y="16762"/>
                </a:lnTo>
                <a:close/>
              </a:path>
              <a:path w="21600" h="21600">
                <a:moveTo>
                  <a:pt x="0" y="4838"/>
                </a:moveTo>
                <a:lnTo>
                  <a:pt x="675" y="4838"/>
                </a:lnTo>
                <a:lnTo>
                  <a:pt x="675" y="16762"/>
                </a:lnTo>
                <a:lnTo>
                  <a:pt x="0" y="16762"/>
                </a:lnTo>
                <a:close/>
              </a:path>
              <a:path w="21600" h="21600">
                <a:moveTo>
                  <a:pt x="1350" y="4838"/>
                </a:moveTo>
                <a:lnTo>
                  <a:pt x="2700" y="4838"/>
                </a:lnTo>
                <a:lnTo>
                  <a:pt x="2700" y="16762"/>
                </a:lnTo>
                <a:lnTo>
                  <a:pt x="1350" y="16762"/>
                </a:lnTo>
                <a:close/>
              </a:path>
            </a:pathLst>
          </a:custGeom>
          <a:solidFill>
            <a:srgbClr val="b5e6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403280" y="1190520"/>
            <a:ext cx="2343240" cy="368280"/>
            <a:chOff x="1403280" y="1190520"/>
            <a:chExt cx="2343240" cy="368280"/>
          </a:xfrm>
        </p:grpSpPr>
        <p:sp>
          <p:nvSpPr>
            <p:cNvPr id="154" name=""/>
            <p:cNvSpPr/>
            <p:nvPr/>
          </p:nvSpPr>
          <p:spPr>
            <a:xfrm>
              <a:off x="1720800" y="1190520"/>
              <a:ext cx="202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굴림"/>
                </a:rPr>
                <a:t>Sub titl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1403280" y="1280880"/>
              <a:ext cx="272880" cy="205920"/>
              <a:chOff x="1403280" y="1280880"/>
              <a:chExt cx="272880" cy="205920"/>
            </a:xfrm>
          </p:grpSpPr>
          <p:sp>
            <p:nvSpPr>
              <p:cNvPr id="156" name=""/>
              <p:cNvSpPr/>
              <p:nvPr/>
            </p:nvSpPr>
            <p:spPr>
              <a:xfrm>
                <a:off x="1479240" y="1280880"/>
                <a:ext cx="119520" cy="79920"/>
              </a:xfrm>
              <a:prstGeom prst="flowChartDecision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403280" y="1342440"/>
                <a:ext cx="120960" cy="81360"/>
              </a:xfrm>
              <a:prstGeom prst="flowChartDecision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556640" y="1342440"/>
                <a:ext cx="119520" cy="81360"/>
              </a:xfrm>
              <a:prstGeom prst="flowChartDecision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479240" y="1406880"/>
                <a:ext cx="119520" cy="79920"/>
              </a:xfrm>
              <a:prstGeom prst="flowChartDecision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cxnSp>
        <p:nvCxnSpPr>
          <p:cNvPr id="160" name=""/>
          <p:cNvCxnSpPr>
            <a:stCxn id="161" idx="3"/>
            <a:endCxn id="162" idx="1"/>
          </p:cNvCxnSpPr>
          <p:nvPr/>
        </p:nvCxnSpPr>
        <p:spPr>
          <a:xfrm flipV="1">
            <a:off x="1810800" y="3859920"/>
            <a:ext cx="320040" cy="505800"/>
          </a:xfrm>
          <a:prstGeom prst="bentConnector3">
            <a:avLst>
              <a:gd name="adj1" fmla="val 49662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3" name=""/>
          <p:cNvCxnSpPr>
            <a:stCxn id="164" idx="3"/>
            <a:endCxn id="165" idx="1"/>
          </p:cNvCxnSpPr>
          <p:nvPr/>
        </p:nvCxnSpPr>
        <p:spPr>
          <a:xfrm flipV="1">
            <a:off x="5284800" y="2925360"/>
            <a:ext cx="340200" cy="50400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62" idx="3"/>
            <a:endCxn id="164" idx="1"/>
          </p:cNvCxnSpPr>
          <p:nvPr/>
        </p:nvCxnSpPr>
        <p:spPr>
          <a:xfrm flipV="1">
            <a:off x="3557520" y="3428280"/>
            <a:ext cx="300600" cy="432360"/>
          </a:xfrm>
          <a:prstGeom prst="bentConnector3">
            <a:avLst>
              <a:gd name="adj1" fmla="val 4976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65" idx="3"/>
            <a:endCxn id="168" idx="1"/>
          </p:cNvCxnSpPr>
          <p:nvPr/>
        </p:nvCxnSpPr>
        <p:spPr>
          <a:xfrm flipV="1">
            <a:off x="7050240" y="2493360"/>
            <a:ext cx="321120" cy="432360"/>
          </a:xfrm>
          <a:prstGeom prst="bentConnector3">
            <a:avLst>
              <a:gd name="adj1" fmla="val 4994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169" name=""/>
          <p:cNvGrpSpPr/>
          <p:nvPr/>
        </p:nvGrpSpPr>
        <p:grpSpPr>
          <a:xfrm>
            <a:off x="7236000" y="1557360"/>
            <a:ext cx="1676160" cy="2302920"/>
            <a:chOff x="7236000" y="1557360"/>
            <a:chExt cx="1676160" cy="2302920"/>
          </a:xfrm>
        </p:grpSpPr>
        <p:sp>
          <p:nvSpPr>
            <p:cNvPr id="168" name=""/>
            <p:cNvSpPr/>
            <p:nvPr/>
          </p:nvSpPr>
          <p:spPr>
            <a:xfrm>
              <a:off x="7380360" y="1557360"/>
              <a:ext cx="1406520" cy="1873080"/>
            </a:xfrm>
            <a:custGeom>
              <a:avLst/>
              <a:gdLst>
                <a:gd name="textAreaLeft" fmla="*/ 68400 w 1406520"/>
                <a:gd name="textAreaRight" fmla="*/ 1338120 w 1406520"/>
                <a:gd name="textAreaTop" fmla="*/ 68400 h 1873080"/>
                <a:gd name="textAreaBottom" fmla="*/ 1804680 h 1873080"/>
              </a:gdLst>
              <a:ahLst/>
              <a:rect l="textAreaLeft" t="textAreaTop" r="textAreaRight" b="textAreaBottom"/>
              <a:pathLst>
                <a:path w="21600" h="28763">
                  <a:moveTo>
                    <a:pt x="3600" y="0"/>
                  </a:moveTo>
                  <a:arcTo wR="3600" hR="3600" stAng="16200000" swAng="-5400000"/>
                  <a:lnTo>
                    <a:pt x="0" y="25163"/>
                  </a:lnTo>
                  <a:arcTo wR="3600" hR="3600" stAng="10800000" swAng="-5400000"/>
                  <a:lnTo>
                    <a:pt x="18000" y="287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174675"/>
                </a:gs>
                <a:gs pos="50000">
                  <a:srgbClr val="3399ff"/>
                </a:gs>
                <a:gs pos="100000">
                  <a:srgbClr val="174675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  <a:ea typeface="MS PGothic"/>
                </a:rPr>
                <a:t>text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70" name="" descr=""/>
            <p:cNvPicPr/>
            <p:nvPr/>
          </p:nvPicPr>
          <p:blipFill>
            <a:blip r:embed="rId1"/>
            <a:stretch/>
          </p:blipFill>
          <p:spPr>
            <a:xfrm>
              <a:off x="7236000" y="3644640"/>
              <a:ext cx="1676160" cy="21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1" name=""/>
          <p:cNvGrpSpPr/>
          <p:nvPr/>
        </p:nvGrpSpPr>
        <p:grpSpPr>
          <a:xfrm>
            <a:off x="5508720" y="1989000"/>
            <a:ext cx="1676160" cy="2303640"/>
            <a:chOff x="5508720" y="1989000"/>
            <a:chExt cx="1676160" cy="2303640"/>
          </a:xfrm>
        </p:grpSpPr>
        <p:sp>
          <p:nvSpPr>
            <p:cNvPr id="165" name=""/>
            <p:cNvSpPr/>
            <p:nvPr/>
          </p:nvSpPr>
          <p:spPr>
            <a:xfrm>
              <a:off x="5634000" y="1989000"/>
              <a:ext cx="1406520" cy="1873440"/>
            </a:xfrm>
            <a:custGeom>
              <a:avLst/>
              <a:gdLst>
                <a:gd name="textAreaLeft" fmla="*/ 68400 w 1406520"/>
                <a:gd name="textAreaRight" fmla="*/ 1338120 w 1406520"/>
                <a:gd name="textAreaTop" fmla="*/ 68400 h 1873440"/>
                <a:gd name="textAreaBottom" fmla="*/ 1805040 h 1873440"/>
              </a:gdLst>
              <a:ahLst/>
              <a:rect l="textAreaLeft" t="textAreaTop" r="textAreaRight" b="textAreaBottom"/>
              <a:pathLst>
                <a:path w="21600" h="28769">
                  <a:moveTo>
                    <a:pt x="3600" y="0"/>
                  </a:moveTo>
                  <a:arcTo wR="3600" hR="3600" stAng="16200000" swAng="-5400000"/>
                  <a:lnTo>
                    <a:pt x="0" y="25169"/>
                  </a:lnTo>
                  <a:arcTo wR="3600" hR="3600" stAng="10800000" swAng="-5400000"/>
                  <a:lnTo>
                    <a:pt x="18000" y="2876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174675"/>
                </a:gs>
                <a:gs pos="50000">
                  <a:srgbClr val="3399ff"/>
                </a:gs>
                <a:gs pos="100000">
                  <a:srgbClr val="174675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  <a:ea typeface="MS PGothic"/>
                </a:rPr>
                <a:t>text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5508720" y="4076640"/>
              <a:ext cx="1676160" cy="21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3" name=""/>
          <p:cNvGrpSpPr/>
          <p:nvPr/>
        </p:nvGrpSpPr>
        <p:grpSpPr>
          <a:xfrm>
            <a:off x="3733920" y="2490840"/>
            <a:ext cx="1676160" cy="2305080"/>
            <a:chOff x="3733920" y="2490840"/>
            <a:chExt cx="1676160" cy="2305080"/>
          </a:xfrm>
        </p:grpSpPr>
        <p:sp>
          <p:nvSpPr>
            <p:cNvPr id="164" name=""/>
            <p:cNvSpPr/>
            <p:nvPr/>
          </p:nvSpPr>
          <p:spPr>
            <a:xfrm>
              <a:off x="3867120" y="2490840"/>
              <a:ext cx="1408320" cy="1876320"/>
            </a:xfrm>
            <a:custGeom>
              <a:avLst/>
              <a:gdLst>
                <a:gd name="textAreaLeft" fmla="*/ 68760 w 1408320"/>
                <a:gd name="textAreaRight" fmla="*/ 1339560 w 1408320"/>
                <a:gd name="textAreaTop" fmla="*/ 68760 h 1876320"/>
                <a:gd name="textAreaBottom" fmla="*/ 1807560 h 187632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174675"/>
                </a:gs>
                <a:gs pos="50000">
                  <a:srgbClr val="3399ff"/>
                </a:gs>
                <a:gs pos="100000">
                  <a:srgbClr val="174675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  <a:ea typeface="MS PGothic"/>
                </a:rPr>
                <a:t>text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74" name="" descr=""/>
            <p:cNvPicPr/>
            <p:nvPr/>
          </p:nvPicPr>
          <p:blipFill>
            <a:blip r:embed="rId3"/>
            <a:stretch/>
          </p:blipFill>
          <p:spPr>
            <a:xfrm>
              <a:off x="3733920" y="4579920"/>
              <a:ext cx="1676160" cy="21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5" name=""/>
          <p:cNvGrpSpPr/>
          <p:nvPr/>
        </p:nvGrpSpPr>
        <p:grpSpPr>
          <a:xfrm>
            <a:off x="1960560" y="2924280"/>
            <a:ext cx="1676520" cy="2302920"/>
            <a:chOff x="1960560" y="2924280"/>
            <a:chExt cx="1676520" cy="2302920"/>
          </a:xfrm>
        </p:grpSpPr>
        <p:sp>
          <p:nvSpPr>
            <p:cNvPr id="162" name=""/>
            <p:cNvSpPr/>
            <p:nvPr/>
          </p:nvSpPr>
          <p:spPr>
            <a:xfrm>
              <a:off x="2139840" y="2924280"/>
              <a:ext cx="1408320" cy="1873080"/>
            </a:xfrm>
            <a:custGeom>
              <a:avLst/>
              <a:gdLst>
                <a:gd name="textAreaLeft" fmla="*/ 68760 w 1408320"/>
                <a:gd name="textAreaRight" fmla="*/ 1339560 w 1408320"/>
                <a:gd name="textAreaTop" fmla="*/ 68760 h 1873080"/>
                <a:gd name="textAreaBottom" fmla="*/ 1804320 h 1873080"/>
              </a:gdLst>
              <a:ahLst/>
              <a:rect l="textAreaLeft" t="textAreaTop" r="textAreaRight" b="textAreaBottom"/>
              <a:pathLst>
                <a:path w="21600" h="28726">
                  <a:moveTo>
                    <a:pt x="3600" y="0"/>
                  </a:moveTo>
                  <a:arcTo wR="3600" hR="3600" stAng="16200000" swAng="-5400000"/>
                  <a:lnTo>
                    <a:pt x="0" y="25126"/>
                  </a:lnTo>
                  <a:arcTo wR="3600" hR="3600" stAng="10800000" swAng="-5400000"/>
                  <a:lnTo>
                    <a:pt x="18000" y="287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174675"/>
                </a:gs>
                <a:gs pos="50000">
                  <a:srgbClr val="3399ff"/>
                </a:gs>
                <a:gs pos="100000">
                  <a:srgbClr val="174675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  <a:ea typeface="MS PGothic"/>
                </a:rPr>
                <a:t>text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76" name="" descr=""/>
            <p:cNvPicPr/>
            <p:nvPr/>
          </p:nvPicPr>
          <p:blipFill>
            <a:blip r:embed="rId4"/>
            <a:stretch/>
          </p:blipFill>
          <p:spPr>
            <a:xfrm>
              <a:off x="1960560" y="5011560"/>
              <a:ext cx="1676520" cy="21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7" name=""/>
          <p:cNvGrpSpPr/>
          <p:nvPr/>
        </p:nvGrpSpPr>
        <p:grpSpPr>
          <a:xfrm>
            <a:off x="250920" y="3433680"/>
            <a:ext cx="1676160" cy="2300400"/>
            <a:chOff x="250920" y="3433680"/>
            <a:chExt cx="1676160" cy="2300400"/>
          </a:xfrm>
        </p:grpSpPr>
        <p:sp>
          <p:nvSpPr>
            <p:cNvPr id="161" name=""/>
            <p:cNvSpPr/>
            <p:nvPr/>
          </p:nvSpPr>
          <p:spPr>
            <a:xfrm>
              <a:off x="395280" y="3433680"/>
              <a:ext cx="1406520" cy="1862280"/>
            </a:xfrm>
            <a:custGeom>
              <a:avLst/>
              <a:gdLst>
                <a:gd name="textAreaLeft" fmla="*/ 68400 w 1406520"/>
                <a:gd name="textAreaRight" fmla="*/ 1338120 w 1406520"/>
                <a:gd name="textAreaTop" fmla="*/ 68400 h 1862280"/>
                <a:gd name="textAreaBottom" fmla="*/ 1793880 h 1862280"/>
              </a:gdLst>
              <a:ahLst/>
              <a:rect l="textAreaLeft" t="textAreaTop" r="textAreaRight" b="textAreaBottom"/>
              <a:pathLst>
                <a:path w="21600" h="28597">
                  <a:moveTo>
                    <a:pt x="3600" y="0"/>
                  </a:moveTo>
                  <a:arcTo wR="3600" hR="3600" stAng="16200000" swAng="-5400000"/>
                  <a:lnTo>
                    <a:pt x="0" y="24997"/>
                  </a:lnTo>
                  <a:arcTo wR="3600" hR="3600" stAng="10800000" swAng="-5400000"/>
                  <a:lnTo>
                    <a:pt x="18000" y="285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174675"/>
                </a:gs>
                <a:gs pos="50000">
                  <a:srgbClr val="3399ff"/>
                </a:gs>
                <a:gs pos="100000">
                  <a:srgbClr val="174675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  <a:ea typeface="굴림"/>
                </a:rPr>
                <a:t>text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78" name="" descr=""/>
            <p:cNvPicPr/>
            <p:nvPr/>
          </p:nvPicPr>
          <p:blipFill>
            <a:blip r:embed="rId5"/>
            <a:stretch/>
          </p:blipFill>
          <p:spPr>
            <a:xfrm>
              <a:off x="250920" y="5523120"/>
              <a:ext cx="1676160" cy="210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굴림"/>
              </a:rPr>
              <a:t>Related Docum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403280" y="1190520"/>
            <a:ext cx="2343240" cy="368280"/>
            <a:chOff x="1403280" y="1190520"/>
            <a:chExt cx="2343240" cy="368280"/>
          </a:xfrm>
        </p:grpSpPr>
        <p:sp>
          <p:nvSpPr>
            <p:cNvPr id="181" name=""/>
            <p:cNvSpPr/>
            <p:nvPr/>
          </p:nvSpPr>
          <p:spPr>
            <a:xfrm>
              <a:off x="1720800" y="1190520"/>
              <a:ext cx="202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굴림"/>
                </a:rPr>
                <a:t>Sub titl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1403280" y="1280880"/>
              <a:ext cx="272880" cy="205920"/>
              <a:chOff x="1403280" y="1280880"/>
              <a:chExt cx="272880" cy="205920"/>
            </a:xfrm>
          </p:grpSpPr>
          <p:sp>
            <p:nvSpPr>
              <p:cNvPr id="183" name=""/>
              <p:cNvSpPr/>
              <p:nvPr/>
            </p:nvSpPr>
            <p:spPr>
              <a:xfrm>
                <a:off x="1479240" y="1280880"/>
                <a:ext cx="119520" cy="79920"/>
              </a:xfrm>
              <a:prstGeom prst="flowChartDecision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403280" y="1342440"/>
                <a:ext cx="120960" cy="81360"/>
              </a:xfrm>
              <a:prstGeom prst="flowChartDecision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556640" y="1342440"/>
                <a:ext cx="119520" cy="81360"/>
              </a:xfrm>
              <a:prstGeom prst="flowChartDecision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479240" y="1406880"/>
                <a:ext cx="119520" cy="79920"/>
              </a:xfrm>
              <a:prstGeom prst="flowChartDecision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7" name=""/>
          <p:cNvSpPr/>
          <p:nvPr/>
        </p:nvSpPr>
        <p:spPr>
          <a:xfrm>
            <a:off x="250920" y="1957320"/>
            <a:ext cx="2450880" cy="111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굴림"/>
              </a:rPr>
              <a:t>text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9" idx="1"/>
            <a:endCxn id="190" idx="3"/>
          </p:cNvCxnSpPr>
          <p:nvPr/>
        </p:nvCxnSpPr>
        <p:spPr>
          <a:xfrm flipV="1" rot="10800000">
            <a:off x="2710800" y="3973320"/>
            <a:ext cx="614880" cy="1419840"/>
          </a:xfrm>
          <a:prstGeom prst="bentConnector3">
            <a:avLst>
              <a:gd name="adj1" fmla="val 4985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1" name=""/>
          <p:cNvCxnSpPr>
            <a:stCxn id="189" idx="1"/>
            <a:endCxn id="187" idx="3"/>
          </p:cNvCxnSpPr>
          <p:nvPr/>
        </p:nvCxnSpPr>
        <p:spPr>
          <a:xfrm rot="10800000">
            <a:off x="2710800" y="2512440"/>
            <a:ext cx="614880" cy="1461240"/>
          </a:xfrm>
          <a:prstGeom prst="bentConnector3">
            <a:avLst>
              <a:gd name="adj1" fmla="val 4985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2" name=""/>
          <p:cNvCxnSpPr>
            <a:stCxn id="189" idx="3"/>
            <a:endCxn id="193" idx="1"/>
          </p:cNvCxnSpPr>
          <p:nvPr/>
        </p:nvCxnSpPr>
        <p:spPr>
          <a:xfrm flipV="1">
            <a:off x="5816160" y="2583720"/>
            <a:ext cx="546480" cy="1389960"/>
          </a:xfrm>
          <a:prstGeom prst="bentConnector3">
            <a:avLst>
              <a:gd name="adj1" fmla="val 49967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"/>
          <p:cNvCxnSpPr>
            <a:stCxn id="189" idx="3"/>
            <a:endCxn id="195" idx="1"/>
          </p:cNvCxnSpPr>
          <p:nvPr/>
        </p:nvCxnSpPr>
        <p:spPr>
          <a:xfrm>
            <a:off x="5816160" y="3973320"/>
            <a:ext cx="546480" cy="1492920"/>
          </a:xfrm>
          <a:prstGeom prst="bentConnector3">
            <a:avLst>
              <a:gd name="adj1" fmla="val 49967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6" name=""/>
          <p:cNvCxnSpPr>
            <a:stCxn id="189" idx="1"/>
            <a:endCxn id="197" idx="3"/>
          </p:cNvCxnSpPr>
          <p:nvPr/>
        </p:nvCxnSpPr>
        <p:spPr>
          <a:xfrm flipH="1">
            <a:off x="2711160" y="3973320"/>
            <a:ext cx="6148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8" name=""/>
          <p:cNvCxnSpPr>
            <a:stCxn id="189" idx="3"/>
            <a:endCxn id="199" idx="1"/>
          </p:cNvCxnSpPr>
          <p:nvPr/>
        </p:nvCxnSpPr>
        <p:spPr>
          <a:xfrm>
            <a:off x="5816160" y="3973320"/>
            <a:ext cx="5464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7" name=""/>
          <p:cNvSpPr/>
          <p:nvPr/>
        </p:nvSpPr>
        <p:spPr>
          <a:xfrm>
            <a:off x="250920" y="3417840"/>
            <a:ext cx="2450880" cy="111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굴림"/>
              </a:rPr>
              <a:t>text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0920" y="4836960"/>
            <a:ext cx="2450880" cy="111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굴림"/>
              </a:rPr>
              <a:t>text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72360" y="2028960"/>
            <a:ext cx="2450880" cy="1110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굴림"/>
              </a:rPr>
              <a:t>text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372360" y="3417840"/>
            <a:ext cx="2450880" cy="111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굴림"/>
              </a:rPr>
              <a:t>text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372360" y="4910040"/>
            <a:ext cx="2450880" cy="111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굴림"/>
              </a:rPr>
              <a:t>text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3132000" y="1998720"/>
            <a:ext cx="2880000" cy="4506840"/>
            <a:chOff x="3132000" y="1998720"/>
            <a:chExt cx="2880000" cy="4506840"/>
          </a:xfrm>
        </p:grpSpPr>
        <p:sp>
          <p:nvSpPr>
            <p:cNvPr id="189" name=""/>
            <p:cNvSpPr/>
            <p:nvPr/>
          </p:nvSpPr>
          <p:spPr>
            <a:xfrm>
              <a:off x="3335400" y="1998720"/>
              <a:ext cx="2471760" cy="3949560"/>
            </a:xfrm>
            <a:custGeom>
              <a:avLst/>
              <a:gdLst>
                <a:gd name="textAreaLeft" fmla="*/ 120600 w 2471760"/>
                <a:gd name="textAreaRight" fmla="*/ 2351160 w 2471760"/>
                <a:gd name="textAreaTop" fmla="*/ 120600 h 3949560"/>
                <a:gd name="textAreaBottom" fmla="*/ 3828960 h 3949560"/>
              </a:gdLst>
              <a:ahLst/>
              <a:rect l="textAreaLeft" t="textAreaTop" r="textAreaRight" b="textAreaBottom"/>
              <a:pathLst>
                <a:path w="21600" h="34512">
                  <a:moveTo>
                    <a:pt x="3600" y="0"/>
                  </a:moveTo>
                  <a:arcTo wR="3600" hR="3600" stAng="16200000" swAng="-5400000"/>
                  <a:lnTo>
                    <a:pt x="0" y="30912"/>
                  </a:lnTo>
                  <a:arcTo wR="3600" hR="3600" stAng="10800000" swAng="-5400000"/>
                  <a:lnTo>
                    <a:pt x="18000" y="345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174675"/>
                </a:gs>
                <a:gs pos="50000">
                  <a:srgbClr val="3399ff"/>
                </a:gs>
                <a:gs pos="100000">
                  <a:srgbClr val="174675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01" name="" descr=""/>
            <p:cNvPicPr/>
            <p:nvPr/>
          </p:nvPicPr>
          <p:blipFill>
            <a:blip r:embed="rId1"/>
            <a:stretch/>
          </p:blipFill>
          <p:spPr>
            <a:xfrm>
              <a:off x="3132000" y="6237360"/>
              <a:ext cx="2880000" cy="268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442200" y="6237360"/>
            <a:ext cx="2450880" cy="2682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249120" y="6237360"/>
            <a:ext cx="2451240" cy="26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굴림"/>
              </a:rPr>
              <a:t>Chart Docum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835280" y="1125360"/>
          <a:ext cx="643572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125360"/>
                    <a:ext cx="643572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굴림"/>
              </a:rPr>
              <a:t>Chart Docum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547640" y="1197000"/>
          <a:ext cx="6689880" cy="506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197000"/>
                    <a:ext cx="6689880" cy="50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06:20:29Z</dcterms:created>
  <dc:creator>keke</dc:creator>
  <dc:description/>
  <dc:language>en-US</dc:language>
  <cp:lastModifiedBy>sqx</cp:lastModifiedBy>
  <dcterms:modified xsi:type="dcterms:W3CDTF">2011-04-26T09:40:10Z</dcterms:modified>
  <cp:revision>3</cp:revision>
  <dc:subject/>
  <dc:title>站长站素材 SC.chinaz.COM</dc:title>
</cp:coreProperties>
</file>