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612-C68C-431E-8130-5E17ED9B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C8C-8FE5-4CCF-B71F-7BF0A895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116-AB8F-4892-90B1-4102980C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3B9-F9F5-4C90-9322-4B846E41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885B-FCC3-4AF4-B005-DBABA388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9BF9-F508-4391-87AC-A2D4B070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1B02-2BA9-4710-91A7-3F257EB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5AB0-C484-46C3-ADB4-1B82DE4A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87D-57CA-44C6-B9FB-0B535FB4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66A4-3DF0-4D64-B5F8-273EEC9A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8BDF-E3D0-4255-8563-87990CCB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38B-D567-4523-A157-B373EB2C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7A5-CCE3-4199-8828-DD84A7F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F2B9-65BE-456A-9068-4B102CF2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5230-FD50-4C9F-A938-34A1AE4C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6B46-4D21-4689-9FD3-53E7043F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DDC6-B950-4ECA-A46D-83F36C3C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E73-0352-4FA2-AD2B-CBDDF8DD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B85-93B7-40E1-8CB9-F9FA2BE9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E99-5924-4276-BDEA-F886E80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D29-4A9B-485D-8F85-8C8CE6B8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68B-7B49-41EA-B107-5019876B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C2C-6591-4724-A218-7484EB47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BBB-4008-469F-8315-32155D4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3FFA-FFBF-4171-99E1-38EE7386023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E238-9DAE-41A5-9711-80D4D6FA40E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00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cc"/>
              </a:solidFill>
              <a:latin typeface="Times New Roman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cc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cc"/>
              </a:solidFill>
              <a:latin typeface="Times New Roman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cc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cc"/>
              </a:solidFill>
              <a:latin typeface="Times New Roman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cc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5:25Z</dcterms:created>
  <dc:creator>cupfu</dc:creator>
  <dc:description/>
  <dc:language>en-US</dc:language>
  <cp:lastModifiedBy>cupfu</cp:lastModifiedBy>
  <dcterms:modified xsi:type="dcterms:W3CDTF">2003-01-10T05:25:3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