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03EA-F4DD-42D8-A195-98DF72DB95F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4FB0-D255-487F-9DC1-9FA7904792FD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9BFE-61B0-401B-B737-FC6D5570CD6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025B-E906-4828-A7AC-F0E285FF9C16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1C8E-4483-4B57-B614-2C7DCDC25FD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3370-573B-402A-BCD6-4A70C045FB9B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16FB-55A3-475A-B0D5-DAD76E1C7B0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6A94-3A1A-479F-8434-2764077661E3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3C23-D8A4-41CD-8A63-ED96D2823BC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4A14-E39B-4980-9859-FC1434C70E13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7AAC-B29F-4BE3-B982-EB6B6D29247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69A8-5F83-421E-B999-3BB4F4CFEE5F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2E3B-B4A9-4E22-8CE0-DD3CC79154E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4BE9-3E9D-4D52-8B32-2D5BB869D57E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6A4A-F367-4FA2-AACC-34066475688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12E8-E982-404E-9325-989C49139553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4CD9-C6C6-4863-8AC0-B0BF964EE04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0357-065F-45B5-AD95-15E08BECACC4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DC60-7006-4D90-8416-924F8E255A1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4286-35ED-474F-8DD4-649B41BDA102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2AEC-5EF4-4C84-995C-AC58D73BC2C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4925-9B0F-4120-8745-905B814977AD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291A-76E1-4383-A6D7-4AD536AD678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673-8F3F-485A-9FFE-B341FA20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556-9587-4F9C-9E87-08B73063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38F-17ED-470A-9874-348AA1EE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007-703B-49FA-8D0A-B87BC2B6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EF1B-A10D-4AA3-86D4-68AA489E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6112-180B-48C4-8D13-39F3C9CD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8BB8-A01B-4C21-8192-1485B762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8D75-39DA-4C88-B4DD-428EE0A4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94F8-2F32-4D27-9FC4-7135B38E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FF58-A70B-4F8D-AD93-B8A494EB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9FD6-651A-49CB-92EC-23C4A0D7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5C94-BD60-4C86-9D55-C4FF287C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8B01-704B-4E1C-9979-5EB1B40E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A753-FD33-4FA8-89F4-9FBF7AF2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2A01-6ECC-4843-92D2-5018D3FA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FCB2-4414-4023-8C87-783C2772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FA26-D016-45DF-97D2-5B05F992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E99F0-608C-4180-8C3B-B349739A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BE4EE-E57B-4222-A6F8-AA2AF304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B4393-005B-419B-AD44-A3731E5C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7E31F-6344-45DD-A774-BBA83A08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A1916-860C-4B81-9096-828B9586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37B-46B8-4208-B12B-F49CF3AC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D3E14-2FD9-4586-AA03-829F2DAF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7D284-3F44-425A-A4A9-DF9AB656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9B7A4-8C84-4D0A-8BC6-8360FC6E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A5C5D-1E05-464F-ACA6-51A96DF4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95907-41BA-4AAF-9419-CCA04983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A3E14-0FB4-4CE3-9ED9-10136A78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DBC90-B713-46CF-8E85-87A637B7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7CBCD-1315-443E-9EA7-A0F2BC4D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06F05-3AD1-49F9-AEA6-06C4E382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737A8-748E-4D2A-AB10-DF3D8578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7A4B-EB86-4862-A2E5-64CD72F5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9FBA3-ADC9-4293-AF01-651BEC77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5DC34-29D8-4D77-99E2-079F41C0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59130-421C-4F29-882B-5E19AA82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0DED6-12B4-48BF-A73E-249B88C9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1316D-A736-4B0C-B821-7291BA81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68614-E698-4EE2-A805-D005F3E4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E3F0C-E333-4F9B-AF46-959A96D2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68262-7290-4B2A-A4CE-987758C7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0DAA8-BFEF-46FE-873B-D928F090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2FE68-55EB-4600-B1D5-22A84406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741-4252-40F7-982C-EF500780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A2071-981E-4964-9AC5-57ADE5BE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CF924-85EE-4E69-ADAE-1FCEC2A9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A2767-B80F-4B98-8888-9DBCF104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98E3A-6345-4EED-B97F-442A8132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31C51-06FF-4BC9-BB7D-453E803B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8D2EF-48E2-4A87-8D27-5D2C8D1D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337FE-7BC5-4313-ACD8-C56A6C9F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02E6C-7C2F-4438-ADF4-8E946CFD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A92A8-E898-4FD0-A1EE-F6B66CD4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8C453-D172-4499-BE4C-268D6B26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F541-90F0-4F79-BD1C-882550EC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77445-ABD2-41FC-8A1E-097AD210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FFAB2-D794-467D-BB11-F2BA938D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83412-C715-4735-9B3A-F0C4450E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2093B-4AFE-4431-A508-B8DCC208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BB7D4-B486-44AE-82EF-535F897A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0F29F-80EC-40E9-9B86-FDB3EED3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F519B-B784-437A-B6CC-8DDEF81B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27E55-7A95-454F-AE58-468E274A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5CF8A-DCE7-4953-8393-6CBB8035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E64A3-0AC6-4866-A2AC-8FF30CE8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20ED-E95C-41CC-88AB-91996AF1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62943-6530-42B3-987E-56B2BEB2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8487F-60DD-4520-9F16-544C9235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05E7B-A8AF-4857-AC5D-53B6F837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C6565-AAC5-4618-8B42-0FFEFF63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548C5-6BF6-4729-B86D-BE95E6F0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CC3F1-B9E5-4DAC-9242-F6593C4B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58FFA-A11B-4A8C-AB07-D37A4D5A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95AFB-2B7A-4A2D-B87D-FA1DDE18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E1EBB-9350-4B1F-BDB4-C67E3995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40AB2-762D-46CA-AF6A-46AA1630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BA0-5609-4348-A028-0295DDBA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6E977-C412-470F-9B6F-AA4FE6B7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9A74F-6EEA-49AC-93E2-AFBC1ED0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02048-514E-4E78-911B-673C6A78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8E872-2A79-46D2-8349-0F4BC340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146A1-EFE6-42E4-8413-46E75F52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2F1EA-7756-47B2-A746-FFF1D219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3F42B-A795-418F-AE6E-335BC6EA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F76FA-7510-4E2B-A3B4-6395C4C9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03987-28D7-4301-BA12-F5294D34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71081-F986-4329-B61F-8CD42988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079A-BA05-4EF4-A60B-7A7201C5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B509D-7552-4551-AFA9-F6435A45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29C7D-9375-4A2F-82D7-00B2B401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1CB6D-0C0F-4C5E-BD24-91BC7EE5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9CD73-3DB2-4966-8FF9-09B0007D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DAF9E-9ADA-4369-8531-2323022C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9120E-EB04-4D91-8D27-5EC9FE61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CBB94-6806-415B-9B48-3011CB83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493560" y="1023840"/>
            <a:ext cx="8669520" cy="55800"/>
            <a:chOff x="493560" y="1023840"/>
            <a:chExt cx="8669520" cy="5580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493560" y="1023840"/>
              <a:ext cx="8669520" cy="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5EA8-18C0-4C41-A6DF-182B5E48583B}" type="datetime2">
              <a: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rPr>
              <a:t>2026年7月31日 星期五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  <a:ea typeface="华文楷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5A94-F6D1-437F-AA16-876F93A3A84C}" type="slidenum">
              <a:rPr b="0" lang="en-US" sz="1200" spc="-1" strike="noStrike">
                <a:solidFill>
                  <a:srgbClr val="6fb833"/>
                </a:solidFill>
                <a:latin typeface="Times New Roman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493560" y="1023840"/>
            <a:ext cx="8669520" cy="55800"/>
            <a:chOff x="493560" y="1023840"/>
            <a:chExt cx="8669520" cy="5580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493560" y="1023840"/>
              <a:ext cx="8669520" cy="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0040" y="1036800"/>
            <a:ext cx="8656560" cy="48960"/>
            <a:chOff x="500040" y="1036800"/>
            <a:chExt cx="8656560" cy="489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0040" y="1036800"/>
              <a:ext cx="8656560" cy="4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52" name="Straight Connector 6"/>
          <p:cNvGrpSpPr/>
          <p:nvPr/>
        </p:nvGrpSpPr>
        <p:grpSpPr>
          <a:xfrm>
            <a:off x="500040" y="5327640"/>
            <a:ext cx="8656560" cy="49320"/>
            <a:chOff x="500040" y="5327640"/>
            <a:chExt cx="8656560" cy="49320"/>
          </a:xfrm>
        </p:grpSpPr>
        <p:pic>
          <p:nvPicPr>
            <p:cNvPr id="53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0040" y="5327640"/>
              <a:ext cx="8656560" cy="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160C-A541-41A3-B212-DE7F143DF414}" type="datetime2">
              <a: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rPr>
              <a:t>2026年7月31日 星期五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10CD-C332-42D3-B32D-39CCBD720B2D}" type="slidenum">
              <a: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493560" y="1023840"/>
            <a:ext cx="8669520" cy="55800"/>
            <a:chOff x="493560" y="1023840"/>
            <a:chExt cx="8669520" cy="5580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493560" y="1023840"/>
              <a:ext cx="8669520" cy="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99" name="Straight Connector 8"/>
          <p:cNvGrpSpPr/>
          <p:nvPr/>
        </p:nvGrpSpPr>
        <p:grpSpPr>
          <a:xfrm>
            <a:off x="493560" y="1023840"/>
            <a:ext cx="8669520" cy="55800"/>
            <a:chOff x="493560" y="1023840"/>
            <a:chExt cx="8669520" cy="55800"/>
          </a:xfrm>
        </p:grpSpPr>
        <p:pic>
          <p:nvPicPr>
            <p:cNvPr id="10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493560" y="1023840"/>
              <a:ext cx="8669520" cy="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2" name="Straight Connector 11"/>
          <p:cNvGrpSpPr/>
          <p:nvPr/>
        </p:nvGrpSpPr>
        <p:grpSpPr>
          <a:xfrm>
            <a:off x="500040" y="1036800"/>
            <a:ext cx="8656560" cy="48960"/>
            <a:chOff x="500040" y="1036800"/>
            <a:chExt cx="8656560" cy="48960"/>
          </a:xfrm>
        </p:grpSpPr>
        <p:pic>
          <p:nvPicPr>
            <p:cNvPr id="10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0040" y="1036800"/>
              <a:ext cx="8656560" cy="4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D2A1-CAB9-4B08-9C58-8464FADB8E18}" type="datetime2">
              <a: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rPr>
              <a:t>2026年7月31日 星期五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C53B-8E71-4D47-8C90-AF3C3604DB07}" type="slidenum">
              <a: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6"/>
          <p:cNvGrpSpPr/>
          <p:nvPr/>
        </p:nvGrpSpPr>
        <p:grpSpPr>
          <a:xfrm>
            <a:off x="493560" y="1023840"/>
            <a:ext cx="8669520" cy="55800"/>
            <a:chOff x="493560" y="1023840"/>
            <a:chExt cx="8669520" cy="55800"/>
          </a:xfrm>
        </p:grpSpPr>
        <p:pic>
          <p:nvPicPr>
            <p:cNvPr id="14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493560" y="1023840"/>
              <a:ext cx="8669520" cy="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149" name="Straight Connector 8"/>
          <p:cNvGrpSpPr/>
          <p:nvPr/>
        </p:nvGrpSpPr>
        <p:grpSpPr>
          <a:xfrm>
            <a:off x="493560" y="1023840"/>
            <a:ext cx="8669520" cy="55800"/>
            <a:chOff x="493560" y="1023840"/>
            <a:chExt cx="8669520" cy="55800"/>
          </a:xfrm>
        </p:grpSpPr>
        <p:pic>
          <p:nvPicPr>
            <p:cNvPr id="15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493560" y="1023840"/>
              <a:ext cx="8669520" cy="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52" name="Straight Connector 11"/>
          <p:cNvGrpSpPr/>
          <p:nvPr/>
        </p:nvGrpSpPr>
        <p:grpSpPr>
          <a:xfrm>
            <a:off x="500040" y="1036800"/>
            <a:ext cx="8656560" cy="48960"/>
            <a:chOff x="500040" y="1036800"/>
            <a:chExt cx="8656560" cy="48960"/>
          </a:xfrm>
        </p:grpSpPr>
        <p:pic>
          <p:nvPicPr>
            <p:cNvPr id="15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0040" y="1036800"/>
              <a:ext cx="8656560" cy="4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3089-1153-45C3-A85E-55DEF94FD531}" type="datetime2">
              <a: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rPr>
              <a:t>2026年7月31日 星期五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BAA6-53E9-4EDC-9DFC-2020988AE3C5}" type="slidenum">
              <a: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B48A-0CA1-48E7-AFA4-621B36853097}" type="datetime2">
              <a: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rPr>
              <a:t>2026年7月31日 星期五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1E73-BB0B-402B-9B14-D2E222FB7C37}" type="slidenum">
              <a: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Straight Connector 6"/>
          <p:cNvGrpSpPr/>
          <p:nvPr/>
        </p:nvGrpSpPr>
        <p:grpSpPr>
          <a:xfrm>
            <a:off x="493560" y="1023840"/>
            <a:ext cx="8669520" cy="55800"/>
            <a:chOff x="493560" y="1023840"/>
            <a:chExt cx="8669520" cy="55800"/>
          </a:xfrm>
        </p:grpSpPr>
        <p:pic>
          <p:nvPicPr>
            <p:cNvPr id="23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493560" y="1023840"/>
              <a:ext cx="8669520" cy="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240" name="Straight Connector 8"/>
          <p:cNvGrpSpPr/>
          <p:nvPr/>
        </p:nvGrpSpPr>
        <p:grpSpPr>
          <a:xfrm>
            <a:off x="493560" y="1023840"/>
            <a:ext cx="8669520" cy="55800"/>
            <a:chOff x="493560" y="1023840"/>
            <a:chExt cx="8669520" cy="55800"/>
          </a:xfrm>
        </p:grpSpPr>
        <p:pic>
          <p:nvPicPr>
            <p:cNvPr id="241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493560" y="1023840"/>
              <a:ext cx="8669520" cy="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43" name="Straight Connector 11"/>
          <p:cNvGrpSpPr/>
          <p:nvPr/>
        </p:nvGrpSpPr>
        <p:grpSpPr>
          <a:xfrm>
            <a:off x="500040" y="1036800"/>
            <a:ext cx="8656560" cy="48960"/>
            <a:chOff x="500040" y="1036800"/>
            <a:chExt cx="8656560" cy="48960"/>
          </a:xfrm>
        </p:grpSpPr>
        <p:pic>
          <p:nvPicPr>
            <p:cNvPr id="244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0040" y="1036800"/>
              <a:ext cx="8656560" cy="4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0D9A-3FC5-4685-BAF4-A83931DC14FB}" type="datetime">
              <a: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1EE8-23D1-4876-A726-2B237DC73AF9}" type="slidenum">
              <a: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Straight Connector 6"/>
          <p:cNvGrpSpPr/>
          <p:nvPr/>
        </p:nvGrpSpPr>
        <p:grpSpPr>
          <a:xfrm>
            <a:off x="493560" y="1023840"/>
            <a:ext cx="8669520" cy="55800"/>
            <a:chOff x="493560" y="1023840"/>
            <a:chExt cx="8669520" cy="55800"/>
          </a:xfrm>
        </p:grpSpPr>
        <p:pic>
          <p:nvPicPr>
            <p:cNvPr id="28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493560" y="1023840"/>
              <a:ext cx="8669520" cy="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290" name="Straight Connector 8"/>
          <p:cNvGrpSpPr/>
          <p:nvPr/>
        </p:nvGrpSpPr>
        <p:grpSpPr>
          <a:xfrm>
            <a:off x="493560" y="1023840"/>
            <a:ext cx="8669520" cy="55800"/>
            <a:chOff x="493560" y="1023840"/>
            <a:chExt cx="8669520" cy="55800"/>
          </a:xfrm>
        </p:grpSpPr>
        <p:pic>
          <p:nvPicPr>
            <p:cNvPr id="291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493560" y="1023840"/>
              <a:ext cx="8669520" cy="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93" name="Straight Connector 11"/>
          <p:cNvGrpSpPr/>
          <p:nvPr/>
        </p:nvGrpSpPr>
        <p:grpSpPr>
          <a:xfrm>
            <a:off x="500040" y="1036800"/>
            <a:ext cx="8656560" cy="48960"/>
            <a:chOff x="500040" y="1036800"/>
            <a:chExt cx="8656560" cy="48960"/>
          </a:xfrm>
        </p:grpSpPr>
        <p:pic>
          <p:nvPicPr>
            <p:cNvPr id="294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0040" y="1036800"/>
              <a:ext cx="8656560" cy="4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C739-BEA5-4583-9881-D62D890CE6D7}" type="datetime">
              <a: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20F3-DB38-4E07-A836-E458CB1F673B}" type="slidenum">
              <a: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Straight Connector 6"/>
          <p:cNvGrpSpPr/>
          <p:nvPr/>
        </p:nvGrpSpPr>
        <p:grpSpPr>
          <a:xfrm>
            <a:off x="493560" y="1023840"/>
            <a:ext cx="8669520" cy="55800"/>
            <a:chOff x="493560" y="1023840"/>
            <a:chExt cx="8669520" cy="55800"/>
          </a:xfrm>
        </p:grpSpPr>
        <p:pic>
          <p:nvPicPr>
            <p:cNvPr id="33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493560" y="1023840"/>
              <a:ext cx="8669520" cy="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340" name="Straight Connector 8"/>
          <p:cNvGrpSpPr/>
          <p:nvPr/>
        </p:nvGrpSpPr>
        <p:grpSpPr>
          <a:xfrm>
            <a:off x="493560" y="1023840"/>
            <a:ext cx="8669520" cy="55800"/>
            <a:chOff x="493560" y="1023840"/>
            <a:chExt cx="8669520" cy="55800"/>
          </a:xfrm>
        </p:grpSpPr>
        <p:pic>
          <p:nvPicPr>
            <p:cNvPr id="341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493560" y="1023840"/>
              <a:ext cx="8669520" cy="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343" name="Straight Connector 11"/>
          <p:cNvGrpSpPr/>
          <p:nvPr/>
        </p:nvGrpSpPr>
        <p:grpSpPr>
          <a:xfrm>
            <a:off x="500040" y="1036800"/>
            <a:ext cx="8656560" cy="48960"/>
            <a:chOff x="500040" y="1036800"/>
            <a:chExt cx="8656560" cy="48960"/>
          </a:xfrm>
        </p:grpSpPr>
        <p:pic>
          <p:nvPicPr>
            <p:cNvPr id="344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0040" y="1036800"/>
              <a:ext cx="8656560" cy="4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4325-F316-4138-B4A5-93461E27EF42}" type="datetime">
              <a: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D641-CAAE-4260-BEBB-5451A342BD7C}" type="slidenum">
              <a:rPr b="0" lang="zh-CN" sz="1200" spc="-1" strike="noStrike">
                <a:solidFill>
                  <a:srgbClr val="6fb833"/>
                </a:solidFill>
                <a:latin typeface="Times New Roman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231840" y="4784760"/>
            <a:ext cx="8607240" cy="129204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444f61"/>
                </a:solidFill>
                <a:latin typeface="Franklin Gothic Book"/>
                <a:ea typeface="华文楷体"/>
              </a:rPr>
              <a:t>项目名称</a:t>
            </a:r>
            <a:endParaRPr b="0" lang="en-US" sz="19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444f61"/>
                </a:solidFill>
                <a:latin typeface="Franklin Gothic Book"/>
                <a:ea typeface="华文楷体"/>
              </a:rPr>
              <a:t>公司名称</a:t>
            </a:r>
            <a:endParaRPr b="0" lang="en-US" sz="19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444f61"/>
                </a:solidFill>
                <a:latin typeface="Franklin Gothic Book"/>
                <a:ea typeface="华文楷体"/>
              </a:rPr>
              <a:t>演示者姓名</a:t>
            </a:r>
            <a:endParaRPr b="0" lang="en-US" sz="19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158760" y="457200"/>
            <a:ext cx="8832960" cy="1054080"/>
          </a:xfrm>
          <a:prstGeom prst="rect">
            <a:avLst/>
          </a:prstGeom>
          <a:ln w="0">
            <a:noFill/>
          </a:ln>
        </p:spPr>
      </p:pic>
      <p:pic>
        <p:nvPicPr>
          <p:cNvPr id="415" name="Diagram 4" descr=""/>
          <p:cNvPicPr/>
          <p:nvPr/>
        </p:nvPicPr>
        <p:blipFill>
          <a:blip r:embed="rId2"/>
          <a:stretch/>
        </p:blipFill>
        <p:spPr>
          <a:xfrm>
            <a:off x="133200" y="1420920"/>
            <a:ext cx="88585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58760" y="457200"/>
            <a:ext cx="8832960" cy="1054080"/>
          </a:xfrm>
          <a:prstGeom prst="rect">
            <a:avLst/>
          </a:prstGeom>
          <a:ln w="0">
            <a:noFill/>
          </a:ln>
        </p:spPr>
      </p:pic>
      <p:pic>
        <p:nvPicPr>
          <p:cNvPr id="417" name="Diagram 4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158760" y="457200"/>
            <a:ext cx="8832960" cy="1054080"/>
          </a:xfrm>
          <a:prstGeom prst="rect">
            <a:avLst/>
          </a:prstGeom>
          <a:ln w="0">
            <a:noFill/>
          </a:ln>
        </p:spPr>
      </p:pic>
      <p:pic>
        <p:nvPicPr>
          <p:cNvPr id="395" name="Diagram 4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158760" y="457200"/>
            <a:ext cx="8832960" cy="10540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5b6f"/>
                </a:solidFill>
                <a:latin typeface="Franklin Gothic Book"/>
                <a:ea typeface="华文楷体"/>
              </a:rPr>
              <a:t>以非技术性的术语介绍项目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5b6f"/>
                </a:solidFill>
                <a:latin typeface="Franklin Gothic Book"/>
                <a:ea typeface="华文楷体"/>
              </a:rPr>
              <a:t>使用以下幻灯片探讨状态、日程、预算等。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457200" y="612468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有关更多信息</a:t>
            </a:r>
            <a:r>
              <a:rPr b="1" lang="zh-CN" sz="1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针对规格列出位置或联系人（或其他相关文档）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158760" y="457200"/>
            <a:ext cx="8832960" cy="1054080"/>
          </a:xfrm>
          <a:prstGeom prst="rect">
            <a:avLst/>
          </a:prstGeom>
          <a:ln w="0">
            <a:noFill/>
          </a:ln>
        </p:spPr>
      </p:pic>
      <p:pic>
        <p:nvPicPr>
          <p:cNvPr id="400" name="Diagram 4" descr=""/>
          <p:cNvPicPr/>
          <p:nvPr/>
        </p:nvPicPr>
        <p:blipFill>
          <a:blip r:embed="rId2"/>
          <a:stretch/>
        </p:blipFill>
        <p:spPr>
          <a:xfrm>
            <a:off x="165240" y="1554120"/>
            <a:ext cx="89661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158760" y="457200"/>
            <a:ext cx="8832960" cy="1054080"/>
          </a:xfrm>
          <a:prstGeom prst="rect">
            <a:avLst/>
          </a:prstGeom>
          <a:ln w="0">
            <a:noFill/>
          </a:ln>
        </p:spPr>
      </p:pic>
      <p:pic>
        <p:nvPicPr>
          <p:cNvPr id="402" name="Diagram 4" descr=""/>
          <p:cNvPicPr/>
          <p:nvPr/>
        </p:nvPicPr>
        <p:blipFill>
          <a:blip r:embed="rId2"/>
          <a:stretch/>
        </p:blipFill>
        <p:spPr>
          <a:xfrm>
            <a:off x="304920" y="1468440"/>
            <a:ext cx="868680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158760" y="457200"/>
            <a:ext cx="8832960" cy="105408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5b6f"/>
                </a:solidFill>
                <a:latin typeface="Franklin Gothic Book"/>
                <a:ea typeface="华文楷体"/>
              </a:rPr>
              <a:t>正在使用的新技术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5b6f"/>
                </a:solidFill>
                <a:latin typeface="Franklin Gothic Book"/>
                <a:ea typeface="华文楷体"/>
              </a:rPr>
              <a:t>优点</a:t>
            </a: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5b6f"/>
                </a:solidFill>
                <a:latin typeface="Franklin Gothic Book"/>
                <a:ea typeface="华文楷体"/>
              </a:rPr>
              <a:t>正在采用的标准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5b6f"/>
                </a:solidFill>
                <a:latin typeface="Franklin Gothic Book"/>
                <a:ea typeface="华文楷体"/>
              </a:rPr>
              <a:t>优点</a:t>
            </a: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5b6f"/>
                </a:solidFill>
                <a:latin typeface="Franklin Gothic Book"/>
                <a:ea typeface="华文楷体"/>
              </a:rPr>
              <a:t>专门被忽略的标准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5b6f"/>
                </a:solidFill>
                <a:latin typeface="Franklin Gothic Book"/>
                <a:ea typeface="华文楷体"/>
              </a:rPr>
              <a:t>退税和补贴</a:t>
            </a: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457200" y="612468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DYA</a:t>
            </a:r>
            <a:r>
              <a:rPr b="1" lang="zh-CN" sz="1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：定义您的缩写词！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58760" y="457200"/>
            <a:ext cx="8832960" cy="1054080"/>
          </a:xfrm>
          <a:prstGeom prst="rect">
            <a:avLst/>
          </a:prstGeom>
          <a:ln w="0">
            <a:noFill/>
          </a:ln>
        </p:spPr>
      </p:pic>
      <p:pic>
        <p:nvPicPr>
          <p:cNvPr id="407" name="Diagram 4" descr=""/>
          <p:cNvPicPr/>
          <p:nvPr/>
        </p:nvPicPr>
        <p:blipFill>
          <a:blip r:embed="rId2"/>
          <a:stretch/>
        </p:blipFill>
        <p:spPr>
          <a:xfrm>
            <a:off x="304920" y="1474920"/>
            <a:ext cx="8686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158760" y="457200"/>
            <a:ext cx="8832960" cy="1054080"/>
          </a:xfrm>
          <a:prstGeom prst="rect">
            <a:avLst/>
          </a:prstGeom>
          <a:ln w="0">
            <a:noFill/>
          </a:ln>
        </p:spPr>
      </p:pic>
      <p:pic>
        <p:nvPicPr>
          <p:cNvPr id="409" name="Diagram 4" descr=""/>
          <p:cNvPicPr/>
          <p:nvPr/>
        </p:nvPicPr>
        <p:blipFill>
          <a:blip r:embed="rId2"/>
          <a:stretch/>
        </p:blipFill>
        <p:spPr>
          <a:xfrm>
            <a:off x="165240" y="1554120"/>
            <a:ext cx="8966160" cy="45226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457200" y="612468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有关更多信息</a:t>
            </a:r>
            <a:r>
              <a:rPr b="1" lang="zh-CN" sz="1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针对规格列出位置或联系人（或其他相关文档）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158760" y="457200"/>
            <a:ext cx="8832960" cy="10540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5b6f"/>
                </a:solidFill>
                <a:latin typeface="Franklin Gothic Book"/>
                <a:ea typeface="华文楷体"/>
              </a:rPr>
              <a:t>审查大致日程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457200" y="612468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有关更多信息</a:t>
            </a:r>
            <a:r>
              <a:rPr b="1" lang="zh-CN" sz="1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针对规格列出位置或联系人（或其他相关文档）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3:10:16Z</dcterms:created>
  <dc:creator/>
  <dc:description/>
  <dc:language>en-US</dc:language>
  <cp:lastModifiedBy/>
  <dcterms:modified xsi:type="dcterms:W3CDTF">2006-09-06T17:17:2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851992052</vt:lpwstr>
  </property>
</Properties>
</file>